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5627-2418-48BD-9C03-617FAB2C84A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9270-2093-48CF-839C-12E24460EEC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11FCC-84D7-4D0E-9FE7-8DEF1587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DFEBF-EE31-41CC-BDD8-CBFD947B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12A3F-D1DF-45C4-8A6F-C9A258E3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AAC45-F9E2-4033-BBA8-EBE31F79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22E5-C505-4A59-BAE6-BBDC20A5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C9C3-7A4E-4551-B40D-B871D61B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0E5E-E238-4372-B1FB-D48E2FD6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EA9C-D79F-4B98-90C0-06FF3AAC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CBE6-4756-4C17-A055-03C372D8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4499-435D-43A9-811A-709325EE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BD68-8D4D-4C25-B6FD-B16AA60E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37264-7CDA-46E9-AD8E-16FEF5F6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6994-DFDF-40C1-A6AF-08DB3F29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772C-41D6-4C49-8C9D-4FE3BB28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873B-E6E4-4033-A598-2A05ABEE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2793-F65B-4BF3-A42E-A5AC0143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F68A-5210-4DC9-AA90-E9F0AA08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9FE40-3855-4261-A3DD-3EDA611C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C306A-F9DA-41CB-B0D5-17B22C79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DA2CD-051B-43AD-A166-1815901E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31F7D-72A5-4EB2-AF70-9585AD2E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39E55-CB82-4A69-ADCC-F2634190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94973-F475-4DAF-BD95-3FDB7B5A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4E1A-F0EC-4292-B4E1-C84F7C52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8CF6-6406-4217-AD53-EE15B7D6B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19FA-AD3A-490F-B0BA-A48243EF47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08" name="Picture 2" descr="4.jpg"/>
          <p:cNvPicPr/>
          <p:nvPr/>
        </p:nvPicPr>
        <p:blipFill>
          <a:blip r:embed="rId1"/>
          <a:stretch/>
        </p:blipFill>
        <p:spPr>
          <a:xfrm>
            <a:off x="452520" y="685800"/>
            <a:ext cx="8353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e6e3aa"/>
                </a:solidFill>
                <a:latin typeface="Garamond"/>
              </a:rPr>
              <a:t>Homework:</a:t>
            </a:r>
            <a:br>
              <a:rPr sz="7500"/>
            </a:br>
            <a:r>
              <a:rPr b="1" lang="en-US" sz="7500" spc="-1" strike="noStrike">
                <a:solidFill>
                  <a:srgbClr val="e6e3aa"/>
                </a:solidFill>
                <a:latin typeface="Garamond"/>
              </a:rPr>
              <a:t>Page 434</a:t>
            </a:r>
            <a:br>
              <a:rPr sz="7500"/>
            </a:br>
            <a:r>
              <a:rPr b="1" lang="en-US" sz="7500" spc="-1" strike="noStrike">
                <a:solidFill>
                  <a:srgbClr val="e6e3aa"/>
                </a:solidFill>
                <a:latin typeface="Garamond"/>
              </a:rPr>
              <a:t>#1-7</a:t>
            </a:r>
            <a:endParaRPr b="1" lang="en-US" sz="75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68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68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4" name="Ink 2"/>
          <p:cNvSpPr/>
          <p:nvPr/>
        </p:nvSpPr>
        <p:spPr>
          <a:xfrm>
            <a:off x="1027080" y="98280"/>
            <a:ext cx="2795760" cy="777960"/>
          </a:xfrm>
          <a:custGeom>
            <a:avLst/>
            <a:gdLst/>
            <a:ahLst/>
            <a:rect l="l" t="t" r="r" b="b"/>
            <a:pathLst>
              <a:path w="7764" h="2159">
                <a:moveTo>
                  <a:pt x="3200" y="1191"/>
                </a:moveTo>
                <a:cubicBezTo>
                  <a:pt x="3200" y="1304"/>
                  <a:pt x="3185" y="1402"/>
                  <a:pt x="3175" y="1513"/>
                </a:cubicBezTo>
                <a:cubicBezTo>
                  <a:pt x="3152" y="1769"/>
                  <a:pt x="3183" y="2029"/>
                  <a:pt x="3150" y="2282"/>
                </a:cubicBezTo>
                <a:cubicBezTo>
                  <a:pt x="3141" y="2350"/>
                  <a:pt x="3184" y="2426"/>
                  <a:pt x="3125" y="2406"/>
                </a:cubicBezTo>
              </a:path>
              <a:path w="7764" h="2159">
                <a:moveTo>
                  <a:pt x="2853" y="1240"/>
                </a:moveTo>
                <a:cubicBezTo>
                  <a:pt x="2897" y="1150"/>
                  <a:pt x="2942" y="1026"/>
                  <a:pt x="3051" y="992"/>
                </a:cubicBezTo>
                <a:cubicBezTo>
                  <a:pt x="3140" y="964"/>
                  <a:pt x="3255" y="967"/>
                  <a:pt x="3349" y="967"/>
                </a:cubicBezTo>
                <a:cubicBezTo>
                  <a:pt x="3512" y="967"/>
                  <a:pt x="3566" y="1020"/>
                  <a:pt x="3671" y="1141"/>
                </a:cubicBezTo>
                <a:cubicBezTo>
                  <a:pt x="3712" y="1188"/>
                  <a:pt x="3695" y="1284"/>
                  <a:pt x="3671" y="1339"/>
                </a:cubicBezTo>
                <a:cubicBezTo>
                  <a:pt x="3648" y="1392"/>
                  <a:pt x="3537" y="1481"/>
                  <a:pt x="3497" y="1513"/>
                </a:cubicBezTo>
                <a:cubicBezTo>
                  <a:pt x="3439" y="1560"/>
                  <a:pt x="3265" y="1678"/>
                  <a:pt x="3299" y="1612"/>
                </a:cubicBezTo>
                <a:cubicBezTo>
                  <a:pt x="3316" y="1596"/>
                  <a:pt x="3332" y="1579"/>
                  <a:pt x="3349" y="1563"/>
                </a:cubicBezTo>
              </a:path>
              <a:path w="7764" h="2159">
                <a:moveTo>
                  <a:pt x="3894" y="1538"/>
                </a:moveTo>
                <a:cubicBezTo>
                  <a:pt x="3853" y="1538"/>
                  <a:pt x="3837" y="1546"/>
                  <a:pt x="3845" y="1513"/>
                </a:cubicBezTo>
              </a:path>
              <a:path w="7764" h="2159">
                <a:moveTo>
                  <a:pt x="4291" y="719"/>
                </a:moveTo>
                <a:cubicBezTo>
                  <a:pt x="4291" y="803"/>
                  <a:pt x="4268" y="926"/>
                  <a:pt x="4316" y="992"/>
                </a:cubicBezTo>
                <a:cubicBezTo>
                  <a:pt x="4369" y="1065"/>
                  <a:pt x="4515" y="989"/>
                  <a:pt x="4564" y="943"/>
                </a:cubicBezTo>
                <a:cubicBezTo>
                  <a:pt x="4572" y="926"/>
                  <a:pt x="4581" y="910"/>
                  <a:pt x="4589" y="893"/>
                </a:cubicBezTo>
              </a:path>
              <a:path w="7764" h="2159">
                <a:moveTo>
                  <a:pt x="4564" y="595"/>
                </a:moveTo>
                <a:cubicBezTo>
                  <a:pt x="4554" y="699"/>
                  <a:pt x="4561" y="767"/>
                  <a:pt x="4564" y="868"/>
                </a:cubicBezTo>
                <a:cubicBezTo>
                  <a:pt x="4571" y="1077"/>
                  <a:pt x="4563" y="1282"/>
                  <a:pt x="4589" y="1488"/>
                </a:cubicBezTo>
                <a:cubicBezTo>
                  <a:pt x="4589" y="1540"/>
                  <a:pt x="4588" y="1555"/>
                  <a:pt x="4564" y="1488"/>
                </a:cubicBezTo>
              </a:path>
              <a:path w="7764" h="2159">
                <a:moveTo>
                  <a:pt x="4812" y="645"/>
                </a:moveTo>
                <a:cubicBezTo>
                  <a:pt x="4857" y="621"/>
                  <a:pt x="5012" y="508"/>
                  <a:pt x="5085" y="521"/>
                </a:cubicBezTo>
                <a:cubicBezTo>
                  <a:pt x="5225" y="546"/>
                  <a:pt x="5179" y="679"/>
                  <a:pt x="5110" y="769"/>
                </a:cubicBezTo>
                <a:cubicBezTo>
                  <a:pt x="5087" y="799"/>
                  <a:pt x="4994" y="848"/>
                  <a:pt x="4961" y="868"/>
                </a:cubicBezTo>
                <a:cubicBezTo>
                  <a:pt x="4917" y="894"/>
                  <a:pt x="4881" y="918"/>
                  <a:pt x="4837" y="943"/>
                </a:cubicBezTo>
                <a:cubicBezTo>
                  <a:pt x="4880" y="914"/>
                  <a:pt x="4976" y="841"/>
                  <a:pt x="5035" y="868"/>
                </a:cubicBezTo>
                <a:cubicBezTo>
                  <a:pt x="5101" y="898"/>
                  <a:pt x="5172" y="981"/>
                  <a:pt x="5209" y="1042"/>
                </a:cubicBezTo>
                <a:cubicBezTo>
                  <a:pt x="5249" y="1108"/>
                  <a:pt x="5244" y="1196"/>
                  <a:pt x="5209" y="1265"/>
                </a:cubicBezTo>
                <a:cubicBezTo>
                  <a:pt x="5166" y="1350"/>
                  <a:pt x="5044" y="1376"/>
                  <a:pt x="4961" y="1389"/>
                </a:cubicBezTo>
                <a:cubicBezTo>
                  <a:pt x="4851" y="1407"/>
                  <a:pt x="4823" y="1463"/>
                  <a:pt x="4837" y="1339"/>
                </a:cubicBezTo>
              </a:path>
              <a:path w="7764" h="2159">
                <a:moveTo>
                  <a:pt x="5531" y="645"/>
                </a:moveTo>
                <a:cubicBezTo>
                  <a:pt x="5531" y="736"/>
                  <a:pt x="5541" y="817"/>
                  <a:pt x="5556" y="893"/>
                </a:cubicBezTo>
                <a:cubicBezTo>
                  <a:pt x="5570" y="963"/>
                  <a:pt x="5611" y="1019"/>
                  <a:pt x="5705" y="992"/>
                </a:cubicBezTo>
                <a:cubicBezTo>
                  <a:pt x="5750" y="979"/>
                  <a:pt x="5782" y="903"/>
                  <a:pt x="5804" y="868"/>
                </a:cubicBezTo>
              </a:path>
              <a:path w="7764" h="2159">
                <a:moveTo>
                  <a:pt x="5854" y="446"/>
                </a:moveTo>
                <a:cubicBezTo>
                  <a:pt x="5818" y="506"/>
                  <a:pt x="5829" y="571"/>
                  <a:pt x="5829" y="645"/>
                </a:cubicBezTo>
                <a:cubicBezTo>
                  <a:pt x="5829" y="796"/>
                  <a:pt x="5834" y="941"/>
                  <a:pt x="5804" y="1091"/>
                </a:cubicBezTo>
                <a:cubicBezTo>
                  <a:pt x="5787" y="1176"/>
                  <a:pt x="5779" y="1282"/>
                  <a:pt x="5755" y="1364"/>
                </a:cubicBezTo>
                <a:cubicBezTo>
                  <a:pt x="5747" y="1392"/>
                  <a:pt x="5730" y="1530"/>
                  <a:pt x="5730" y="1414"/>
                </a:cubicBezTo>
              </a:path>
              <a:path w="7764" h="2159">
                <a:moveTo>
                  <a:pt x="6548" y="397"/>
                </a:moveTo>
                <a:cubicBezTo>
                  <a:pt x="6489" y="500"/>
                  <a:pt x="6402" y="588"/>
                  <a:pt x="6350" y="695"/>
                </a:cubicBezTo>
                <a:cubicBezTo>
                  <a:pt x="6287" y="824"/>
                  <a:pt x="6240" y="978"/>
                  <a:pt x="6201" y="1116"/>
                </a:cubicBezTo>
                <a:cubicBezTo>
                  <a:pt x="6164" y="1249"/>
                  <a:pt x="6154" y="1289"/>
                  <a:pt x="6201" y="1414"/>
                </a:cubicBezTo>
                <a:cubicBezTo>
                  <a:pt x="6258" y="1566"/>
                  <a:pt x="6301" y="1527"/>
                  <a:pt x="6449" y="1488"/>
                </a:cubicBezTo>
              </a:path>
              <a:path w="7764" h="2159">
                <a:moveTo>
                  <a:pt x="6821" y="521"/>
                </a:moveTo>
                <a:cubicBezTo>
                  <a:pt x="6821" y="682"/>
                  <a:pt x="6814" y="811"/>
                  <a:pt x="6772" y="967"/>
                </a:cubicBezTo>
                <a:cubicBezTo>
                  <a:pt x="6745" y="1068"/>
                  <a:pt x="6720" y="1167"/>
                  <a:pt x="6697" y="1265"/>
                </a:cubicBezTo>
                <a:cubicBezTo>
                  <a:pt x="6693" y="1282"/>
                  <a:pt x="6630" y="1461"/>
                  <a:pt x="6697" y="1463"/>
                </a:cubicBezTo>
                <a:cubicBezTo>
                  <a:pt x="6697" y="1455"/>
                  <a:pt x="6697" y="1447"/>
                  <a:pt x="6697" y="1439"/>
                </a:cubicBezTo>
              </a:path>
              <a:path w="7764" h="2159">
                <a:moveTo>
                  <a:pt x="6896" y="1042"/>
                </a:moveTo>
                <a:cubicBezTo>
                  <a:pt x="6983" y="1042"/>
                  <a:pt x="7063" y="1038"/>
                  <a:pt x="7144" y="1017"/>
                </a:cubicBezTo>
                <a:cubicBezTo>
                  <a:pt x="7209" y="995"/>
                  <a:pt x="7224" y="987"/>
                  <a:pt x="7268" y="992"/>
                </a:cubicBezTo>
              </a:path>
              <a:path w="7764" h="2159">
                <a:moveTo>
                  <a:pt x="7541" y="595"/>
                </a:moveTo>
                <a:cubicBezTo>
                  <a:pt x="7616" y="588"/>
                  <a:pt x="7868" y="596"/>
                  <a:pt x="7962" y="571"/>
                </a:cubicBezTo>
                <a:cubicBezTo>
                  <a:pt x="8017" y="556"/>
                  <a:pt x="8071" y="529"/>
                  <a:pt x="8136" y="521"/>
                </a:cubicBezTo>
                <a:cubicBezTo>
                  <a:pt x="8093" y="564"/>
                  <a:pt x="8037" y="615"/>
                  <a:pt x="8012" y="670"/>
                </a:cubicBezTo>
                <a:cubicBezTo>
                  <a:pt x="7971" y="759"/>
                  <a:pt x="7935" y="898"/>
                  <a:pt x="7913" y="992"/>
                </a:cubicBezTo>
                <a:cubicBezTo>
                  <a:pt x="7897" y="1059"/>
                  <a:pt x="7891" y="1154"/>
                  <a:pt x="7863" y="1215"/>
                </a:cubicBezTo>
                <a:cubicBezTo>
                  <a:pt x="7846" y="1252"/>
                  <a:pt x="7838" y="1388"/>
                  <a:pt x="7813" y="1339"/>
                </a:cubicBezTo>
              </a:path>
              <a:path w="7764" h="2159">
                <a:moveTo>
                  <a:pt x="8086" y="273"/>
                </a:moveTo>
                <a:cubicBezTo>
                  <a:pt x="8215" y="282"/>
                  <a:pt x="8296" y="312"/>
                  <a:pt x="8384" y="422"/>
                </a:cubicBezTo>
                <a:cubicBezTo>
                  <a:pt x="8428" y="477"/>
                  <a:pt x="8508" y="673"/>
                  <a:pt x="8508" y="744"/>
                </a:cubicBezTo>
                <a:cubicBezTo>
                  <a:pt x="8508" y="929"/>
                  <a:pt x="8440" y="1018"/>
                  <a:pt x="8359" y="1166"/>
                </a:cubicBezTo>
                <a:cubicBezTo>
                  <a:pt x="8297" y="1279"/>
                  <a:pt x="8186" y="1360"/>
                  <a:pt x="8111" y="1463"/>
                </a:cubicBezTo>
                <a:cubicBezTo>
                  <a:pt x="8073" y="1515"/>
                  <a:pt x="7963" y="1603"/>
                  <a:pt x="8062" y="1563"/>
                </a:cubicBezTo>
              </a:path>
              <a:path w="7764" h="2159">
                <a:moveTo>
                  <a:pt x="9004" y="1017"/>
                </a:moveTo>
                <a:cubicBezTo>
                  <a:pt x="8944" y="1146"/>
                  <a:pt x="8812" y="1314"/>
                  <a:pt x="8905" y="1463"/>
                </a:cubicBezTo>
                <a:cubicBezTo>
                  <a:pt x="8930" y="1488"/>
                  <a:pt x="8938" y="1496"/>
                  <a:pt x="8954" y="1513"/>
                </a:cubicBezTo>
                <a:cubicBezTo>
                  <a:pt x="8991" y="1498"/>
                  <a:pt x="9088" y="1467"/>
                  <a:pt x="9103" y="1414"/>
                </a:cubicBezTo>
                <a:cubicBezTo>
                  <a:pt x="9126" y="1330"/>
                  <a:pt x="9124" y="1140"/>
                  <a:pt x="9079" y="1067"/>
                </a:cubicBezTo>
                <a:cubicBezTo>
                  <a:pt x="9040" y="1004"/>
                  <a:pt x="8943" y="999"/>
                  <a:pt x="8880" y="992"/>
                </a:cubicBezTo>
              </a:path>
              <a:path w="7764" h="2159">
                <a:moveTo>
                  <a:pt x="9699" y="967"/>
                </a:moveTo>
                <a:cubicBezTo>
                  <a:pt x="9715" y="959"/>
                  <a:pt x="9732" y="951"/>
                  <a:pt x="9748" y="943"/>
                </a:cubicBezTo>
                <a:cubicBezTo>
                  <a:pt x="9695" y="950"/>
                  <a:pt x="9562" y="1011"/>
                  <a:pt x="9525" y="1042"/>
                </a:cubicBezTo>
                <a:cubicBezTo>
                  <a:pt x="9464" y="1092"/>
                  <a:pt x="9369" y="1239"/>
                  <a:pt x="9351" y="1315"/>
                </a:cubicBezTo>
                <a:cubicBezTo>
                  <a:pt x="9327" y="1415"/>
                  <a:pt x="9405" y="1461"/>
                  <a:pt x="9475" y="1439"/>
                </a:cubicBezTo>
                <a:cubicBezTo>
                  <a:pt x="9569" y="1409"/>
                  <a:pt x="9651" y="1383"/>
                  <a:pt x="9699" y="1290"/>
                </a:cubicBezTo>
                <a:cubicBezTo>
                  <a:pt x="9747" y="1196"/>
                  <a:pt x="9794" y="1096"/>
                  <a:pt x="9823" y="992"/>
                </a:cubicBezTo>
                <a:cubicBezTo>
                  <a:pt x="9851" y="891"/>
                  <a:pt x="9847" y="799"/>
                  <a:pt x="9847" y="695"/>
                </a:cubicBezTo>
                <a:cubicBezTo>
                  <a:pt x="9847" y="635"/>
                  <a:pt x="9834" y="615"/>
                  <a:pt x="9798" y="571"/>
                </a:cubicBezTo>
                <a:cubicBezTo>
                  <a:pt x="9788" y="667"/>
                  <a:pt x="9788" y="773"/>
                  <a:pt x="9773" y="868"/>
                </a:cubicBezTo>
                <a:cubicBezTo>
                  <a:pt x="9755" y="980"/>
                  <a:pt x="9748" y="1076"/>
                  <a:pt x="9748" y="1191"/>
                </a:cubicBezTo>
                <a:cubicBezTo>
                  <a:pt x="9748" y="1273"/>
                  <a:pt x="9776" y="1345"/>
                  <a:pt x="9823" y="1414"/>
                </a:cubicBezTo>
                <a:cubicBezTo>
                  <a:pt x="9831" y="1422"/>
                  <a:pt x="9839" y="1431"/>
                  <a:pt x="9847" y="1439"/>
                </a:cubicBezTo>
              </a:path>
              <a:path w="7764" h="2159">
                <a:moveTo>
                  <a:pt x="10368" y="967"/>
                </a:moveTo>
                <a:cubicBezTo>
                  <a:pt x="10368" y="899"/>
                  <a:pt x="10374" y="878"/>
                  <a:pt x="10319" y="868"/>
                </a:cubicBezTo>
                <a:cubicBezTo>
                  <a:pt x="10233" y="880"/>
                  <a:pt x="10232" y="927"/>
                  <a:pt x="10170" y="992"/>
                </a:cubicBezTo>
                <a:cubicBezTo>
                  <a:pt x="10083" y="1083"/>
                  <a:pt x="10003" y="1189"/>
                  <a:pt x="10071" y="1315"/>
                </a:cubicBezTo>
                <a:cubicBezTo>
                  <a:pt x="10128" y="1421"/>
                  <a:pt x="10227" y="1407"/>
                  <a:pt x="10319" y="1339"/>
                </a:cubicBezTo>
                <a:cubicBezTo>
                  <a:pt x="10370" y="1302"/>
                  <a:pt x="10447" y="1200"/>
                  <a:pt x="10468" y="1141"/>
                </a:cubicBezTo>
                <a:cubicBezTo>
                  <a:pt x="10505" y="1037"/>
                  <a:pt x="10528" y="926"/>
                  <a:pt x="10542" y="819"/>
                </a:cubicBezTo>
                <a:cubicBezTo>
                  <a:pt x="10555" y="723"/>
                  <a:pt x="10542" y="618"/>
                  <a:pt x="10542" y="521"/>
                </a:cubicBezTo>
                <a:cubicBezTo>
                  <a:pt x="10503" y="586"/>
                  <a:pt x="10517" y="663"/>
                  <a:pt x="10517" y="744"/>
                </a:cubicBezTo>
                <a:cubicBezTo>
                  <a:pt x="10517" y="825"/>
                  <a:pt x="10510" y="942"/>
                  <a:pt x="10542" y="1017"/>
                </a:cubicBezTo>
                <a:cubicBezTo>
                  <a:pt x="10568" y="1078"/>
                  <a:pt x="10604" y="1117"/>
                  <a:pt x="10616" y="11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Ink 3"/>
          <p:cNvSpPr/>
          <p:nvPr/>
        </p:nvSpPr>
        <p:spPr>
          <a:xfrm>
            <a:off x="608040" y="1071720"/>
            <a:ext cx="812880" cy="571320"/>
          </a:xfrm>
          <a:custGeom>
            <a:avLst/>
            <a:gdLst/>
            <a:ahLst/>
            <a:rect l="l" t="t" r="r" b="b"/>
            <a:pathLst>
              <a:path w="2258" h="1588">
                <a:moveTo>
                  <a:pt x="2133" y="3894"/>
                </a:moveTo>
                <a:cubicBezTo>
                  <a:pt x="2133" y="3965"/>
                  <a:pt x="2157" y="4441"/>
                  <a:pt x="2108" y="4440"/>
                </a:cubicBezTo>
                <a:cubicBezTo>
                  <a:pt x="2108" y="4432"/>
                  <a:pt x="2108" y="4423"/>
                  <a:pt x="2108" y="4415"/>
                </a:cubicBezTo>
              </a:path>
              <a:path w="2258" h="1588">
                <a:moveTo>
                  <a:pt x="2183" y="3621"/>
                </a:moveTo>
                <a:cubicBezTo>
                  <a:pt x="2115" y="3571"/>
                  <a:pt x="2068" y="3546"/>
                  <a:pt x="1984" y="3597"/>
                </a:cubicBezTo>
                <a:cubicBezTo>
                  <a:pt x="1933" y="3628"/>
                  <a:pt x="1849" y="3678"/>
                  <a:pt x="1811" y="3721"/>
                </a:cubicBezTo>
                <a:cubicBezTo>
                  <a:pt x="1761" y="3778"/>
                  <a:pt x="1759" y="3877"/>
                  <a:pt x="1736" y="3944"/>
                </a:cubicBezTo>
                <a:cubicBezTo>
                  <a:pt x="1708" y="4025"/>
                  <a:pt x="1663" y="4128"/>
                  <a:pt x="1687" y="4217"/>
                </a:cubicBezTo>
                <a:cubicBezTo>
                  <a:pt x="1709" y="4297"/>
                  <a:pt x="1751" y="4444"/>
                  <a:pt x="1836" y="4490"/>
                </a:cubicBezTo>
                <a:cubicBezTo>
                  <a:pt x="1938" y="4545"/>
                  <a:pt x="1988" y="4564"/>
                  <a:pt x="2108" y="4564"/>
                </a:cubicBezTo>
                <a:cubicBezTo>
                  <a:pt x="2224" y="4564"/>
                  <a:pt x="2282" y="4506"/>
                  <a:pt x="2381" y="4465"/>
                </a:cubicBezTo>
                <a:cubicBezTo>
                  <a:pt x="2498" y="4416"/>
                  <a:pt x="2505" y="4361"/>
                  <a:pt x="2580" y="4266"/>
                </a:cubicBezTo>
                <a:cubicBezTo>
                  <a:pt x="2640" y="4190"/>
                  <a:pt x="2674" y="4122"/>
                  <a:pt x="2654" y="4018"/>
                </a:cubicBezTo>
                <a:cubicBezTo>
                  <a:pt x="2640" y="3946"/>
                  <a:pt x="2559" y="3775"/>
                  <a:pt x="2505" y="3721"/>
                </a:cubicBezTo>
                <a:cubicBezTo>
                  <a:pt x="2486" y="3702"/>
                  <a:pt x="2353" y="3607"/>
                  <a:pt x="2332" y="3597"/>
                </a:cubicBezTo>
                <a:cubicBezTo>
                  <a:pt x="2283" y="3573"/>
                  <a:pt x="2233" y="3577"/>
                  <a:pt x="2183" y="3547"/>
                </a:cubicBezTo>
              </a:path>
              <a:path w="2258" h="1588">
                <a:moveTo>
                  <a:pt x="3373" y="3621"/>
                </a:moveTo>
                <a:cubicBezTo>
                  <a:pt x="3348" y="3692"/>
                  <a:pt x="3288" y="3823"/>
                  <a:pt x="3274" y="3894"/>
                </a:cubicBezTo>
                <a:cubicBezTo>
                  <a:pt x="3254" y="3992"/>
                  <a:pt x="3246" y="4042"/>
                  <a:pt x="3175" y="4118"/>
                </a:cubicBezTo>
                <a:cubicBezTo>
                  <a:pt x="3125" y="4172"/>
                  <a:pt x="3109" y="4246"/>
                  <a:pt x="3101" y="4316"/>
                </a:cubicBezTo>
                <a:cubicBezTo>
                  <a:pt x="3113" y="4208"/>
                  <a:pt x="3168" y="4142"/>
                  <a:pt x="3200" y="4043"/>
                </a:cubicBezTo>
                <a:cubicBezTo>
                  <a:pt x="3235" y="3936"/>
                  <a:pt x="3266" y="3829"/>
                  <a:pt x="3299" y="3721"/>
                </a:cubicBezTo>
                <a:cubicBezTo>
                  <a:pt x="3335" y="3602"/>
                  <a:pt x="3391" y="3507"/>
                  <a:pt x="3448" y="3398"/>
                </a:cubicBezTo>
                <a:cubicBezTo>
                  <a:pt x="3499" y="3300"/>
                  <a:pt x="3546" y="3200"/>
                  <a:pt x="3597" y="3101"/>
                </a:cubicBezTo>
                <a:cubicBezTo>
                  <a:pt x="3638" y="3023"/>
                  <a:pt x="3634" y="2989"/>
                  <a:pt x="3721" y="2977"/>
                </a:cubicBezTo>
                <a:cubicBezTo>
                  <a:pt x="3742" y="3053"/>
                  <a:pt x="3751" y="3127"/>
                  <a:pt x="3770" y="3200"/>
                </a:cubicBezTo>
                <a:cubicBezTo>
                  <a:pt x="3801" y="3318"/>
                  <a:pt x="3833" y="3449"/>
                  <a:pt x="3845" y="3572"/>
                </a:cubicBezTo>
                <a:cubicBezTo>
                  <a:pt x="3858" y="3704"/>
                  <a:pt x="3879" y="3845"/>
                  <a:pt x="3919" y="3969"/>
                </a:cubicBezTo>
                <a:cubicBezTo>
                  <a:pt x="3925" y="3988"/>
                  <a:pt x="3976" y="4173"/>
                  <a:pt x="3944" y="4192"/>
                </a:cubicBezTo>
                <a:cubicBezTo>
                  <a:pt x="3913" y="4210"/>
                  <a:pt x="3920" y="4102"/>
                  <a:pt x="3919" y="4093"/>
                </a:cubicBezTo>
              </a:path>
              <a:path w="2258" h="1588">
                <a:moveTo>
                  <a:pt x="3423" y="3721"/>
                </a:moveTo>
                <a:cubicBezTo>
                  <a:pt x="3493" y="3695"/>
                  <a:pt x="3545" y="3696"/>
                  <a:pt x="3621" y="3696"/>
                </a:cubicBezTo>
                <a:cubicBezTo>
                  <a:pt x="3696" y="3696"/>
                  <a:pt x="3770" y="3696"/>
                  <a:pt x="3845" y="36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Ink 4"/>
          <p:cNvSpPr/>
          <p:nvPr/>
        </p:nvSpPr>
        <p:spPr>
          <a:xfrm>
            <a:off x="1581120" y="965160"/>
            <a:ext cx="1017720" cy="650880"/>
          </a:xfrm>
          <a:custGeom>
            <a:avLst/>
            <a:gdLst/>
            <a:ahLst/>
            <a:rect l="l" t="t" r="r" b="b"/>
            <a:pathLst>
              <a:path w="2829" h="1812">
                <a:moveTo>
                  <a:pt x="4390" y="3671"/>
                </a:moveTo>
                <a:cubicBezTo>
                  <a:pt x="4439" y="3647"/>
                  <a:pt x="4529" y="3629"/>
                  <a:pt x="4589" y="3621"/>
                </a:cubicBezTo>
                <a:cubicBezTo>
                  <a:pt x="4614" y="3621"/>
                  <a:pt x="4638" y="3621"/>
                  <a:pt x="4663" y="3621"/>
                </a:cubicBezTo>
              </a:path>
              <a:path w="2829" h="1812">
                <a:moveTo>
                  <a:pt x="4415" y="3845"/>
                </a:moveTo>
                <a:cubicBezTo>
                  <a:pt x="4507" y="3845"/>
                  <a:pt x="4575" y="3833"/>
                  <a:pt x="4663" y="3820"/>
                </a:cubicBezTo>
                <a:cubicBezTo>
                  <a:pt x="4680" y="3820"/>
                  <a:pt x="4696" y="3820"/>
                  <a:pt x="4713" y="3820"/>
                </a:cubicBezTo>
              </a:path>
              <a:path w="2829" h="1812">
                <a:moveTo>
                  <a:pt x="5110" y="3274"/>
                </a:moveTo>
                <a:cubicBezTo>
                  <a:pt x="5195" y="3152"/>
                  <a:pt x="5187" y="3211"/>
                  <a:pt x="5308" y="3150"/>
                </a:cubicBezTo>
                <a:cubicBezTo>
                  <a:pt x="5356" y="3126"/>
                  <a:pt x="5445" y="3084"/>
                  <a:pt x="5507" y="3101"/>
                </a:cubicBezTo>
                <a:cubicBezTo>
                  <a:pt x="5579" y="3121"/>
                  <a:pt x="5599" y="3173"/>
                  <a:pt x="5581" y="3225"/>
                </a:cubicBezTo>
                <a:cubicBezTo>
                  <a:pt x="5540" y="3341"/>
                  <a:pt x="5461" y="3339"/>
                  <a:pt x="5383" y="3423"/>
                </a:cubicBezTo>
                <a:cubicBezTo>
                  <a:pt x="5343" y="3467"/>
                  <a:pt x="5303" y="3502"/>
                  <a:pt x="5259" y="3547"/>
                </a:cubicBezTo>
                <a:cubicBezTo>
                  <a:pt x="5323" y="3538"/>
                  <a:pt x="5361" y="3522"/>
                  <a:pt x="5432" y="3522"/>
                </a:cubicBezTo>
                <a:cubicBezTo>
                  <a:pt x="5503" y="3522"/>
                  <a:pt x="5541" y="3535"/>
                  <a:pt x="5581" y="3597"/>
                </a:cubicBezTo>
                <a:cubicBezTo>
                  <a:pt x="5640" y="3687"/>
                  <a:pt x="5701" y="3785"/>
                  <a:pt x="5680" y="3894"/>
                </a:cubicBezTo>
                <a:cubicBezTo>
                  <a:pt x="5665" y="3974"/>
                  <a:pt x="5545" y="4040"/>
                  <a:pt x="5482" y="4068"/>
                </a:cubicBezTo>
                <a:cubicBezTo>
                  <a:pt x="5379" y="4114"/>
                  <a:pt x="5294" y="4118"/>
                  <a:pt x="5184" y="4118"/>
                </a:cubicBezTo>
                <a:cubicBezTo>
                  <a:pt x="5089" y="4118"/>
                  <a:pt x="5065" y="4121"/>
                  <a:pt x="5011" y="4043"/>
                </a:cubicBezTo>
              </a:path>
              <a:path w="2829" h="1812">
                <a:moveTo>
                  <a:pt x="6102" y="3200"/>
                </a:moveTo>
                <a:cubicBezTo>
                  <a:pt x="6074" y="3273"/>
                  <a:pt x="6056" y="3347"/>
                  <a:pt x="6028" y="3423"/>
                </a:cubicBezTo>
                <a:cubicBezTo>
                  <a:pt x="5984" y="3540"/>
                  <a:pt x="5946" y="3696"/>
                  <a:pt x="5953" y="3820"/>
                </a:cubicBezTo>
                <a:cubicBezTo>
                  <a:pt x="5958" y="3905"/>
                  <a:pt x="6003" y="3999"/>
                  <a:pt x="6052" y="4068"/>
                </a:cubicBezTo>
                <a:cubicBezTo>
                  <a:pt x="6092" y="4124"/>
                  <a:pt x="6159" y="4134"/>
                  <a:pt x="6226" y="4118"/>
                </a:cubicBezTo>
                <a:cubicBezTo>
                  <a:pt x="6286" y="4104"/>
                  <a:pt x="6367" y="4016"/>
                  <a:pt x="6400" y="3969"/>
                </a:cubicBezTo>
                <a:cubicBezTo>
                  <a:pt x="6459" y="3887"/>
                  <a:pt x="6449" y="3790"/>
                  <a:pt x="6449" y="3696"/>
                </a:cubicBezTo>
                <a:cubicBezTo>
                  <a:pt x="6449" y="3548"/>
                  <a:pt x="6448" y="3444"/>
                  <a:pt x="6350" y="3324"/>
                </a:cubicBezTo>
                <a:cubicBezTo>
                  <a:pt x="6310" y="3275"/>
                  <a:pt x="6269" y="3191"/>
                  <a:pt x="6201" y="3175"/>
                </a:cubicBezTo>
                <a:cubicBezTo>
                  <a:pt x="6159" y="3165"/>
                  <a:pt x="6140" y="3160"/>
                  <a:pt x="6102" y="3150"/>
                </a:cubicBezTo>
              </a:path>
              <a:path w="2829" h="1812">
                <a:moveTo>
                  <a:pt x="6648" y="2803"/>
                </a:moveTo>
                <a:cubicBezTo>
                  <a:pt x="6628" y="2855"/>
                  <a:pt x="6600" y="2943"/>
                  <a:pt x="6623" y="3001"/>
                </a:cubicBezTo>
                <a:cubicBezTo>
                  <a:pt x="6650" y="3070"/>
                  <a:pt x="6749" y="3042"/>
                  <a:pt x="6796" y="3026"/>
                </a:cubicBezTo>
                <a:cubicBezTo>
                  <a:pt x="6903" y="2990"/>
                  <a:pt x="6884" y="2959"/>
                  <a:pt x="6921" y="2877"/>
                </a:cubicBezTo>
                <a:cubicBezTo>
                  <a:pt x="6950" y="2813"/>
                  <a:pt x="6949" y="2806"/>
                  <a:pt x="6896" y="2753"/>
                </a:cubicBezTo>
                <a:cubicBezTo>
                  <a:pt x="6826" y="2684"/>
                  <a:pt x="6791" y="2679"/>
                  <a:pt x="6697" y="2679"/>
                </a:cubicBezTo>
                <a:cubicBezTo>
                  <a:pt x="6646" y="2679"/>
                  <a:pt x="6628" y="2681"/>
                  <a:pt x="6623" y="2729"/>
                </a:cubicBezTo>
              </a:path>
              <a:path w="2829" h="1812">
                <a:moveTo>
                  <a:pt x="7218" y="4167"/>
                </a:moveTo>
                <a:cubicBezTo>
                  <a:pt x="7212" y="4229"/>
                  <a:pt x="7210" y="4294"/>
                  <a:pt x="7169" y="4341"/>
                </a:cubicBezTo>
                <a:cubicBezTo>
                  <a:pt x="7131" y="4384"/>
                  <a:pt x="7085" y="4424"/>
                  <a:pt x="7045" y="4465"/>
                </a:cubicBezTo>
                <a:cubicBezTo>
                  <a:pt x="7022" y="4488"/>
                  <a:pt x="7014" y="4499"/>
                  <a:pt x="7020" y="44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Ink 5"/>
          <p:cNvSpPr/>
          <p:nvPr/>
        </p:nvSpPr>
        <p:spPr>
          <a:xfrm>
            <a:off x="2776680" y="1251000"/>
            <a:ext cx="411120" cy="249120"/>
          </a:xfrm>
          <a:custGeom>
            <a:avLst/>
            <a:gdLst/>
            <a:ahLst/>
            <a:rect l="l" t="t" r="r" b="b"/>
            <a:pathLst>
              <a:path w="1142" h="695">
                <a:moveTo>
                  <a:pt x="8136" y="3820"/>
                </a:moveTo>
                <a:cubicBezTo>
                  <a:pt x="8170" y="3854"/>
                  <a:pt x="8149" y="3735"/>
                  <a:pt x="8136" y="3671"/>
                </a:cubicBezTo>
                <a:cubicBezTo>
                  <a:pt x="8123" y="3609"/>
                  <a:pt x="8106" y="3567"/>
                  <a:pt x="8062" y="3522"/>
                </a:cubicBezTo>
                <a:cubicBezTo>
                  <a:pt x="8008" y="3467"/>
                  <a:pt x="7973" y="3465"/>
                  <a:pt x="7913" y="3497"/>
                </a:cubicBezTo>
                <a:cubicBezTo>
                  <a:pt x="7837" y="3537"/>
                  <a:pt x="7785" y="3582"/>
                  <a:pt x="7764" y="3671"/>
                </a:cubicBezTo>
                <a:cubicBezTo>
                  <a:pt x="7744" y="3753"/>
                  <a:pt x="7718" y="3831"/>
                  <a:pt x="7714" y="3919"/>
                </a:cubicBezTo>
                <a:cubicBezTo>
                  <a:pt x="7711" y="3986"/>
                  <a:pt x="7702" y="4059"/>
                  <a:pt x="7739" y="4118"/>
                </a:cubicBezTo>
                <a:cubicBezTo>
                  <a:pt x="7776" y="4178"/>
                  <a:pt x="7861" y="4165"/>
                  <a:pt x="7913" y="4142"/>
                </a:cubicBezTo>
                <a:cubicBezTo>
                  <a:pt x="7970" y="4117"/>
                  <a:pt x="7991" y="4041"/>
                  <a:pt x="8012" y="3994"/>
                </a:cubicBezTo>
                <a:cubicBezTo>
                  <a:pt x="8048" y="3915"/>
                  <a:pt x="8077" y="3818"/>
                  <a:pt x="8111" y="3746"/>
                </a:cubicBezTo>
                <a:cubicBezTo>
                  <a:pt x="8119" y="3738"/>
                  <a:pt x="8128" y="3729"/>
                  <a:pt x="8136" y="3721"/>
                </a:cubicBezTo>
                <a:cubicBezTo>
                  <a:pt x="8136" y="3817"/>
                  <a:pt x="8145" y="3912"/>
                  <a:pt x="8161" y="3994"/>
                </a:cubicBezTo>
                <a:cubicBezTo>
                  <a:pt x="8170" y="4042"/>
                  <a:pt x="8179" y="4146"/>
                  <a:pt x="8260" y="4142"/>
                </a:cubicBezTo>
                <a:cubicBezTo>
                  <a:pt x="8277" y="4134"/>
                  <a:pt x="8293" y="4126"/>
                  <a:pt x="8310" y="4118"/>
                </a:cubicBezTo>
              </a:path>
              <a:path w="1142" h="695">
                <a:moveTo>
                  <a:pt x="8483" y="3597"/>
                </a:moveTo>
                <a:cubicBezTo>
                  <a:pt x="8599" y="3597"/>
                  <a:pt x="8714" y="3597"/>
                  <a:pt x="8830" y="3597"/>
                </a:cubicBezTo>
              </a:path>
              <a:path w="1142" h="695">
                <a:moveTo>
                  <a:pt x="8533" y="3820"/>
                </a:moveTo>
                <a:cubicBezTo>
                  <a:pt x="8640" y="3820"/>
                  <a:pt x="8702" y="3788"/>
                  <a:pt x="8806" y="3770"/>
                </a:cubicBezTo>
                <a:cubicBezTo>
                  <a:pt x="8822" y="3770"/>
                  <a:pt x="8839" y="3770"/>
                  <a:pt x="8855" y="377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Ink 6"/>
          <p:cNvSpPr/>
          <p:nvPr/>
        </p:nvSpPr>
        <p:spPr>
          <a:xfrm>
            <a:off x="3357720" y="973080"/>
            <a:ext cx="1679400" cy="635040"/>
          </a:xfrm>
          <a:custGeom>
            <a:avLst/>
            <a:gdLst/>
            <a:ahLst/>
            <a:rect l="l" t="t" r="r" b="b"/>
            <a:pathLst>
              <a:path w="4664" h="1762">
                <a:moveTo>
                  <a:pt x="9401" y="3175"/>
                </a:moveTo>
                <a:cubicBezTo>
                  <a:pt x="9444" y="3245"/>
                  <a:pt x="9426" y="3336"/>
                  <a:pt x="9426" y="3423"/>
                </a:cubicBezTo>
                <a:cubicBezTo>
                  <a:pt x="9426" y="3512"/>
                  <a:pt x="9425" y="3656"/>
                  <a:pt x="9401" y="3746"/>
                </a:cubicBezTo>
                <a:cubicBezTo>
                  <a:pt x="9381" y="3822"/>
                  <a:pt x="9377" y="3894"/>
                  <a:pt x="9351" y="3969"/>
                </a:cubicBezTo>
                <a:cubicBezTo>
                  <a:pt x="9334" y="4017"/>
                  <a:pt x="9327" y="4119"/>
                  <a:pt x="9327" y="4068"/>
                </a:cubicBezTo>
              </a:path>
              <a:path w="4664" h="1762">
                <a:moveTo>
                  <a:pt x="9723" y="3249"/>
                </a:moveTo>
                <a:cubicBezTo>
                  <a:pt x="9788" y="3185"/>
                  <a:pt x="9804" y="3183"/>
                  <a:pt x="9872" y="3150"/>
                </a:cubicBezTo>
                <a:cubicBezTo>
                  <a:pt x="9945" y="3114"/>
                  <a:pt x="9997" y="3067"/>
                  <a:pt x="10071" y="3125"/>
                </a:cubicBezTo>
                <a:cubicBezTo>
                  <a:pt x="10124" y="3167"/>
                  <a:pt x="10163" y="3228"/>
                  <a:pt x="10145" y="3299"/>
                </a:cubicBezTo>
                <a:cubicBezTo>
                  <a:pt x="10133" y="3346"/>
                  <a:pt x="10066" y="3399"/>
                  <a:pt x="10046" y="3448"/>
                </a:cubicBezTo>
                <a:cubicBezTo>
                  <a:pt x="9994" y="3573"/>
                  <a:pt x="9955" y="3602"/>
                  <a:pt x="9872" y="3721"/>
                </a:cubicBezTo>
                <a:cubicBezTo>
                  <a:pt x="9834" y="3775"/>
                  <a:pt x="9811" y="3840"/>
                  <a:pt x="9773" y="3894"/>
                </a:cubicBezTo>
                <a:cubicBezTo>
                  <a:pt x="9739" y="3943"/>
                  <a:pt x="9731" y="3958"/>
                  <a:pt x="9723" y="4018"/>
                </a:cubicBezTo>
                <a:cubicBezTo>
                  <a:pt x="9763" y="4038"/>
                  <a:pt x="9807" y="4018"/>
                  <a:pt x="9872" y="4018"/>
                </a:cubicBezTo>
                <a:cubicBezTo>
                  <a:pt x="9949" y="4018"/>
                  <a:pt x="10008" y="4030"/>
                  <a:pt x="10071" y="4043"/>
                </a:cubicBezTo>
                <a:cubicBezTo>
                  <a:pt x="10112" y="4043"/>
                  <a:pt x="10120" y="4043"/>
                  <a:pt x="10145" y="4043"/>
                </a:cubicBezTo>
              </a:path>
              <a:path w="4664" h="1762">
                <a:moveTo>
                  <a:pt x="10368" y="3894"/>
                </a:moveTo>
                <a:cubicBezTo>
                  <a:pt x="10368" y="3983"/>
                  <a:pt x="10374" y="4067"/>
                  <a:pt x="10344" y="4142"/>
                </a:cubicBezTo>
                <a:cubicBezTo>
                  <a:pt x="10313" y="4220"/>
                  <a:pt x="10253" y="4272"/>
                  <a:pt x="10220" y="4341"/>
                </a:cubicBezTo>
                <a:cubicBezTo>
                  <a:pt x="10195" y="4395"/>
                  <a:pt x="10170" y="4490"/>
                  <a:pt x="10120" y="4440"/>
                </a:cubicBezTo>
              </a:path>
              <a:path w="4664" h="1762">
                <a:moveTo>
                  <a:pt x="10939" y="3274"/>
                </a:moveTo>
                <a:cubicBezTo>
                  <a:pt x="10930" y="3367"/>
                  <a:pt x="10902" y="3449"/>
                  <a:pt x="10889" y="3547"/>
                </a:cubicBezTo>
                <a:cubicBezTo>
                  <a:pt x="10879" y="3624"/>
                  <a:pt x="10864" y="3696"/>
                  <a:pt x="10840" y="3770"/>
                </a:cubicBezTo>
                <a:cubicBezTo>
                  <a:pt x="10819" y="3834"/>
                  <a:pt x="10813" y="3883"/>
                  <a:pt x="10790" y="3944"/>
                </a:cubicBezTo>
                <a:cubicBezTo>
                  <a:pt x="10757" y="3889"/>
                  <a:pt x="10765" y="3838"/>
                  <a:pt x="10765" y="3770"/>
                </a:cubicBezTo>
                <a:cubicBezTo>
                  <a:pt x="10765" y="3661"/>
                  <a:pt x="10803" y="3577"/>
                  <a:pt x="10815" y="3473"/>
                </a:cubicBezTo>
                <a:cubicBezTo>
                  <a:pt x="10829" y="3354"/>
                  <a:pt x="10857" y="3234"/>
                  <a:pt x="10914" y="3125"/>
                </a:cubicBezTo>
                <a:cubicBezTo>
                  <a:pt x="10965" y="3027"/>
                  <a:pt x="10962" y="2938"/>
                  <a:pt x="11038" y="2853"/>
                </a:cubicBezTo>
                <a:cubicBezTo>
                  <a:pt x="11062" y="2827"/>
                  <a:pt x="11158" y="2714"/>
                  <a:pt x="11187" y="2704"/>
                </a:cubicBezTo>
                <a:cubicBezTo>
                  <a:pt x="11224" y="2691"/>
                  <a:pt x="11340" y="2691"/>
                  <a:pt x="11361" y="2729"/>
                </a:cubicBezTo>
                <a:cubicBezTo>
                  <a:pt x="11398" y="2796"/>
                  <a:pt x="11381" y="2887"/>
                  <a:pt x="11361" y="2952"/>
                </a:cubicBezTo>
                <a:cubicBezTo>
                  <a:pt x="11338" y="3027"/>
                  <a:pt x="11234" y="3060"/>
                  <a:pt x="11187" y="3125"/>
                </a:cubicBezTo>
                <a:cubicBezTo>
                  <a:pt x="11129" y="3206"/>
                  <a:pt x="11066" y="3219"/>
                  <a:pt x="10988" y="3274"/>
                </a:cubicBezTo>
                <a:cubicBezTo>
                  <a:pt x="10980" y="3282"/>
                  <a:pt x="10972" y="3291"/>
                  <a:pt x="10964" y="3299"/>
                </a:cubicBezTo>
                <a:cubicBezTo>
                  <a:pt x="11008" y="3220"/>
                  <a:pt x="11041" y="3209"/>
                  <a:pt x="11137" y="3225"/>
                </a:cubicBezTo>
                <a:cubicBezTo>
                  <a:pt x="11235" y="3241"/>
                  <a:pt x="11295" y="3279"/>
                  <a:pt x="11336" y="3373"/>
                </a:cubicBezTo>
                <a:cubicBezTo>
                  <a:pt x="11364" y="3437"/>
                  <a:pt x="11382" y="3528"/>
                  <a:pt x="11385" y="3597"/>
                </a:cubicBezTo>
                <a:cubicBezTo>
                  <a:pt x="11388" y="3668"/>
                  <a:pt x="11375" y="3729"/>
                  <a:pt x="11311" y="3770"/>
                </a:cubicBezTo>
                <a:cubicBezTo>
                  <a:pt x="11225" y="3825"/>
                  <a:pt x="11138" y="3841"/>
                  <a:pt x="11038" y="3845"/>
                </a:cubicBezTo>
                <a:cubicBezTo>
                  <a:pt x="10961" y="3848"/>
                  <a:pt x="10849" y="3863"/>
                  <a:pt x="10790" y="3820"/>
                </a:cubicBezTo>
                <a:cubicBezTo>
                  <a:pt x="10767" y="3797"/>
                  <a:pt x="10759" y="3793"/>
                  <a:pt x="10765" y="3770"/>
                </a:cubicBezTo>
              </a:path>
              <a:path w="4664" h="1762">
                <a:moveTo>
                  <a:pt x="11708" y="3373"/>
                </a:moveTo>
                <a:cubicBezTo>
                  <a:pt x="11781" y="3373"/>
                  <a:pt x="11836" y="3351"/>
                  <a:pt x="11906" y="3349"/>
                </a:cubicBezTo>
                <a:cubicBezTo>
                  <a:pt x="11997" y="3349"/>
                  <a:pt x="12005" y="3349"/>
                  <a:pt x="12055" y="3349"/>
                </a:cubicBezTo>
              </a:path>
              <a:path w="4664" h="1762">
                <a:moveTo>
                  <a:pt x="11683" y="3572"/>
                </a:moveTo>
                <a:cubicBezTo>
                  <a:pt x="11773" y="3584"/>
                  <a:pt x="11864" y="3592"/>
                  <a:pt x="11956" y="3572"/>
                </a:cubicBezTo>
                <a:cubicBezTo>
                  <a:pt x="11981" y="3564"/>
                  <a:pt x="12005" y="3555"/>
                  <a:pt x="12030" y="3547"/>
                </a:cubicBezTo>
              </a:path>
              <a:path w="4664" h="1762">
                <a:moveTo>
                  <a:pt x="12452" y="2977"/>
                </a:moveTo>
                <a:cubicBezTo>
                  <a:pt x="12442" y="3057"/>
                  <a:pt x="12394" y="3122"/>
                  <a:pt x="12378" y="3200"/>
                </a:cubicBezTo>
                <a:cubicBezTo>
                  <a:pt x="12369" y="3244"/>
                  <a:pt x="12370" y="3333"/>
                  <a:pt x="12427" y="3349"/>
                </a:cubicBezTo>
                <a:cubicBezTo>
                  <a:pt x="12469" y="3361"/>
                  <a:pt x="12596" y="3304"/>
                  <a:pt x="12626" y="3274"/>
                </a:cubicBezTo>
                <a:cubicBezTo>
                  <a:pt x="12652" y="3220"/>
                  <a:pt x="12664" y="3200"/>
                  <a:pt x="12700" y="3175"/>
                </a:cubicBezTo>
              </a:path>
              <a:path w="4664" h="1762">
                <a:moveTo>
                  <a:pt x="12700" y="2828"/>
                </a:moveTo>
                <a:cubicBezTo>
                  <a:pt x="12672" y="2911"/>
                  <a:pt x="12675" y="2986"/>
                  <a:pt x="12675" y="3076"/>
                </a:cubicBezTo>
                <a:cubicBezTo>
                  <a:pt x="12675" y="3175"/>
                  <a:pt x="12654" y="3252"/>
                  <a:pt x="12650" y="3349"/>
                </a:cubicBezTo>
                <a:cubicBezTo>
                  <a:pt x="12645" y="3457"/>
                  <a:pt x="12626" y="3562"/>
                  <a:pt x="12626" y="3671"/>
                </a:cubicBezTo>
                <a:cubicBezTo>
                  <a:pt x="12626" y="3706"/>
                  <a:pt x="12626" y="3988"/>
                  <a:pt x="12626" y="3795"/>
                </a:cubicBezTo>
              </a:path>
              <a:path w="4664" h="1762">
                <a:moveTo>
                  <a:pt x="12948" y="2877"/>
                </a:moveTo>
                <a:cubicBezTo>
                  <a:pt x="13056" y="2862"/>
                  <a:pt x="13166" y="2834"/>
                  <a:pt x="13271" y="2828"/>
                </a:cubicBezTo>
                <a:cubicBezTo>
                  <a:pt x="13357" y="2823"/>
                  <a:pt x="13379" y="2801"/>
                  <a:pt x="13419" y="2729"/>
                </a:cubicBezTo>
              </a:path>
              <a:path w="4664" h="1762">
                <a:moveTo>
                  <a:pt x="12973" y="2902"/>
                </a:moveTo>
                <a:cubicBezTo>
                  <a:pt x="12924" y="3013"/>
                  <a:pt x="12879" y="3080"/>
                  <a:pt x="12874" y="3200"/>
                </a:cubicBezTo>
                <a:cubicBezTo>
                  <a:pt x="12874" y="3216"/>
                  <a:pt x="12874" y="3233"/>
                  <a:pt x="12874" y="3249"/>
                </a:cubicBezTo>
                <a:cubicBezTo>
                  <a:pt x="12919" y="3213"/>
                  <a:pt x="13007" y="3123"/>
                  <a:pt x="13047" y="3101"/>
                </a:cubicBezTo>
                <a:cubicBezTo>
                  <a:pt x="13103" y="3070"/>
                  <a:pt x="13160" y="3114"/>
                  <a:pt x="13196" y="3150"/>
                </a:cubicBezTo>
                <a:cubicBezTo>
                  <a:pt x="13237" y="3190"/>
                  <a:pt x="13232" y="3248"/>
                  <a:pt x="13246" y="3299"/>
                </a:cubicBezTo>
                <a:cubicBezTo>
                  <a:pt x="13268" y="3380"/>
                  <a:pt x="13271" y="3439"/>
                  <a:pt x="13271" y="3522"/>
                </a:cubicBezTo>
                <a:cubicBezTo>
                  <a:pt x="13271" y="3585"/>
                  <a:pt x="13223" y="3710"/>
                  <a:pt x="13171" y="3746"/>
                </a:cubicBezTo>
                <a:cubicBezTo>
                  <a:pt x="13115" y="3785"/>
                  <a:pt x="12989" y="3810"/>
                  <a:pt x="12923" y="3820"/>
                </a:cubicBezTo>
                <a:cubicBezTo>
                  <a:pt x="12872" y="3827"/>
                  <a:pt x="12732" y="3841"/>
                  <a:pt x="12700" y="3795"/>
                </a:cubicBezTo>
                <a:cubicBezTo>
                  <a:pt x="12700" y="3779"/>
                  <a:pt x="12700" y="3762"/>
                  <a:pt x="12700" y="3746"/>
                </a:cubicBezTo>
              </a:path>
              <a:path w="4664" h="1762">
                <a:moveTo>
                  <a:pt x="13791" y="2778"/>
                </a:moveTo>
                <a:cubicBezTo>
                  <a:pt x="13762" y="2830"/>
                  <a:pt x="13717" y="2886"/>
                  <a:pt x="13742" y="2952"/>
                </a:cubicBezTo>
                <a:cubicBezTo>
                  <a:pt x="13750" y="2960"/>
                  <a:pt x="13759" y="2969"/>
                  <a:pt x="13767" y="2977"/>
                </a:cubicBezTo>
                <a:cubicBezTo>
                  <a:pt x="13845" y="2968"/>
                  <a:pt x="13885" y="2957"/>
                  <a:pt x="13940" y="2902"/>
                </a:cubicBezTo>
                <a:cubicBezTo>
                  <a:pt x="14017" y="2825"/>
                  <a:pt x="13993" y="2744"/>
                  <a:pt x="13891" y="2704"/>
                </a:cubicBezTo>
                <a:cubicBezTo>
                  <a:pt x="13872" y="2696"/>
                  <a:pt x="13816" y="2704"/>
                  <a:pt x="13791" y="27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Ink 7"/>
          <p:cNvSpPr/>
          <p:nvPr/>
        </p:nvSpPr>
        <p:spPr>
          <a:xfrm>
            <a:off x="374760" y="1928880"/>
            <a:ext cx="1036440" cy="588960"/>
          </a:xfrm>
          <a:custGeom>
            <a:avLst/>
            <a:gdLst/>
            <a:ahLst/>
            <a:rect l="l" t="t" r="r" b="b"/>
            <a:pathLst>
              <a:path w="2878" h="1638">
                <a:moveTo>
                  <a:pt x="1662" y="6226"/>
                </a:moveTo>
                <a:cubicBezTo>
                  <a:pt x="1702" y="6186"/>
                  <a:pt x="1724" y="6143"/>
                  <a:pt x="1761" y="6102"/>
                </a:cubicBezTo>
                <a:cubicBezTo>
                  <a:pt x="1800" y="6059"/>
                  <a:pt x="1902" y="6055"/>
                  <a:pt x="1960" y="6052"/>
                </a:cubicBezTo>
                <a:cubicBezTo>
                  <a:pt x="2009" y="6052"/>
                  <a:pt x="2026" y="6052"/>
                  <a:pt x="2059" y="6052"/>
                </a:cubicBezTo>
                <a:cubicBezTo>
                  <a:pt x="2080" y="6116"/>
                  <a:pt x="2055" y="6165"/>
                  <a:pt x="2009" y="6226"/>
                </a:cubicBezTo>
                <a:cubicBezTo>
                  <a:pt x="1986" y="6257"/>
                  <a:pt x="1942" y="6304"/>
                  <a:pt x="1910" y="6325"/>
                </a:cubicBezTo>
                <a:cubicBezTo>
                  <a:pt x="1826" y="6379"/>
                  <a:pt x="1822" y="6372"/>
                  <a:pt x="1910" y="6325"/>
                </a:cubicBezTo>
                <a:cubicBezTo>
                  <a:pt x="1988" y="6284"/>
                  <a:pt x="2064" y="6332"/>
                  <a:pt x="2108" y="6400"/>
                </a:cubicBezTo>
                <a:cubicBezTo>
                  <a:pt x="2154" y="6470"/>
                  <a:pt x="2159" y="6521"/>
                  <a:pt x="2133" y="6598"/>
                </a:cubicBezTo>
                <a:cubicBezTo>
                  <a:pt x="2116" y="6648"/>
                  <a:pt x="2010" y="6709"/>
                  <a:pt x="1960" y="6722"/>
                </a:cubicBezTo>
                <a:cubicBezTo>
                  <a:pt x="1894" y="6740"/>
                  <a:pt x="1852" y="6688"/>
                  <a:pt x="1811" y="6648"/>
                </a:cubicBezTo>
              </a:path>
              <a:path w="2878" h="1638">
                <a:moveTo>
                  <a:pt x="2208" y="5928"/>
                </a:moveTo>
                <a:cubicBezTo>
                  <a:pt x="2089" y="5793"/>
                  <a:pt x="2093" y="5788"/>
                  <a:pt x="1935" y="5755"/>
                </a:cubicBezTo>
                <a:cubicBezTo>
                  <a:pt x="1797" y="5726"/>
                  <a:pt x="1677" y="5734"/>
                  <a:pt x="1538" y="5779"/>
                </a:cubicBezTo>
                <a:cubicBezTo>
                  <a:pt x="1429" y="5814"/>
                  <a:pt x="1326" y="5879"/>
                  <a:pt x="1240" y="5953"/>
                </a:cubicBezTo>
                <a:cubicBezTo>
                  <a:pt x="1182" y="6003"/>
                  <a:pt x="1102" y="6084"/>
                  <a:pt x="1067" y="6152"/>
                </a:cubicBezTo>
                <a:cubicBezTo>
                  <a:pt x="1032" y="6219"/>
                  <a:pt x="1025" y="6352"/>
                  <a:pt x="1042" y="6424"/>
                </a:cubicBezTo>
                <a:cubicBezTo>
                  <a:pt x="1062" y="6513"/>
                  <a:pt x="1118" y="6617"/>
                  <a:pt x="1166" y="6697"/>
                </a:cubicBezTo>
                <a:cubicBezTo>
                  <a:pt x="1233" y="6809"/>
                  <a:pt x="1345" y="6891"/>
                  <a:pt x="1463" y="6945"/>
                </a:cubicBezTo>
                <a:cubicBezTo>
                  <a:pt x="1530" y="6976"/>
                  <a:pt x="1666" y="7006"/>
                  <a:pt x="1736" y="6995"/>
                </a:cubicBezTo>
                <a:cubicBezTo>
                  <a:pt x="1858" y="6975"/>
                  <a:pt x="1944" y="6939"/>
                  <a:pt x="2059" y="6896"/>
                </a:cubicBezTo>
                <a:cubicBezTo>
                  <a:pt x="2166" y="6856"/>
                  <a:pt x="2232" y="6801"/>
                  <a:pt x="2307" y="6722"/>
                </a:cubicBezTo>
                <a:cubicBezTo>
                  <a:pt x="2380" y="6644"/>
                  <a:pt x="2454" y="6555"/>
                  <a:pt x="2480" y="6449"/>
                </a:cubicBezTo>
                <a:cubicBezTo>
                  <a:pt x="2505" y="6348"/>
                  <a:pt x="2484" y="6275"/>
                  <a:pt x="2480" y="6176"/>
                </a:cubicBezTo>
                <a:cubicBezTo>
                  <a:pt x="2476" y="6075"/>
                  <a:pt x="2435" y="6037"/>
                  <a:pt x="2381" y="5953"/>
                </a:cubicBezTo>
                <a:cubicBezTo>
                  <a:pt x="2345" y="5897"/>
                  <a:pt x="2306" y="5823"/>
                  <a:pt x="2257" y="5779"/>
                </a:cubicBezTo>
                <a:cubicBezTo>
                  <a:pt x="2210" y="5738"/>
                  <a:pt x="2144" y="5691"/>
                  <a:pt x="2108" y="5655"/>
                </a:cubicBezTo>
              </a:path>
              <a:path w="2878" h="1638">
                <a:moveTo>
                  <a:pt x="2729" y="5779"/>
                </a:moveTo>
                <a:cubicBezTo>
                  <a:pt x="2694" y="5917"/>
                  <a:pt x="2667" y="6041"/>
                  <a:pt x="2629" y="6176"/>
                </a:cubicBezTo>
                <a:cubicBezTo>
                  <a:pt x="2598" y="6284"/>
                  <a:pt x="2590" y="6391"/>
                  <a:pt x="2555" y="6499"/>
                </a:cubicBezTo>
                <a:cubicBezTo>
                  <a:pt x="2532" y="6569"/>
                  <a:pt x="2517" y="6652"/>
                  <a:pt x="2505" y="6722"/>
                </a:cubicBezTo>
                <a:cubicBezTo>
                  <a:pt x="2505" y="6739"/>
                  <a:pt x="2505" y="6755"/>
                  <a:pt x="2505" y="6772"/>
                </a:cubicBezTo>
                <a:cubicBezTo>
                  <a:pt x="2505" y="6672"/>
                  <a:pt x="2507" y="6570"/>
                  <a:pt x="2530" y="6474"/>
                </a:cubicBezTo>
                <a:cubicBezTo>
                  <a:pt x="2560" y="6351"/>
                  <a:pt x="2615" y="6245"/>
                  <a:pt x="2654" y="6127"/>
                </a:cubicBezTo>
                <a:cubicBezTo>
                  <a:pt x="2691" y="6017"/>
                  <a:pt x="2704" y="5883"/>
                  <a:pt x="2753" y="5779"/>
                </a:cubicBezTo>
                <a:cubicBezTo>
                  <a:pt x="2803" y="5671"/>
                  <a:pt x="2873" y="5565"/>
                  <a:pt x="2927" y="5457"/>
                </a:cubicBezTo>
                <a:cubicBezTo>
                  <a:pt x="2950" y="5412"/>
                  <a:pt x="2967" y="5393"/>
                  <a:pt x="3001" y="5358"/>
                </a:cubicBezTo>
                <a:cubicBezTo>
                  <a:pt x="3052" y="5425"/>
                  <a:pt x="3065" y="5495"/>
                  <a:pt x="3076" y="5581"/>
                </a:cubicBezTo>
                <a:cubicBezTo>
                  <a:pt x="3089" y="5687"/>
                  <a:pt x="3097" y="5798"/>
                  <a:pt x="3101" y="5904"/>
                </a:cubicBezTo>
                <a:cubicBezTo>
                  <a:pt x="3106" y="6060"/>
                  <a:pt x="3182" y="6198"/>
                  <a:pt x="3200" y="6350"/>
                </a:cubicBezTo>
                <a:cubicBezTo>
                  <a:pt x="3211" y="6444"/>
                  <a:pt x="3244" y="6529"/>
                  <a:pt x="3249" y="6623"/>
                </a:cubicBezTo>
                <a:cubicBezTo>
                  <a:pt x="3252" y="6679"/>
                  <a:pt x="3310" y="6827"/>
                  <a:pt x="3299" y="6772"/>
                </a:cubicBezTo>
                <a:cubicBezTo>
                  <a:pt x="3280" y="6714"/>
                  <a:pt x="3271" y="6707"/>
                  <a:pt x="3274" y="6672"/>
                </a:cubicBezTo>
              </a:path>
              <a:path w="2878" h="1638">
                <a:moveTo>
                  <a:pt x="2679" y="6201"/>
                </a:moveTo>
                <a:cubicBezTo>
                  <a:pt x="2765" y="6184"/>
                  <a:pt x="2847" y="6156"/>
                  <a:pt x="2927" y="6152"/>
                </a:cubicBezTo>
                <a:cubicBezTo>
                  <a:pt x="3010" y="6152"/>
                  <a:pt x="3043" y="6152"/>
                  <a:pt x="3101" y="6152"/>
                </a:cubicBezTo>
              </a:path>
              <a:path w="2878" h="1638">
                <a:moveTo>
                  <a:pt x="3547" y="6176"/>
                </a:moveTo>
                <a:cubicBezTo>
                  <a:pt x="3650" y="6158"/>
                  <a:pt x="3746" y="6154"/>
                  <a:pt x="3845" y="6127"/>
                </a:cubicBezTo>
              </a:path>
              <a:path w="2878" h="1638">
                <a:moveTo>
                  <a:pt x="3597" y="6350"/>
                </a:moveTo>
                <a:cubicBezTo>
                  <a:pt x="3715" y="6350"/>
                  <a:pt x="3807" y="6335"/>
                  <a:pt x="3919" y="63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Ink 8"/>
          <p:cNvSpPr/>
          <p:nvPr/>
        </p:nvSpPr>
        <p:spPr>
          <a:xfrm>
            <a:off x="1589040" y="1990800"/>
            <a:ext cx="662040" cy="563400"/>
          </a:xfrm>
          <a:custGeom>
            <a:avLst/>
            <a:gdLst/>
            <a:ahLst/>
            <a:rect l="l" t="t" r="r" b="b"/>
            <a:pathLst>
              <a:path w="1837" h="1564">
                <a:moveTo>
                  <a:pt x="4490" y="5879"/>
                </a:moveTo>
                <a:cubicBezTo>
                  <a:pt x="4468" y="5960"/>
                  <a:pt x="4453" y="6047"/>
                  <a:pt x="4440" y="6127"/>
                </a:cubicBezTo>
                <a:cubicBezTo>
                  <a:pt x="4427" y="6211"/>
                  <a:pt x="4409" y="6399"/>
                  <a:pt x="4415" y="6474"/>
                </a:cubicBezTo>
                <a:cubicBezTo>
                  <a:pt x="4423" y="6571"/>
                  <a:pt x="4435" y="6646"/>
                  <a:pt x="4440" y="6747"/>
                </a:cubicBezTo>
                <a:cubicBezTo>
                  <a:pt x="4446" y="6862"/>
                  <a:pt x="4496" y="6710"/>
                  <a:pt x="4514" y="6672"/>
                </a:cubicBezTo>
              </a:path>
              <a:path w="1837" h="1564">
                <a:moveTo>
                  <a:pt x="4936" y="5904"/>
                </a:moveTo>
                <a:cubicBezTo>
                  <a:pt x="4911" y="5979"/>
                  <a:pt x="4907" y="6052"/>
                  <a:pt x="4887" y="6127"/>
                </a:cubicBezTo>
                <a:cubicBezTo>
                  <a:pt x="4860" y="6229"/>
                  <a:pt x="4848" y="6342"/>
                  <a:pt x="4862" y="6449"/>
                </a:cubicBezTo>
                <a:cubicBezTo>
                  <a:pt x="4873" y="6534"/>
                  <a:pt x="4887" y="6673"/>
                  <a:pt x="4936" y="6722"/>
                </a:cubicBezTo>
                <a:cubicBezTo>
                  <a:pt x="4975" y="6761"/>
                  <a:pt x="5081" y="6793"/>
                  <a:pt x="5135" y="6772"/>
                </a:cubicBezTo>
                <a:cubicBezTo>
                  <a:pt x="5192" y="6750"/>
                  <a:pt x="5272" y="6673"/>
                  <a:pt x="5308" y="6623"/>
                </a:cubicBezTo>
                <a:cubicBezTo>
                  <a:pt x="5365" y="6543"/>
                  <a:pt x="5379" y="6442"/>
                  <a:pt x="5383" y="6350"/>
                </a:cubicBezTo>
                <a:cubicBezTo>
                  <a:pt x="5387" y="6265"/>
                  <a:pt x="5387" y="6154"/>
                  <a:pt x="5358" y="6077"/>
                </a:cubicBezTo>
                <a:cubicBezTo>
                  <a:pt x="5314" y="5957"/>
                  <a:pt x="5245" y="5945"/>
                  <a:pt x="5135" y="5904"/>
                </a:cubicBezTo>
                <a:cubicBezTo>
                  <a:pt x="5126" y="5901"/>
                  <a:pt x="4909" y="5870"/>
                  <a:pt x="5011" y="5928"/>
                </a:cubicBezTo>
                <a:cubicBezTo>
                  <a:pt x="5019" y="5928"/>
                  <a:pt x="5027" y="5928"/>
                  <a:pt x="5035" y="5928"/>
                </a:cubicBezTo>
              </a:path>
              <a:path w="1837" h="1564">
                <a:moveTo>
                  <a:pt x="5531" y="5581"/>
                </a:moveTo>
                <a:cubicBezTo>
                  <a:pt x="5518" y="5629"/>
                  <a:pt x="5478" y="5772"/>
                  <a:pt x="5556" y="5804"/>
                </a:cubicBezTo>
                <a:cubicBezTo>
                  <a:pt x="5608" y="5826"/>
                  <a:pt x="5755" y="5775"/>
                  <a:pt x="5755" y="5705"/>
                </a:cubicBezTo>
                <a:cubicBezTo>
                  <a:pt x="5755" y="5633"/>
                  <a:pt x="5706" y="5549"/>
                  <a:pt x="5631" y="5531"/>
                </a:cubicBezTo>
                <a:cubicBezTo>
                  <a:pt x="5589" y="5531"/>
                  <a:pt x="5581" y="5531"/>
                  <a:pt x="5556" y="5531"/>
                </a:cubicBezTo>
              </a:path>
              <a:path w="1837" h="1564">
                <a:moveTo>
                  <a:pt x="6251" y="6697"/>
                </a:moveTo>
                <a:cubicBezTo>
                  <a:pt x="6244" y="6807"/>
                  <a:pt x="6246" y="6838"/>
                  <a:pt x="6201" y="6921"/>
                </a:cubicBezTo>
                <a:cubicBezTo>
                  <a:pt x="6173" y="6973"/>
                  <a:pt x="6133" y="6998"/>
                  <a:pt x="6102" y="7045"/>
                </a:cubicBezTo>
                <a:cubicBezTo>
                  <a:pt x="6094" y="7061"/>
                  <a:pt x="6085" y="7078"/>
                  <a:pt x="6077" y="70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Ink 9"/>
          <p:cNvSpPr/>
          <p:nvPr/>
        </p:nvSpPr>
        <p:spPr>
          <a:xfrm>
            <a:off x="2455920" y="2062080"/>
            <a:ext cx="679320" cy="376200"/>
          </a:xfrm>
          <a:custGeom>
            <a:avLst/>
            <a:gdLst/>
            <a:ahLst/>
            <a:rect l="l" t="t" r="r" b="b"/>
            <a:pathLst>
              <a:path w="1886" h="1043">
                <a:moveTo>
                  <a:pt x="7144" y="6325"/>
                </a:moveTo>
                <a:cubicBezTo>
                  <a:pt x="7135" y="6263"/>
                  <a:pt x="7121" y="6206"/>
                  <a:pt x="7094" y="6152"/>
                </a:cubicBezTo>
                <a:cubicBezTo>
                  <a:pt x="7061" y="6087"/>
                  <a:pt x="7037" y="6049"/>
                  <a:pt x="6970" y="6102"/>
                </a:cubicBezTo>
                <a:cubicBezTo>
                  <a:pt x="6865" y="6186"/>
                  <a:pt x="6827" y="6347"/>
                  <a:pt x="6821" y="6474"/>
                </a:cubicBezTo>
                <a:cubicBezTo>
                  <a:pt x="6818" y="6545"/>
                  <a:pt x="6803" y="6643"/>
                  <a:pt x="6846" y="6697"/>
                </a:cubicBezTo>
                <a:cubicBezTo>
                  <a:pt x="6894" y="6757"/>
                  <a:pt x="6953" y="6769"/>
                  <a:pt x="7020" y="6722"/>
                </a:cubicBezTo>
                <a:cubicBezTo>
                  <a:pt x="7104" y="6664"/>
                  <a:pt x="7136" y="6622"/>
                  <a:pt x="7169" y="6524"/>
                </a:cubicBezTo>
                <a:cubicBezTo>
                  <a:pt x="7193" y="6453"/>
                  <a:pt x="7183" y="6384"/>
                  <a:pt x="7218" y="6325"/>
                </a:cubicBezTo>
                <a:cubicBezTo>
                  <a:pt x="7218" y="6414"/>
                  <a:pt x="7230" y="6491"/>
                  <a:pt x="7243" y="6573"/>
                </a:cubicBezTo>
                <a:cubicBezTo>
                  <a:pt x="7259" y="6674"/>
                  <a:pt x="7288" y="6686"/>
                  <a:pt x="7367" y="6747"/>
                </a:cubicBezTo>
                <a:cubicBezTo>
                  <a:pt x="7397" y="6777"/>
                  <a:pt x="7411" y="6782"/>
                  <a:pt x="7441" y="6747"/>
                </a:cubicBezTo>
              </a:path>
              <a:path w="1886" h="1043">
                <a:moveTo>
                  <a:pt x="7615" y="6276"/>
                </a:moveTo>
                <a:cubicBezTo>
                  <a:pt x="7706" y="6276"/>
                  <a:pt x="7797" y="6276"/>
                  <a:pt x="7888" y="6276"/>
                </a:cubicBezTo>
              </a:path>
              <a:path w="1886" h="1043">
                <a:moveTo>
                  <a:pt x="7615" y="6449"/>
                </a:moveTo>
                <a:cubicBezTo>
                  <a:pt x="7705" y="6449"/>
                  <a:pt x="7779" y="6438"/>
                  <a:pt x="7863" y="6424"/>
                </a:cubicBezTo>
                <a:cubicBezTo>
                  <a:pt x="7908" y="6424"/>
                  <a:pt x="7921" y="6428"/>
                  <a:pt x="7938" y="6400"/>
                </a:cubicBezTo>
              </a:path>
              <a:path w="1886" h="1043">
                <a:moveTo>
                  <a:pt x="8210" y="5953"/>
                </a:moveTo>
                <a:cubicBezTo>
                  <a:pt x="8181" y="6004"/>
                  <a:pt x="8165" y="6064"/>
                  <a:pt x="8161" y="6127"/>
                </a:cubicBezTo>
                <a:cubicBezTo>
                  <a:pt x="8157" y="6204"/>
                  <a:pt x="8142" y="6298"/>
                  <a:pt x="8235" y="6325"/>
                </a:cubicBezTo>
                <a:cubicBezTo>
                  <a:pt x="8297" y="6343"/>
                  <a:pt x="8386" y="6324"/>
                  <a:pt x="8434" y="6300"/>
                </a:cubicBezTo>
                <a:cubicBezTo>
                  <a:pt x="8474" y="6280"/>
                  <a:pt x="8490" y="6282"/>
                  <a:pt x="8483" y="6251"/>
                </a:cubicBezTo>
              </a:path>
              <a:path w="1886" h="1043">
                <a:moveTo>
                  <a:pt x="8533" y="5730"/>
                </a:moveTo>
                <a:cubicBezTo>
                  <a:pt x="8521" y="5811"/>
                  <a:pt x="8508" y="5858"/>
                  <a:pt x="8508" y="5953"/>
                </a:cubicBezTo>
                <a:cubicBezTo>
                  <a:pt x="8508" y="6043"/>
                  <a:pt x="8494" y="6119"/>
                  <a:pt x="8483" y="6201"/>
                </a:cubicBezTo>
                <a:cubicBezTo>
                  <a:pt x="8463" y="6352"/>
                  <a:pt x="8483" y="6520"/>
                  <a:pt x="8483" y="6672"/>
                </a:cubicBezTo>
              </a:path>
              <a:path w="1886" h="1043">
                <a:moveTo>
                  <a:pt x="8706" y="6548"/>
                </a:moveTo>
                <a:lnTo>
                  <a:pt x="8706" y="6548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Ink 10"/>
          <p:cNvSpPr/>
          <p:nvPr/>
        </p:nvSpPr>
        <p:spPr>
          <a:xfrm>
            <a:off x="3330720" y="2062080"/>
            <a:ext cx="285480" cy="403200"/>
          </a:xfrm>
          <a:custGeom>
            <a:avLst/>
            <a:gdLst/>
            <a:ahLst/>
            <a:rect l="l" t="t" r="r" b="b"/>
            <a:pathLst>
              <a:path w="795" h="1117">
                <a:moveTo>
                  <a:pt x="9252" y="5829"/>
                </a:moveTo>
                <a:cubicBezTo>
                  <a:pt x="9344" y="5779"/>
                  <a:pt x="9372" y="5779"/>
                  <a:pt x="9475" y="5779"/>
                </a:cubicBezTo>
                <a:cubicBezTo>
                  <a:pt x="9566" y="5779"/>
                  <a:pt x="9653" y="5755"/>
                  <a:pt x="9748" y="5755"/>
                </a:cubicBezTo>
                <a:cubicBezTo>
                  <a:pt x="9793" y="5755"/>
                  <a:pt x="9806" y="5758"/>
                  <a:pt x="9823" y="5730"/>
                </a:cubicBezTo>
              </a:path>
              <a:path w="795" h="1117">
                <a:moveTo>
                  <a:pt x="9401" y="5804"/>
                </a:moveTo>
                <a:cubicBezTo>
                  <a:pt x="9326" y="5880"/>
                  <a:pt x="9290" y="5901"/>
                  <a:pt x="9277" y="6003"/>
                </a:cubicBezTo>
                <a:cubicBezTo>
                  <a:pt x="9334" y="6003"/>
                  <a:pt x="9404" y="6002"/>
                  <a:pt x="9451" y="5978"/>
                </a:cubicBezTo>
                <a:cubicBezTo>
                  <a:pt x="9505" y="5950"/>
                  <a:pt x="9563" y="5934"/>
                  <a:pt x="9624" y="5978"/>
                </a:cubicBezTo>
                <a:cubicBezTo>
                  <a:pt x="9674" y="6015"/>
                  <a:pt x="9717" y="6076"/>
                  <a:pt x="9748" y="6127"/>
                </a:cubicBezTo>
                <a:cubicBezTo>
                  <a:pt x="9788" y="6194"/>
                  <a:pt x="9817" y="6270"/>
                  <a:pt x="9798" y="6350"/>
                </a:cubicBezTo>
                <a:cubicBezTo>
                  <a:pt x="9780" y="6426"/>
                  <a:pt x="9695" y="6485"/>
                  <a:pt x="9624" y="6499"/>
                </a:cubicBezTo>
                <a:cubicBezTo>
                  <a:pt x="9558" y="6512"/>
                  <a:pt x="9485" y="6519"/>
                  <a:pt x="9500" y="6474"/>
                </a:cubicBezTo>
              </a:path>
              <a:path w="795" h="1117">
                <a:moveTo>
                  <a:pt x="10046" y="6548"/>
                </a:moveTo>
                <a:cubicBezTo>
                  <a:pt x="10027" y="6636"/>
                  <a:pt x="9990" y="6712"/>
                  <a:pt x="9971" y="6796"/>
                </a:cubicBezTo>
                <a:cubicBezTo>
                  <a:pt x="9971" y="6838"/>
                  <a:pt x="9963" y="6854"/>
                  <a:pt x="9996" y="68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Ink 11"/>
          <p:cNvSpPr/>
          <p:nvPr/>
        </p:nvSpPr>
        <p:spPr>
          <a:xfrm>
            <a:off x="3821040" y="1973160"/>
            <a:ext cx="1127160" cy="420840"/>
          </a:xfrm>
          <a:custGeom>
            <a:avLst/>
            <a:gdLst/>
            <a:ahLst/>
            <a:rect l="l" t="t" r="r" b="b"/>
            <a:pathLst>
              <a:path w="3127" h="1167">
                <a:moveTo>
                  <a:pt x="10666" y="5978"/>
                </a:moveTo>
                <a:cubicBezTo>
                  <a:pt x="10659" y="6085"/>
                  <a:pt x="10665" y="6221"/>
                  <a:pt x="10641" y="6325"/>
                </a:cubicBezTo>
                <a:cubicBezTo>
                  <a:pt x="10622" y="6410"/>
                  <a:pt x="10616" y="6480"/>
                  <a:pt x="10616" y="6573"/>
                </a:cubicBezTo>
                <a:cubicBezTo>
                  <a:pt x="10616" y="6618"/>
                  <a:pt x="10613" y="6631"/>
                  <a:pt x="10641" y="6648"/>
                </a:cubicBezTo>
                <a:cubicBezTo>
                  <a:pt x="10661" y="6549"/>
                  <a:pt x="10686" y="6449"/>
                  <a:pt x="10691" y="6350"/>
                </a:cubicBezTo>
                <a:cubicBezTo>
                  <a:pt x="10696" y="6265"/>
                  <a:pt x="10730" y="6183"/>
                  <a:pt x="10740" y="6102"/>
                </a:cubicBezTo>
                <a:cubicBezTo>
                  <a:pt x="10751" y="6014"/>
                  <a:pt x="10763" y="5940"/>
                  <a:pt x="10790" y="5854"/>
                </a:cubicBezTo>
                <a:cubicBezTo>
                  <a:pt x="10818" y="5764"/>
                  <a:pt x="10870" y="5645"/>
                  <a:pt x="10964" y="5606"/>
                </a:cubicBezTo>
                <a:cubicBezTo>
                  <a:pt x="11018" y="5584"/>
                  <a:pt x="11091" y="5569"/>
                  <a:pt x="11137" y="5606"/>
                </a:cubicBezTo>
                <a:cubicBezTo>
                  <a:pt x="11182" y="5642"/>
                  <a:pt x="11209" y="5723"/>
                  <a:pt x="11187" y="5779"/>
                </a:cubicBezTo>
                <a:cubicBezTo>
                  <a:pt x="11155" y="5861"/>
                  <a:pt x="11155" y="5892"/>
                  <a:pt x="11088" y="5953"/>
                </a:cubicBezTo>
                <a:cubicBezTo>
                  <a:pt x="11034" y="6002"/>
                  <a:pt x="10976" y="6062"/>
                  <a:pt x="10914" y="6102"/>
                </a:cubicBezTo>
                <a:cubicBezTo>
                  <a:pt x="10860" y="6137"/>
                  <a:pt x="10849" y="6144"/>
                  <a:pt x="10790" y="6152"/>
                </a:cubicBezTo>
                <a:cubicBezTo>
                  <a:pt x="10846" y="6107"/>
                  <a:pt x="10892" y="6081"/>
                  <a:pt x="10964" y="6077"/>
                </a:cubicBezTo>
                <a:cubicBezTo>
                  <a:pt x="11029" y="6073"/>
                  <a:pt x="11121" y="6096"/>
                  <a:pt x="11162" y="6152"/>
                </a:cubicBezTo>
                <a:cubicBezTo>
                  <a:pt x="11205" y="6211"/>
                  <a:pt x="11224" y="6354"/>
                  <a:pt x="11212" y="6424"/>
                </a:cubicBezTo>
                <a:cubicBezTo>
                  <a:pt x="11205" y="6467"/>
                  <a:pt x="11155" y="6553"/>
                  <a:pt x="11112" y="6573"/>
                </a:cubicBezTo>
                <a:cubicBezTo>
                  <a:pt x="11053" y="6601"/>
                  <a:pt x="10932" y="6650"/>
                  <a:pt x="10864" y="6623"/>
                </a:cubicBezTo>
                <a:cubicBezTo>
                  <a:pt x="10830" y="6588"/>
                  <a:pt x="10826" y="6566"/>
                  <a:pt x="10864" y="6524"/>
                </a:cubicBezTo>
              </a:path>
              <a:path w="3127" h="1167">
                <a:moveTo>
                  <a:pt x="11534" y="6152"/>
                </a:moveTo>
                <a:cubicBezTo>
                  <a:pt x="11650" y="6152"/>
                  <a:pt x="11744" y="6136"/>
                  <a:pt x="11857" y="6127"/>
                </a:cubicBezTo>
              </a:path>
              <a:path w="3127" h="1167">
                <a:moveTo>
                  <a:pt x="11584" y="6375"/>
                </a:moveTo>
                <a:cubicBezTo>
                  <a:pt x="11673" y="6375"/>
                  <a:pt x="11748" y="6382"/>
                  <a:pt x="11832" y="6350"/>
                </a:cubicBezTo>
                <a:cubicBezTo>
                  <a:pt x="11848" y="6342"/>
                  <a:pt x="11865" y="6333"/>
                  <a:pt x="11881" y="6325"/>
                </a:cubicBezTo>
              </a:path>
              <a:path w="3127" h="1167">
                <a:moveTo>
                  <a:pt x="12303" y="5606"/>
                </a:moveTo>
                <a:cubicBezTo>
                  <a:pt x="12295" y="5670"/>
                  <a:pt x="12291" y="5740"/>
                  <a:pt x="12278" y="5804"/>
                </a:cubicBezTo>
                <a:cubicBezTo>
                  <a:pt x="12251" y="5932"/>
                  <a:pt x="12198" y="6047"/>
                  <a:pt x="12179" y="6176"/>
                </a:cubicBezTo>
                <a:cubicBezTo>
                  <a:pt x="12164" y="6281"/>
                  <a:pt x="12121" y="6424"/>
                  <a:pt x="12179" y="6524"/>
                </a:cubicBezTo>
                <a:cubicBezTo>
                  <a:pt x="12195" y="6551"/>
                  <a:pt x="12242" y="6638"/>
                  <a:pt x="12278" y="6648"/>
                </a:cubicBezTo>
                <a:cubicBezTo>
                  <a:pt x="12367" y="6674"/>
                  <a:pt x="12433" y="6614"/>
                  <a:pt x="12502" y="6573"/>
                </a:cubicBezTo>
                <a:cubicBezTo>
                  <a:pt x="12583" y="6525"/>
                  <a:pt x="12645" y="6490"/>
                  <a:pt x="12675" y="6400"/>
                </a:cubicBezTo>
                <a:cubicBezTo>
                  <a:pt x="12701" y="6322"/>
                  <a:pt x="12731" y="6210"/>
                  <a:pt x="12650" y="6152"/>
                </a:cubicBezTo>
                <a:cubicBezTo>
                  <a:pt x="12584" y="6105"/>
                  <a:pt x="12535" y="6169"/>
                  <a:pt x="12502" y="6226"/>
                </a:cubicBezTo>
                <a:cubicBezTo>
                  <a:pt x="12470" y="6281"/>
                  <a:pt x="12455" y="6361"/>
                  <a:pt x="12452" y="6424"/>
                </a:cubicBezTo>
                <a:cubicBezTo>
                  <a:pt x="12449" y="6484"/>
                  <a:pt x="12434" y="6567"/>
                  <a:pt x="12502" y="6598"/>
                </a:cubicBezTo>
                <a:cubicBezTo>
                  <a:pt x="12510" y="6598"/>
                  <a:pt x="12518" y="6598"/>
                  <a:pt x="12526" y="6598"/>
                </a:cubicBezTo>
              </a:path>
              <a:path w="3127" h="1167">
                <a:moveTo>
                  <a:pt x="12874" y="5680"/>
                </a:moveTo>
                <a:cubicBezTo>
                  <a:pt x="12836" y="5775"/>
                  <a:pt x="12811" y="5881"/>
                  <a:pt x="12799" y="5978"/>
                </a:cubicBezTo>
                <a:cubicBezTo>
                  <a:pt x="12782" y="6120"/>
                  <a:pt x="12807" y="6267"/>
                  <a:pt x="12824" y="6400"/>
                </a:cubicBezTo>
                <a:cubicBezTo>
                  <a:pt x="12833" y="6472"/>
                  <a:pt x="12829" y="6529"/>
                  <a:pt x="12898" y="6573"/>
                </a:cubicBezTo>
                <a:cubicBezTo>
                  <a:pt x="12959" y="6613"/>
                  <a:pt x="13084" y="6611"/>
                  <a:pt x="13146" y="6573"/>
                </a:cubicBezTo>
                <a:cubicBezTo>
                  <a:pt x="13239" y="6516"/>
                  <a:pt x="13284" y="6421"/>
                  <a:pt x="13320" y="6325"/>
                </a:cubicBezTo>
                <a:cubicBezTo>
                  <a:pt x="13366" y="6203"/>
                  <a:pt x="13362" y="6150"/>
                  <a:pt x="13345" y="6028"/>
                </a:cubicBezTo>
                <a:cubicBezTo>
                  <a:pt x="13332" y="5934"/>
                  <a:pt x="13303" y="5858"/>
                  <a:pt x="13246" y="5779"/>
                </a:cubicBezTo>
                <a:cubicBezTo>
                  <a:pt x="13195" y="5708"/>
                  <a:pt x="13164" y="5678"/>
                  <a:pt x="13072" y="5655"/>
                </a:cubicBezTo>
                <a:cubicBezTo>
                  <a:pt x="13044" y="5655"/>
                  <a:pt x="13033" y="5657"/>
                  <a:pt x="13022" y="5680"/>
                </a:cubicBezTo>
              </a:path>
              <a:path w="3127" h="1167">
                <a:moveTo>
                  <a:pt x="13494" y="5556"/>
                </a:moveTo>
                <a:cubicBezTo>
                  <a:pt x="13477" y="5623"/>
                  <a:pt x="13477" y="5684"/>
                  <a:pt x="13568" y="5705"/>
                </a:cubicBezTo>
                <a:cubicBezTo>
                  <a:pt x="13625" y="5719"/>
                  <a:pt x="13724" y="5661"/>
                  <a:pt x="13742" y="5606"/>
                </a:cubicBezTo>
                <a:cubicBezTo>
                  <a:pt x="13768" y="5528"/>
                  <a:pt x="13703" y="5486"/>
                  <a:pt x="13643" y="5482"/>
                </a:cubicBezTo>
                <a:cubicBezTo>
                  <a:pt x="13601" y="5482"/>
                  <a:pt x="13593" y="5482"/>
                  <a:pt x="13568" y="54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Ink 12"/>
          <p:cNvSpPr/>
          <p:nvPr/>
        </p:nvSpPr>
        <p:spPr>
          <a:xfrm>
            <a:off x="366840" y="3036960"/>
            <a:ext cx="1884240" cy="527040"/>
          </a:xfrm>
          <a:custGeom>
            <a:avLst/>
            <a:gdLst/>
            <a:ahLst/>
            <a:rect l="l" t="t" r="r" b="b"/>
            <a:pathLst>
              <a:path w="5235" h="1464">
                <a:moveTo>
                  <a:pt x="1488" y="8806"/>
                </a:moveTo>
                <a:cubicBezTo>
                  <a:pt x="1570" y="8806"/>
                  <a:pt x="1635" y="8785"/>
                  <a:pt x="1712" y="8781"/>
                </a:cubicBezTo>
                <a:cubicBezTo>
                  <a:pt x="1800" y="8776"/>
                  <a:pt x="1813" y="8803"/>
                  <a:pt x="1860" y="8731"/>
                </a:cubicBezTo>
              </a:path>
              <a:path w="5235" h="1464">
                <a:moveTo>
                  <a:pt x="1538" y="8781"/>
                </a:moveTo>
                <a:cubicBezTo>
                  <a:pt x="1530" y="8862"/>
                  <a:pt x="1513" y="8918"/>
                  <a:pt x="1513" y="9004"/>
                </a:cubicBezTo>
                <a:cubicBezTo>
                  <a:pt x="1513" y="9029"/>
                  <a:pt x="1513" y="9054"/>
                  <a:pt x="1513" y="9079"/>
                </a:cubicBezTo>
                <a:cubicBezTo>
                  <a:pt x="1543" y="9026"/>
                  <a:pt x="1582" y="8981"/>
                  <a:pt x="1637" y="8954"/>
                </a:cubicBezTo>
                <a:cubicBezTo>
                  <a:pt x="1725" y="8911"/>
                  <a:pt x="1776" y="8969"/>
                  <a:pt x="1836" y="9004"/>
                </a:cubicBezTo>
                <a:cubicBezTo>
                  <a:pt x="1880" y="9030"/>
                  <a:pt x="1929" y="9101"/>
                  <a:pt x="1935" y="9153"/>
                </a:cubicBezTo>
                <a:cubicBezTo>
                  <a:pt x="1943" y="9222"/>
                  <a:pt x="1943" y="9343"/>
                  <a:pt x="1910" y="9376"/>
                </a:cubicBezTo>
                <a:cubicBezTo>
                  <a:pt x="1872" y="9413"/>
                  <a:pt x="1789" y="9445"/>
                  <a:pt x="1736" y="9451"/>
                </a:cubicBezTo>
                <a:cubicBezTo>
                  <a:pt x="1672" y="9458"/>
                  <a:pt x="1637" y="9386"/>
                  <a:pt x="1662" y="9327"/>
                </a:cubicBezTo>
                <a:cubicBezTo>
                  <a:pt x="1685" y="9304"/>
                  <a:pt x="1689" y="9296"/>
                  <a:pt x="1712" y="9302"/>
                </a:cubicBezTo>
              </a:path>
              <a:path w="5235" h="1464">
                <a:moveTo>
                  <a:pt x="2108" y="8706"/>
                </a:moveTo>
                <a:cubicBezTo>
                  <a:pt x="2068" y="8642"/>
                  <a:pt x="2023" y="8527"/>
                  <a:pt x="1960" y="8483"/>
                </a:cubicBezTo>
                <a:cubicBezTo>
                  <a:pt x="1901" y="8442"/>
                  <a:pt x="1816" y="8434"/>
                  <a:pt x="1736" y="8434"/>
                </a:cubicBezTo>
                <a:cubicBezTo>
                  <a:pt x="1646" y="8434"/>
                  <a:pt x="1510" y="8438"/>
                  <a:pt x="1439" y="8483"/>
                </a:cubicBezTo>
                <a:cubicBezTo>
                  <a:pt x="1387" y="8516"/>
                  <a:pt x="1193" y="8654"/>
                  <a:pt x="1166" y="8706"/>
                </a:cubicBezTo>
                <a:cubicBezTo>
                  <a:pt x="1111" y="8813"/>
                  <a:pt x="1042" y="8957"/>
                  <a:pt x="1017" y="9079"/>
                </a:cubicBezTo>
                <a:cubicBezTo>
                  <a:pt x="996" y="9181"/>
                  <a:pt x="1065" y="9295"/>
                  <a:pt x="1116" y="9376"/>
                </a:cubicBezTo>
                <a:cubicBezTo>
                  <a:pt x="1161" y="9447"/>
                  <a:pt x="1214" y="9556"/>
                  <a:pt x="1290" y="9599"/>
                </a:cubicBezTo>
                <a:cubicBezTo>
                  <a:pt x="1343" y="9629"/>
                  <a:pt x="1477" y="9687"/>
                  <a:pt x="1538" y="9699"/>
                </a:cubicBezTo>
                <a:cubicBezTo>
                  <a:pt x="1642" y="9720"/>
                  <a:pt x="1738" y="9685"/>
                  <a:pt x="1836" y="9674"/>
                </a:cubicBezTo>
                <a:cubicBezTo>
                  <a:pt x="1932" y="9663"/>
                  <a:pt x="2023" y="9602"/>
                  <a:pt x="2084" y="9525"/>
                </a:cubicBezTo>
                <a:cubicBezTo>
                  <a:pt x="2159" y="9430"/>
                  <a:pt x="2229" y="9345"/>
                  <a:pt x="2257" y="9227"/>
                </a:cubicBezTo>
                <a:cubicBezTo>
                  <a:pt x="2278" y="9137"/>
                  <a:pt x="2249" y="9010"/>
                  <a:pt x="2208" y="8930"/>
                </a:cubicBezTo>
                <a:cubicBezTo>
                  <a:pt x="2185" y="8886"/>
                  <a:pt x="2119" y="8766"/>
                  <a:pt x="2084" y="8731"/>
                </a:cubicBezTo>
                <a:cubicBezTo>
                  <a:pt x="2043" y="8689"/>
                  <a:pt x="1934" y="8676"/>
                  <a:pt x="1885" y="8657"/>
                </a:cubicBezTo>
                <a:cubicBezTo>
                  <a:pt x="1837" y="8633"/>
                  <a:pt x="1823" y="8624"/>
                  <a:pt x="1786" y="8632"/>
                </a:cubicBezTo>
              </a:path>
              <a:path w="5235" h="1464">
                <a:moveTo>
                  <a:pt x="2729" y="8806"/>
                </a:moveTo>
                <a:cubicBezTo>
                  <a:pt x="2719" y="8896"/>
                  <a:pt x="2697" y="8990"/>
                  <a:pt x="2679" y="9079"/>
                </a:cubicBezTo>
                <a:cubicBezTo>
                  <a:pt x="2658" y="9181"/>
                  <a:pt x="2613" y="9277"/>
                  <a:pt x="2580" y="9376"/>
                </a:cubicBezTo>
                <a:cubicBezTo>
                  <a:pt x="2540" y="9496"/>
                  <a:pt x="2519" y="9634"/>
                  <a:pt x="2480" y="9748"/>
                </a:cubicBezTo>
                <a:cubicBezTo>
                  <a:pt x="2454" y="9824"/>
                  <a:pt x="2425" y="9846"/>
                  <a:pt x="2456" y="9748"/>
                </a:cubicBezTo>
                <a:cubicBezTo>
                  <a:pt x="2487" y="9649"/>
                  <a:pt x="2528" y="9549"/>
                  <a:pt x="2555" y="9451"/>
                </a:cubicBezTo>
                <a:cubicBezTo>
                  <a:pt x="2595" y="9308"/>
                  <a:pt x="2647" y="9150"/>
                  <a:pt x="2679" y="9004"/>
                </a:cubicBezTo>
                <a:cubicBezTo>
                  <a:pt x="2708" y="8871"/>
                  <a:pt x="2719" y="8762"/>
                  <a:pt x="2803" y="8657"/>
                </a:cubicBezTo>
                <a:cubicBezTo>
                  <a:pt x="2835" y="8617"/>
                  <a:pt x="2848" y="8502"/>
                  <a:pt x="2902" y="8483"/>
                </a:cubicBezTo>
                <a:cubicBezTo>
                  <a:pt x="2919" y="8483"/>
                  <a:pt x="2935" y="8483"/>
                  <a:pt x="2952" y="8483"/>
                </a:cubicBezTo>
                <a:cubicBezTo>
                  <a:pt x="2993" y="8535"/>
                  <a:pt x="3014" y="8590"/>
                  <a:pt x="3026" y="8657"/>
                </a:cubicBezTo>
                <a:cubicBezTo>
                  <a:pt x="3042" y="8745"/>
                  <a:pt x="3068" y="8842"/>
                  <a:pt x="3076" y="8930"/>
                </a:cubicBezTo>
                <a:cubicBezTo>
                  <a:pt x="3088" y="9058"/>
                  <a:pt x="3111" y="9176"/>
                  <a:pt x="3150" y="9302"/>
                </a:cubicBezTo>
                <a:cubicBezTo>
                  <a:pt x="3183" y="9408"/>
                  <a:pt x="3219" y="9493"/>
                  <a:pt x="3249" y="9599"/>
                </a:cubicBezTo>
                <a:cubicBezTo>
                  <a:pt x="3283" y="9717"/>
                  <a:pt x="3262" y="9766"/>
                  <a:pt x="3324" y="9674"/>
                </a:cubicBezTo>
              </a:path>
              <a:path w="5235" h="1464">
                <a:moveTo>
                  <a:pt x="2679" y="9227"/>
                </a:moveTo>
                <a:cubicBezTo>
                  <a:pt x="2837" y="9227"/>
                  <a:pt x="2988" y="9252"/>
                  <a:pt x="3125" y="9178"/>
                </a:cubicBezTo>
              </a:path>
              <a:path w="5235" h="1464">
                <a:moveTo>
                  <a:pt x="3572" y="9153"/>
                </a:moveTo>
                <a:cubicBezTo>
                  <a:pt x="3655" y="9153"/>
                  <a:pt x="3737" y="9153"/>
                  <a:pt x="3820" y="9153"/>
                </a:cubicBezTo>
              </a:path>
              <a:path w="5235" h="1464">
                <a:moveTo>
                  <a:pt x="3572" y="9302"/>
                </a:moveTo>
                <a:cubicBezTo>
                  <a:pt x="3637" y="9313"/>
                  <a:pt x="3727" y="9352"/>
                  <a:pt x="3795" y="9327"/>
                </a:cubicBezTo>
                <a:cubicBezTo>
                  <a:pt x="3829" y="9293"/>
                  <a:pt x="3850" y="9285"/>
                  <a:pt x="3894" y="9302"/>
                </a:cubicBezTo>
              </a:path>
              <a:path w="5235" h="1464">
                <a:moveTo>
                  <a:pt x="4316" y="8855"/>
                </a:moveTo>
                <a:cubicBezTo>
                  <a:pt x="4371" y="8794"/>
                  <a:pt x="4436" y="8757"/>
                  <a:pt x="4514" y="8731"/>
                </a:cubicBezTo>
                <a:cubicBezTo>
                  <a:pt x="4580" y="8709"/>
                  <a:pt x="4713" y="8790"/>
                  <a:pt x="4713" y="8855"/>
                </a:cubicBezTo>
                <a:cubicBezTo>
                  <a:pt x="4713" y="8926"/>
                  <a:pt x="4592" y="9051"/>
                  <a:pt x="4539" y="9079"/>
                </a:cubicBezTo>
                <a:cubicBezTo>
                  <a:pt x="4473" y="9114"/>
                  <a:pt x="4289" y="9099"/>
                  <a:pt x="4341" y="9153"/>
                </a:cubicBezTo>
                <a:cubicBezTo>
                  <a:pt x="4377" y="9191"/>
                  <a:pt x="4551" y="9141"/>
                  <a:pt x="4614" y="9178"/>
                </a:cubicBezTo>
                <a:cubicBezTo>
                  <a:pt x="4700" y="9229"/>
                  <a:pt x="4722" y="9237"/>
                  <a:pt x="4762" y="9327"/>
                </a:cubicBezTo>
                <a:cubicBezTo>
                  <a:pt x="4806" y="9426"/>
                  <a:pt x="4838" y="9497"/>
                  <a:pt x="4787" y="9599"/>
                </a:cubicBezTo>
                <a:cubicBezTo>
                  <a:pt x="4762" y="9648"/>
                  <a:pt x="4690" y="9728"/>
                  <a:pt x="4638" y="9748"/>
                </a:cubicBezTo>
                <a:cubicBezTo>
                  <a:pt x="4580" y="9771"/>
                  <a:pt x="4505" y="9773"/>
                  <a:pt x="4440" y="9773"/>
                </a:cubicBezTo>
                <a:cubicBezTo>
                  <a:pt x="4366" y="9773"/>
                  <a:pt x="4355" y="9743"/>
                  <a:pt x="4341" y="9674"/>
                </a:cubicBezTo>
              </a:path>
              <a:path w="5235" h="1464">
                <a:moveTo>
                  <a:pt x="5085" y="8731"/>
                </a:moveTo>
                <a:cubicBezTo>
                  <a:pt x="5085" y="8833"/>
                  <a:pt x="5095" y="8932"/>
                  <a:pt x="5060" y="9029"/>
                </a:cubicBezTo>
                <a:cubicBezTo>
                  <a:pt x="5025" y="9126"/>
                  <a:pt x="4997" y="9269"/>
                  <a:pt x="4986" y="9376"/>
                </a:cubicBezTo>
                <a:cubicBezTo>
                  <a:pt x="4976" y="9468"/>
                  <a:pt x="4997" y="9556"/>
                  <a:pt x="5060" y="9624"/>
                </a:cubicBezTo>
                <a:cubicBezTo>
                  <a:pt x="5128" y="9697"/>
                  <a:pt x="5139" y="9739"/>
                  <a:pt x="5234" y="9748"/>
                </a:cubicBezTo>
                <a:cubicBezTo>
                  <a:pt x="5322" y="9757"/>
                  <a:pt x="5330" y="9704"/>
                  <a:pt x="5407" y="9674"/>
                </a:cubicBezTo>
                <a:cubicBezTo>
                  <a:pt x="5466" y="9651"/>
                  <a:pt x="5479" y="9583"/>
                  <a:pt x="5482" y="9525"/>
                </a:cubicBezTo>
                <a:cubicBezTo>
                  <a:pt x="5486" y="9454"/>
                  <a:pt x="5448" y="9409"/>
                  <a:pt x="5383" y="9401"/>
                </a:cubicBezTo>
                <a:cubicBezTo>
                  <a:pt x="5329" y="9395"/>
                  <a:pt x="5269" y="9469"/>
                  <a:pt x="5259" y="9525"/>
                </a:cubicBezTo>
                <a:cubicBezTo>
                  <a:pt x="5256" y="9541"/>
                  <a:pt x="5209" y="9699"/>
                  <a:pt x="5259" y="9699"/>
                </a:cubicBezTo>
                <a:cubicBezTo>
                  <a:pt x="5275" y="9691"/>
                  <a:pt x="5292" y="9682"/>
                  <a:pt x="5308" y="9674"/>
                </a:cubicBezTo>
              </a:path>
              <a:path w="5235" h="1464">
                <a:moveTo>
                  <a:pt x="5680" y="8508"/>
                </a:moveTo>
                <a:cubicBezTo>
                  <a:pt x="5657" y="8578"/>
                  <a:pt x="5635" y="8639"/>
                  <a:pt x="5680" y="8706"/>
                </a:cubicBezTo>
                <a:cubicBezTo>
                  <a:pt x="5706" y="8744"/>
                  <a:pt x="5855" y="8735"/>
                  <a:pt x="5879" y="8706"/>
                </a:cubicBezTo>
                <a:cubicBezTo>
                  <a:pt x="5934" y="8640"/>
                  <a:pt x="5902" y="8537"/>
                  <a:pt x="5854" y="8483"/>
                </a:cubicBezTo>
                <a:cubicBezTo>
                  <a:pt x="5793" y="8415"/>
                  <a:pt x="5766" y="8403"/>
                  <a:pt x="5779" y="8483"/>
                </a:cubicBezTo>
              </a:path>
              <a:path w="5235" h="1464">
                <a:moveTo>
                  <a:pt x="6251" y="9451"/>
                </a:moveTo>
                <a:cubicBezTo>
                  <a:pt x="6251" y="9534"/>
                  <a:pt x="6213" y="9594"/>
                  <a:pt x="6201" y="9674"/>
                </a:cubicBezTo>
                <a:cubicBezTo>
                  <a:pt x="6190" y="9750"/>
                  <a:pt x="6184" y="9774"/>
                  <a:pt x="6127" y="9823"/>
                </a:cubicBezTo>
                <a:cubicBezTo>
                  <a:pt x="6089" y="9856"/>
                  <a:pt x="6037" y="9966"/>
                  <a:pt x="6077" y="98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Ink 13"/>
          <p:cNvSpPr/>
          <p:nvPr/>
        </p:nvSpPr>
        <p:spPr>
          <a:xfrm>
            <a:off x="2463840" y="3062160"/>
            <a:ext cx="1903320" cy="501840"/>
          </a:xfrm>
          <a:custGeom>
            <a:avLst/>
            <a:gdLst/>
            <a:ahLst/>
            <a:rect l="l" t="t" r="r" b="b"/>
            <a:pathLst>
              <a:path w="5284" h="1390">
                <a:moveTo>
                  <a:pt x="7317" y="9227"/>
                </a:moveTo>
                <a:cubicBezTo>
                  <a:pt x="7359" y="9269"/>
                  <a:pt x="7335" y="9153"/>
                  <a:pt x="7317" y="9103"/>
                </a:cubicBezTo>
                <a:cubicBezTo>
                  <a:pt x="7303" y="9064"/>
                  <a:pt x="7245" y="8989"/>
                  <a:pt x="7218" y="8954"/>
                </a:cubicBezTo>
                <a:cubicBezTo>
                  <a:pt x="7185" y="8911"/>
                  <a:pt x="7117" y="8930"/>
                  <a:pt x="7069" y="8930"/>
                </a:cubicBezTo>
                <a:cubicBezTo>
                  <a:pt x="7005" y="8930"/>
                  <a:pt x="6970" y="9017"/>
                  <a:pt x="6945" y="9079"/>
                </a:cubicBezTo>
                <a:cubicBezTo>
                  <a:pt x="6909" y="9169"/>
                  <a:pt x="6830" y="9275"/>
                  <a:pt x="6846" y="9376"/>
                </a:cubicBezTo>
                <a:cubicBezTo>
                  <a:pt x="6854" y="9428"/>
                  <a:pt x="6915" y="9532"/>
                  <a:pt x="6970" y="9550"/>
                </a:cubicBezTo>
                <a:cubicBezTo>
                  <a:pt x="7019" y="9566"/>
                  <a:pt x="7109" y="9556"/>
                  <a:pt x="7144" y="9525"/>
                </a:cubicBezTo>
                <a:cubicBezTo>
                  <a:pt x="7210" y="9467"/>
                  <a:pt x="7217" y="9427"/>
                  <a:pt x="7268" y="9376"/>
                </a:cubicBezTo>
                <a:cubicBezTo>
                  <a:pt x="7293" y="9351"/>
                  <a:pt x="7320" y="9302"/>
                  <a:pt x="7342" y="9252"/>
                </a:cubicBezTo>
                <a:cubicBezTo>
                  <a:pt x="7342" y="9329"/>
                  <a:pt x="7355" y="9382"/>
                  <a:pt x="7367" y="9451"/>
                </a:cubicBezTo>
                <a:cubicBezTo>
                  <a:pt x="7381" y="9527"/>
                  <a:pt x="7404" y="9588"/>
                  <a:pt x="7491" y="9599"/>
                </a:cubicBezTo>
                <a:cubicBezTo>
                  <a:pt x="7577" y="9599"/>
                  <a:pt x="7613" y="9594"/>
                  <a:pt x="7665" y="9550"/>
                </a:cubicBezTo>
              </a:path>
              <a:path w="5284" h="1390">
                <a:moveTo>
                  <a:pt x="7739" y="9079"/>
                </a:moveTo>
                <a:cubicBezTo>
                  <a:pt x="7791" y="9056"/>
                  <a:pt x="7942" y="9024"/>
                  <a:pt x="7962" y="9004"/>
                </a:cubicBezTo>
              </a:path>
              <a:path w="5284" h="1390">
                <a:moveTo>
                  <a:pt x="7739" y="9302"/>
                </a:moveTo>
                <a:cubicBezTo>
                  <a:pt x="7867" y="9302"/>
                  <a:pt x="7928" y="9312"/>
                  <a:pt x="8037" y="9252"/>
                </a:cubicBezTo>
              </a:path>
              <a:path w="5284" h="1390">
                <a:moveTo>
                  <a:pt x="8483" y="8781"/>
                </a:moveTo>
                <a:cubicBezTo>
                  <a:pt x="8453" y="8879"/>
                  <a:pt x="8449" y="8978"/>
                  <a:pt x="8434" y="9079"/>
                </a:cubicBezTo>
                <a:cubicBezTo>
                  <a:pt x="8423" y="9151"/>
                  <a:pt x="8412" y="9230"/>
                  <a:pt x="8409" y="9302"/>
                </a:cubicBezTo>
                <a:cubicBezTo>
                  <a:pt x="8408" y="9317"/>
                  <a:pt x="8422" y="9609"/>
                  <a:pt x="8434" y="9599"/>
                </a:cubicBezTo>
                <a:cubicBezTo>
                  <a:pt x="8450" y="9566"/>
                  <a:pt x="8467" y="9533"/>
                  <a:pt x="8483" y="9500"/>
                </a:cubicBezTo>
              </a:path>
              <a:path w="5284" h="1390">
                <a:moveTo>
                  <a:pt x="8855" y="8855"/>
                </a:moveTo>
                <a:cubicBezTo>
                  <a:pt x="8826" y="8958"/>
                  <a:pt x="8786" y="9071"/>
                  <a:pt x="8781" y="9178"/>
                </a:cubicBezTo>
                <a:cubicBezTo>
                  <a:pt x="8776" y="9272"/>
                  <a:pt x="8786" y="9322"/>
                  <a:pt x="8830" y="9401"/>
                </a:cubicBezTo>
                <a:cubicBezTo>
                  <a:pt x="8873" y="9478"/>
                  <a:pt x="8923" y="9459"/>
                  <a:pt x="9004" y="9475"/>
                </a:cubicBezTo>
                <a:cubicBezTo>
                  <a:pt x="9120" y="9498"/>
                  <a:pt x="9170" y="9475"/>
                  <a:pt x="9277" y="9451"/>
                </a:cubicBezTo>
                <a:cubicBezTo>
                  <a:pt x="9327" y="9440"/>
                  <a:pt x="9371" y="9308"/>
                  <a:pt x="9376" y="9252"/>
                </a:cubicBezTo>
                <a:cubicBezTo>
                  <a:pt x="9384" y="9158"/>
                  <a:pt x="9372" y="9085"/>
                  <a:pt x="9327" y="9004"/>
                </a:cubicBezTo>
                <a:cubicBezTo>
                  <a:pt x="9292" y="8942"/>
                  <a:pt x="9242" y="8814"/>
                  <a:pt x="9178" y="8781"/>
                </a:cubicBezTo>
                <a:cubicBezTo>
                  <a:pt x="9132" y="8757"/>
                  <a:pt x="8997" y="8672"/>
                  <a:pt x="8979" y="8781"/>
                </a:cubicBezTo>
                <a:cubicBezTo>
                  <a:pt x="8987" y="8781"/>
                  <a:pt x="8996" y="8781"/>
                  <a:pt x="9004" y="8781"/>
                </a:cubicBezTo>
              </a:path>
              <a:path w="5284" h="1390">
                <a:moveTo>
                  <a:pt x="9798" y="9451"/>
                </a:moveTo>
                <a:cubicBezTo>
                  <a:pt x="9776" y="9553"/>
                  <a:pt x="9740" y="9610"/>
                  <a:pt x="9723" y="9699"/>
                </a:cubicBezTo>
                <a:cubicBezTo>
                  <a:pt x="9716" y="9736"/>
                  <a:pt x="9603" y="9956"/>
                  <a:pt x="9674" y="9847"/>
                </a:cubicBezTo>
              </a:path>
              <a:path w="5284" h="1390">
                <a:moveTo>
                  <a:pt x="10096" y="8558"/>
                </a:moveTo>
                <a:cubicBezTo>
                  <a:pt x="10115" y="8716"/>
                  <a:pt x="10100" y="8806"/>
                  <a:pt x="10096" y="8954"/>
                </a:cubicBezTo>
                <a:cubicBezTo>
                  <a:pt x="10093" y="9076"/>
                  <a:pt x="10071" y="9175"/>
                  <a:pt x="10071" y="9302"/>
                </a:cubicBezTo>
                <a:cubicBezTo>
                  <a:pt x="10071" y="9364"/>
                  <a:pt x="10089" y="9471"/>
                  <a:pt x="10120" y="9525"/>
                </a:cubicBezTo>
                <a:cubicBezTo>
                  <a:pt x="10150" y="9555"/>
                  <a:pt x="10161" y="9569"/>
                  <a:pt x="10170" y="9599"/>
                </a:cubicBezTo>
                <a:cubicBezTo>
                  <a:pt x="10178" y="9514"/>
                  <a:pt x="10205" y="9459"/>
                  <a:pt x="10220" y="9376"/>
                </a:cubicBezTo>
                <a:cubicBezTo>
                  <a:pt x="10232" y="9309"/>
                  <a:pt x="10224" y="9240"/>
                  <a:pt x="10269" y="9178"/>
                </a:cubicBezTo>
                <a:cubicBezTo>
                  <a:pt x="10317" y="9112"/>
                  <a:pt x="10350" y="9048"/>
                  <a:pt x="10418" y="9004"/>
                </a:cubicBezTo>
                <a:cubicBezTo>
                  <a:pt x="10451" y="8983"/>
                  <a:pt x="10570" y="9000"/>
                  <a:pt x="10592" y="9029"/>
                </a:cubicBezTo>
                <a:cubicBezTo>
                  <a:pt x="10641" y="9095"/>
                  <a:pt x="10641" y="9175"/>
                  <a:pt x="10641" y="9252"/>
                </a:cubicBezTo>
                <a:cubicBezTo>
                  <a:pt x="10641" y="9343"/>
                  <a:pt x="10654" y="9407"/>
                  <a:pt x="10567" y="9451"/>
                </a:cubicBezTo>
                <a:cubicBezTo>
                  <a:pt x="10470" y="9501"/>
                  <a:pt x="10338" y="9565"/>
                  <a:pt x="10220" y="9525"/>
                </a:cubicBezTo>
                <a:cubicBezTo>
                  <a:pt x="10185" y="9490"/>
                  <a:pt x="10190" y="9477"/>
                  <a:pt x="10269" y="9475"/>
                </a:cubicBezTo>
              </a:path>
              <a:path w="5284" h="1390">
                <a:moveTo>
                  <a:pt x="10964" y="9079"/>
                </a:moveTo>
                <a:cubicBezTo>
                  <a:pt x="11071" y="9079"/>
                  <a:pt x="11179" y="9079"/>
                  <a:pt x="11286" y="9079"/>
                </a:cubicBezTo>
              </a:path>
              <a:path w="5284" h="1390">
                <a:moveTo>
                  <a:pt x="10964" y="9227"/>
                </a:moveTo>
                <a:cubicBezTo>
                  <a:pt x="11080" y="9303"/>
                  <a:pt x="11085" y="9302"/>
                  <a:pt x="11212" y="9302"/>
                </a:cubicBezTo>
                <a:cubicBezTo>
                  <a:pt x="11237" y="9302"/>
                  <a:pt x="11261" y="9302"/>
                  <a:pt x="11286" y="9302"/>
                </a:cubicBezTo>
              </a:path>
              <a:path w="5284" h="1390">
                <a:moveTo>
                  <a:pt x="11708" y="8781"/>
                </a:moveTo>
                <a:cubicBezTo>
                  <a:pt x="11708" y="8866"/>
                  <a:pt x="11686" y="8921"/>
                  <a:pt x="11683" y="9004"/>
                </a:cubicBezTo>
                <a:cubicBezTo>
                  <a:pt x="11682" y="9035"/>
                  <a:pt x="11712" y="9136"/>
                  <a:pt x="11757" y="9153"/>
                </a:cubicBezTo>
                <a:cubicBezTo>
                  <a:pt x="11851" y="9188"/>
                  <a:pt x="11927" y="9131"/>
                  <a:pt x="11981" y="9103"/>
                </a:cubicBezTo>
                <a:cubicBezTo>
                  <a:pt x="12006" y="9095"/>
                  <a:pt x="12030" y="9087"/>
                  <a:pt x="12055" y="9079"/>
                </a:cubicBezTo>
              </a:path>
              <a:path w="5284" h="1390">
                <a:moveTo>
                  <a:pt x="12105" y="8508"/>
                </a:moveTo>
                <a:cubicBezTo>
                  <a:pt x="12105" y="8726"/>
                  <a:pt x="12104" y="8940"/>
                  <a:pt x="12080" y="9153"/>
                </a:cubicBezTo>
                <a:cubicBezTo>
                  <a:pt x="12068" y="9258"/>
                  <a:pt x="12102" y="9349"/>
                  <a:pt x="12105" y="9451"/>
                </a:cubicBezTo>
                <a:cubicBezTo>
                  <a:pt x="12107" y="9524"/>
                  <a:pt x="12150" y="9683"/>
                  <a:pt x="12129" y="9748"/>
                </a:cubicBezTo>
                <a:cubicBezTo>
                  <a:pt x="12121" y="9748"/>
                  <a:pt x="12113" y="9748"/>
                  <a:pt x="12105" y="97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Ink 14"/>
          <p:cNvSpPr/>
          <p:nvPr/>
        </p:nvSpPr>
        <p:spPr>
          <a:xfrm>
            <a:off x="347760" y="3929040"/>
            <a:ext cx="2036520" cy="588960"/>
          </a:xfrm>
          <a:custGeom>
            <a:avLst/>
            <a:gdLst/>
            <a:ahLst/>
            <a:rect l="l" t="t" r="r" b="b"/>
            <a:pathLst>
              <a:path w="5657" h="1638">
                <a:moveTo>
                  <a:pt x="1166" y="11286"/>
                </a:moveTo>
                <a:cubicBezTo>
                  <a:pt x="1256" y="11286"/>
                  <a:pt x="1325" y="11300"/>
                  <a:pt x="1414" y="11311"/>
                </a:cubicBezTo>
                <a:cubicBezTo>
                  <a:pt x="1502" y="11322"/>
                  <a:pt x="1598" y="11311"/>
                  <a:pt x="1687" y="11311"/>
                </a:cubicBezTo>
                <a:cubicBezTo>
                  <a:pt x="1676" y="11397"/>
                  <a:pt x="1641" y="11468"/>
                  <a:pt x="1637" y="11559"/>
                </a:cubicBezTo>
                <a:cubicBezTo>
                  <a:pt x="1631" y="11694"/>
                  <a:pt x="1646" y="11829"/>
                  <a:pt x="1662" y="11956"/>
                </a:cubicBezTo>
                <a:cubicBezTo>
                  <a:pt x="1665" y="11983"/>
                  <a:pt x="1662" y="12187"/>
                  <a:pt x="1662" y="12129"/>
                </a:cubicBezTo>
              </a:path>
              <a:path w="5657" h="1638">
                <a:moveTo>
                  <a:pt x="1761" y="11112"/>
                </a:moveTo>
                <a:cubicBezTo>
                  <a:pt x="1696" y="11010"/>
                  <a:pt x="1693" y="10964"/>
                  <a:pt x="1563" y="10939"/>
                </a:cubicBezTo>
                <a:cubicBezTo>
                  <a:pt x="1489" y="10925"/>
                  <a:pt x="1421" y="10916"/>
                  <a:pt x="1339" y="10939"/>
                </a:cubicBezTo>
                <a:cubicBezTo>
                  <a:pt x="1264" y="10960"/>
                  <a:pt x="1187" y="11040"/>
                  <a:pt x="1141" y="11088"/>
                </a:cubicBezTo>
                <a:cubicBezTo>
                  <a:pt x="1072" y="11161"/>
                  <a:pt x="1023" y="11213"/>
                  <a:pt x="992" y="11311"/>
                </a:cubicBezTo>
                <a:cubicBezTo>
                  <a:pt x="958" y="11420"/>
                  <a:pt x="957" y="11523"/>
                  <a:pt x="992" y="11633"/>
                </a:cubicBezTo>
                <a:cubicBezTo>
                  <a:pt x="1030" y="11752"/>
                  <a:pt x="1082" y="11910"/>
                  <a:pt x="1166" y="12005"/>
                </a:cubicBezTo>
                <a:cubicBezTo>
                  <a:pt x="1239" y="12087"/>
                  <a:pt x="1380" y="12204"/>
                  <a:pt x="1488" y="12229"/>
                </a:cubicBezTo>
                <a:cubicBezTo>
                  <a:pt x="1577" y="12249"/>
                  <a:pt x="1657" y="12213"/>
                  <a:pt x="1736" y="12204"/>
                </a:cubicBezTo>
                <a:cubicBezTo>
                  <a:pt x="1855" y="12191"/>
                  <a:pt x="1903" y="12147"/>
                  <a:pt x="1984" y="12055"/>
                </a:cubicBezTo>
                <a:cubicBezTo>
                  <a:pt x="2045" y="11985"/>
                  <a:pt x="2095" y="11850"/>
                  <a:pt x="2108" y="11757"/>
                </a:cubicBezTo>
                <a:cubicBezTo>
                  <a:pt x="2125" y="11638"/>
                  <a:pt x="2116" y="11475"/>
                  <a:pt x="2084" y="11361"/>
                </a:cubicBezTo>
                <a:cubicBezTo>
                  <a:pt x="2061" y="11280"/>
                  <a:pt x="2037" y="11248"/>
                  <a:pt x="1984" y="11187"/>
                </a:cubicBezTo>
                <a:cubicBezTo>
                  <a:pt x="1937" y="11133"/>
                  <a:pt x="1902" y="11060"/>
                  <a:pt x="1885" y="11137"/>
                </a:cubicBezTo>
                <a:cubicBezTo>
                  <a:pt x="1885" y="11145"/>
                  <a:pt x="1885" y="11154"/>
                  <a:pt x="1885" y="11162"/>
                </a:cubicBezTo>
              </a:path>
              <a:path w="5657" h="1638">
                <a:moveTo>
                  <a:pt x="2654" y="12030"/>
                </a:moveTo>
                <a:cubicBezTo>
                  <a:pt x="2624" y="12163"/>
                  <a:pt x="2613" y="12304"/>
                  <a:pt x="2555" y="12427"/>
                </a:cubicBezTo>
                <a:cubicBezTo>
                  <a:pt x="2533" y="12473"/>
                  <a:pt x="2505" y="12507"/>
                  <a:pt x="2480" y="12551"/>
                </a:cubicBezTo>
                <a:cubicBezTo>
                  <a:pt x="2480" y="12462"/>
                  <a:pt x="2500" y="12412"/>
                  <a:pt x="2530" y="12328"/>
                </a:cubicBezTo>
                <a:cubicBezTo>
                  <a:pt x="2568" y="12219"/>
                  <a:pt x="2580" y="12115"/>
                  <a:pt x="2604" y="12005"/>
                </a:cubicBezTo>
                <a:cubicBezTo>
                  <a:pt x="2634" y="11863"/>
                  <a:pt x="2686" y="11723"/>
                  <a:pt x="2729" y="11584"/>
                </a:cubicBezTo>
                <a:cubicBezTo>
                  <a:pt x="2766" y="11464"/>
                  <a:pt x="2807" y="11252"/>
                  <a:pt x="2877" y="11137"/>
                </a:cubicBezTo>
                <a:cubicBezTo>
                  <a:pt x="2905" y="11109"/>
                  <a:pt x="2919" y="11100"/>
                  <a:pt x="2952" y="11112"/>
                </a:cubicBezTo>
                <a:cubicBezTo>
                  <a:pt x="2973" y="11188"/>
                  <a:pt x="2982" y="11262"/>
                  <a:pt x="3001" y="11336"/>
                </a:cubicBezTo>
                <a:cubicBezTo>
                  <a:pt x="3032" y="11454"/>
                  <a:pt x="3026" y="11600"/>
                  <a:pt x="3076" y="11708"/>
                </a:cubicBezTo>
                <a:cubicBezTo>
                  <a:pt x="3134" y="11834"/>
                  <a:pt x="3172" y="11944"/>
                  <a:pt x="3200" y="12080"/>
                </a:cubicBezTo>
                <a:cubicBezTo>
                  <a:pt x="3218" y="12168"/>
                  <a:pt x="3262" y="12300"/>
                  <a:pt x="3299" y="12378"/>
                </a:cubicBezTo>
                <a:cubicBezTo>
                  <a:pt x="3324" y="12402"/>
                  <a:pt x="3332" y="12410"/>
                  <a:pt x="3299" y="12378"/>
                </a:cubicBezTo>
              </a:path>
              <a:path w="5657" h="1638">
                <a:moveTo>
                  <a:pt x="2629" y="11881"/>
                </a:moveTo>
                <a:cubicBezTo>
                  <a:pt x="2699" y="11827"/>
                  <a:pt x="2739" y="11832"/>
                  <a:pt x="2828" y="11832"/>
                </a:cubicBezTo>
                <a:cubicBezTo>
                  <a:pt x="2965" y="11832"/>
                  <a:pt x="3089" y="11830"/>
                  <a:pt x="3225" y="11807"/>
                </a:cubicBezTo>
              </a:path>
              <a:path w="5657" h="1638">
                <a:moveTo>
                  <a:pt x="3572" y="11683"/>
                </a:moveTo>
                <a:cubicBezTo>
                  <a:pt x="3642" y="11710"/>
                  <a:pt x="3694" y="11708"/>
                  <a:pt x="3770" y="11708"/>
                </a:cubicBezTo>
                <a:cubicBezTo>
                  <a:pt x="3811" y="11708"/>
                  <a:pt x="3853" y="11708"/>
                  <a:pt x="3894" y="11708"/>
                </a:cubicBezTo>
              </a:path>
              <a:path w="5657" h="1638">
                <a:moveTo>
                  <a:pt x="3572" y="11857"/>
                </a:moveTo>
                <a:cubicBezTo>
                  <a:pt x="3687" y="11919"/>
                  <a:pt x="3700" y="11896"/>
                  <a:pt x="3820" y="11881"/>
                </a:cubicBezTo>
                <a:cubicBezTo>
                  <a:pt x="3845" y="11881"/>
                  <a:pt x="3869" y="11881"/>
                  <a:pt x="3894" y="11881"/>
                </a:cubicBezTo>
              </a:path>
              <a:path w="5657" h="1638">
                <a:moveTo>
                  <a:pt x="4291" y="11509"/>
                </a:moveTo>
                <a:cubicBezTo>
                  <a:pt x="4291" y="11637"/>
                  <a:pt x="4302" y="11736"/>
                  <a:pt x="4316" y="11857"/>
                </a:cubicBezTo>
                <a:cubicBezTo>
                  <a:pt x="4329" y="11972"/>
                  <a:pt x="4296" y="12437"/>
                  <a:pt x="4341" y="12378"/>
                </a:cubicBezTo>
              </a:path>
              <a:path w="5657" h="1638">
                <a:moveTo>
                  <a:pt x="4539" y="11534"/>
                </a:moveTo>
                <a:cubicBezTo>
                  <a:pt x="4615" y="11478"/>
                  <a:pt x="4642" y="11485"/>
                  <a:pt x="4738" y="11485"/>
                </a:cubicBezTo>
                <a:cubicBezTo>
                  <a:pt x="4832" y="11485"/>
                  <a:pt x="4901" y="11467"/>
                  <a:pt x="4986" y="11435"/>
                </a:cubicBezTo>
              </a:path>
              <a:path w="5657" h="1638">
                <a:moveTo>
                  <a:pt x="4589" y="11460"/>
                </a:moveTo>
                <a:cubicBezTo>
                  <a:pt x="4547" y="11537"/>
                  <a:pt x="4519" y="11594"/>
                  <a:pt x="4514" y="11683"/>
                </a:cubicBezTo>
                <a:cubicBezTo>
                  <a:pt x="4514" y="11700"/>
                  <a:pt x="4514" y="11716"/>
                  <a:pt x="4514" y="11733"/>
                </a:cubicBezTo>
                <a:cubicBezTo>
                  <a:pt x="4594" y="11752"/>
                  <a:pt x="4617" y="11722"/>
                  <a:pt x="4688" y="11708"/>
                </a:cubicBezTo>
                <a:cubicBezTo>
                  <a:pt x="4779" y="11690"/>
                  <a:pt x="4845" y="11686"/>
                  <a:pt x="4936" y="11733"/>
                </a:cubicBezTo>
                <a:cubicBezTo>
                  <a:pt x="5042" y="11788"/>
                  <a:pt x="5089" y="11900"/>
                  <a:pt x="5110" y="12005"/>
                </a:cubicBezTo>
                <a:cubicBezTo>
                  <a:pt x="5136" y="12136"/>
                  <a:pt x="5150" y="12210"/>
                  <a:pt x="5035" y="12278"/>
                </a:cubicBezTo>
                <a:cubicBezTo>
                  <a:pt x="4964" y="12320"/>
                  <a:pt x="4918" y="12328"/>
                  <a:pt x="4837" y="12328"/>
                </a:cubicBezTo>
                <a:cubicBezTo>
                  <a:pt x="4783" y="12328"/>
                  <a:pt x="4665" y="12308"/>
                  <a:pt x="4688" y="12229"/>
                </a:cubicBezTo>
                <a:cubicBezTo>
                  <a:pt x="4705" y="12196"/>
                  <a:pt x="4721" y="12162"/>
                  <a:pt x="4738" y="12129"/>
                </a:cubicBezTo>
              </a:path>
              <a:path w="5657" h="1638">
                <a:moveTo>
                  <a:pt x="5432" y="11609"/>
                </a:moveTo>
                <a:cubicBezTo>
                  <a:pt x="5423" y="11723"/>
                  <a:pt x="5381" y="11814"/>
                  <a:pt x="5358" y="11906"/>
                </a:cubicBezTo>
                <a:cubicBezTo>
                  <a:pt x="5333" y="12007"/>
                  <a:pt x="5321" y="12127"/>
                  <a:pt x="5358" y="12229"/>
                </a:cubicBezTo>
                <a:cubicBezTo>
                  <a:pt x="5365" y="12249"/>
                  <a:pt x="5461" y="12370"/>
                  <a:pt x="5482" y="12378"/>
                </a:cubicBezTo>
                <a:cubicBezTo>
                  <a:pt x="5566" y="12409"/>
                  <a:pt x="5611" y="12395"/>
                  <a:pt x="5680" y="12353"/>
                </a:cubicBezTo>
                <a:cubicBezTo>
                  <a:pt x="5754" y="12308"/>
                  <a:pt x="5836" y="12268"/>
                  <a:pt x="5854" y="12179"/>
                </a:cubicBezTo>
                <a:cubicBezTo>
                  <a:pt x="5870" y="12101"/>
                  <a:pt x="5896" y="11988"/>
                  <a:pt x="5879" y="11906"/>
                </a:cubicBezTo>
                <a:cubicBezTo>
                  <a:pt x="5861" y="11822"/>
                  <a:pt x="5792" y="11711"/>
                  <a:pt x="5730" y="11658"/>
                </a:cubicBezTo>
                <a:cubicBezTo>
                  <a:pt x="5701" y="11633"/>
                  <a:pt x="5619" y="11568"/>
                  <a:pt x="5581" y="11559"/>
                </a:cubicBezTo>
                <a:cubicBezTo>
                  <a:pt x="5541" y="11550"/>
                  <a:pt x="5466" y="11559"/>
                  <a:pt x="5507" y="11559"/>
                </a:cubicBezTo>
              </a:path>
              <a:path w="5657" h="1638">
                <a:moveTo>
                  <a:pt x="5854" y="11162"/>
                </a:moveTo>
                <a:cubicBezTo>
                  <a:pt x="5854" y="11252"/>
                  <a:pt x="5834" y="11355"/>
                  <a:pt x="5928" y="11410"/>
                </a:cubicBezTo>
                <a:cubicBezTo>
                  <a:pt x="5991" y="11447"/>
                  <a:pt x="6099" y="11429"/>
                  <a:pt x="6077" y="11336"/>
                </a:cubicBezTo>
                <a:cubicBezTo>
                  <a:pt x="6065" y="11284"/>
                  <a:pt x="6014" y="11248"/>
                  <a:pt x="5978" y="11212"/>
                </a:cubicBezTo>
                <a:cubicBezTo>
                  <a:pt x="5953" y="11187"/>
                  <a:pt x="5945" y="11179"/>
                  <a:pt x="5928" y="11162"/>
                </a:cubicBezTo>
              </a:path>
              <a:path w="5657" h="1638">
                <a:moveTo>
                  <a:pt x="6573" y="12005"/>
                </a:moveTo>
                <a:cubicBezTo>
                  <a:pt x="6603" y="12055"/>
                  <a:pt x="6619" y="12116"/>
                  <a:pt x="6623" y="12179"/>
                </a:cubicBezTo>
                <a:cubicBezTo>
                  <a:pt x="6628" y="12261"/>
                  <a:pt x="6612" y="12334"/>
                  <a:pt x="6598" y="12402"/>
                </a:cubicBezTo>
                <a:cubicBezTo>
                  <a:pt x="6593" y="12426"/>
                  <a:pt x="6496" y="12566"/>
                  <a:pt x="6449" y="12502"/>
                </a:cubicBezTo>
                <a:cubicBezTo>
                  <a:pt x="6457" y="12494"/>
                  <a:pt x="6466" y="12485"/>
                  <a:pt x="6474" y="1247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Ink 15"/>
          <p:cNvSpPr/>
          <p:nvPr/>
        </p:nvSpPr>
        <p:spPr>
          <a:xfrm>
            <a:off x="2652840" y="3911760"/>
            <a:ext cx="1285920" cy="554040"/>
          </a:xfrm>
          <a:custGeom>
            <a:avLst/>
            <a:gdLst/>
            <a:ahLst/>
            <a:rect l="l" t="t" r="r" b="b"/>
            <a:pathLst>
              <a:path w="3573" h="1539">
                <a:moveTo>
                  <a:pt x="7789" y="11237"/>
                </a:moveTo>
                <a:cubicBezTo>
                  <a:pt x="7732" y="11292"/>
                  <a:pt x="7808" y="11190"/>
                  <a:pt x="7813" y="11162"/>
                </a:cubicBezTo>
                <a:cubicBezTo>
                  <a:pt x="7827" y="11092"/>
                  <a:pt x="7843" y="11074"/>
                  <a:pt x="7789" y="11013"/>
                </a:cubicBezTo>
                <a:cubicBezTo>
                  <a:pt x="7753" y="10972"/>
                  <a:pt x="7655" y="11030"/>
                  <a:pt x="7615" y="11063"/>
                </a:cubicBezTo>
                <a:cubicBezTo>
                  <a:pt x="7539" y="11126"/>
                  <a:pt x="7483" y="11251"/>
                  <a:pt x="7441" y="11336"/>
                </a:cubicBezTo>
                <a:cubicBezTo>
                  <a:pt x="7389" y="11440"/>
                  <a:pt x="7372" y="11570"/>
                  <a:pt x="7367" y="11683"/>
                </a:cubicBezTo>
                <a:cubicBezTo>
                  <a:pt x="7362" y="11804"/>
                  <a:pt x="7350" y="11941"/>
                  <a:pt x="7392" y="12055"/>
                </a:cubicBezTo>
                <a:cubicBezTo>
                  <a:pt x="7404" y="12088"/>
                  <a:pt x="7515" y="12215"/>
                  <a:pt x="7541" y="12229"/>
                </a:cubicBezTo>
                <a:cubicBezTo>
                  <a:pt x="7637" y="12279"/>
                  <a:pt x="7709" y="12235"/>
                  <a:pt x="7764" y="12154"/>
                </a:cubicBezTo>
                <a:cubicBezTo>
                  <a:pt x="7799" y="12103"/>
                  <a:pt x="7827" y="12080"/>
                  <a:pt x="7863" y="12030"/>
                </a:cubicBezTo>
              </a:path>
              <a:path w="3573" h="1539">
                <a:moveTo>
                  <a:pt x="7938" y="11658"/>
                </a:moveTo>
                <a:cubicBezTo>
                  <a:pt x="8015" y="11629"/>
                  <a:pt x="8103" y="11622"/>
                  <a:pt x="8186" y="11609"/>
                </a:cubicBezTo>
                <a:cubicBezTo>
                  <a:pt x="8194" y="11609"/>
                  <a:pt x="8202" y="11609"/>
                  <a:pt x="8210" y="11609"/>
                </a:cubicBezTo>
              </a:path>
              <a:path w="3573" h="1539">
                <a:moveTo>
                  <a:pt x="7987" y="11807"/>
                </a:moveTo>
                <a:cubicBezTo>
                  <a:pt x="8057" y="11845"/>
                  <a:pt x="8124" y="11881"/>
                  <a:pt x="8210" y="11857"/>
                </a:cubicBezTo>
                <a:cubicBezTo>
                  <a:pt x="8227" y="11849"/>
                  <a:pt x="8243" y="11840"/>
                  <a:pt x="8260" y="11832"/>
                </a:cubicBezTo>
              </a:path>
              <a:path w="3573" h="1539">
                <a:moveTo>
                  <a:pt x="8706" y="11162"/>
                </a:moveTo>
                <a:cubicBezTo>
                  <a:pt x="8799" y="11129"/>
                  <a:pt x="8924" y="11077"/>
                  <a:pt x="9029" y="11112"/>
                </a:cubicBezTo>
                <a:cubicBezTo>
                  <a:pt x="9064" y="11124"/>
                  <a:pt x="9131" y="11178"/>
                  <a:pt x="9153" y="11212"/>
                </a:cubicBezTo>
                <a:cubicBezTo>
                  <a:pt x="9200" y="11284"/>
                  <a:pt x="9179" y="11384"/>
                  <a:pt x="9153" y="11460"/>
                </a:cubicBezTo>
                <a:cubicBezTo>
                  <a:pt x="9131" y="11525"/>
                  <a:pt x="9082" y="11593"/>
                  <a:pt x="9054" y="11658"/>
                </a:cubicBezTo>
                <a:cubicBezTo>
                  <a:pt x="9023" y="11729"/>
                  <a:pt x="8967" y="11787"/>
                  <a:pt x="8930" y="11857"/>
                </a:cubicBezTo>
                <a:cubicBezTo>
                  <a:pt x="8907" y="11901"/>
                  <a:pt x="8842" y="11962"/>
                  <a:pt x="8830" y="12005"/>
                </a:cubicBezTo>
                <a:cubicBezTo>
                  <a:pt x="8814" y="12066"/>
                  <a:pt x="8798" y="12131"/>
                  <a:pt x="8855" y="12179"/>
                </a:cubicBezTo>
                <a:cubicBezTo>
                  <a:pt x="8911" y="12227"/>
                  <a:pt x="9031" y="12245"/>
                  <a:pt x="9103" y="12229"/>
                </a:cubicBezTo>
                <a:cubicBezTo>
                  <a:pt x="9193" y="12209"/>
                  <a:pt x="9268" y="12163"/>
                  <a:pt x="9351" y="12129"/>
                </a:cubicBezTo>
              </a:path>
              <a:path w="3573" h="1539">
                <a:moveTo>
                  <a:pt x="9699" y="11410"/>
                </a:moveTo>
                <a:cubicBezTo>
                  <a:pt x="9690" y="11512"/>
                  <a:pt x="9664" y="11611"/>
                  <a:pt x="9649" y="11708"/>
                </a:cubicBezTo>
                <a:cubicBezTo>
                  <a:pt x="9633" y="11815"/>
                  <a:pt x="9632" y="11982"/>
                  <a:pt x="9674" y="12080"/>
                </a:cubicBezTo>
                <a:cubicBezTo>
                  <a:pt x="9711" y="12168"/>
                  <a:pt x="9751" y="12199"/>
                  <a:pt x="9823" y="12254"/>
                </a:cubicBezTo>
                <a:cubicBezTo>
                  <a:pt x="9870" y="12290"/>
                  <a:pt x="9957" y="12328"/>
                  <a:pt x="10021" y="12303"/>
                </a:cubicBezTo>
                <a:cubicBezTo>
                  <a:pt x="10101" y="12272"/>
                  <a:pt x="10161" y="12182"/>
                  <a:pt x="10195" y="12105"/>
                </a:cubicBezTo>
                <a:cubicBezTo>
                  <a:pt x="10236" y="12012"/>
                  <a:pt x="10220" y="11906"/>
                  <a:pt x="10220" y="11807"/>
                </a:cubicBezTo>
                <a:cubicBezTo>
                  <a:pt x="10220" y="11704"/>
                  <a:pt x="10188" y="11602"/>
                  <a:pt x="10145" y="11509"/>
                </a:cubicBezTo>
                <a:cubicBezTo>
                  <a:pt x="10104" y="11421"/>
                  <a:pt x="10052" y="11334"/>
                  <a:pt x="9971" y="11286"/>
                </a:cubicBezTo>
                <a:cubicBezTo>
                  <a:pt x="9923" y="11258"/>
                  <a:pt x="9831" y="11194"/>
                  <a:pt x="9773" y="11212"/>
                </a:cubicBezTo>
                <a:cubicBezTo>
                  <a:pt x="9748" y="11220"/>
                  <a:pt x="9638" y="11333"/>
                  <a:pt x="9674" y="11361"/>
                </a:cubicBezTo>
                <a:cubicBezTo>
                  <a:pt x="9690" y="11361"/>
                  <a:pt x="9707" y="11361"/>
                  <a:pt x="9723" y="11361"/>
                </a:cubicBezTo>
              </a:path>
              <a:path w="3573" h="1539">
                <a:moveTo>
                  <a:pt x="10220" y="11013"/>
                </a:moveTo>
                <a:cubicBezTo>
                  <a:pt x="10229" y="11170"/>
                  <a:pt x="10206" y="11147"/>
                  <a:pt x="10319" y="11187"/>
                </a:cubicBezTo>
                <a:cubicBezTo>
                  <a:pt x="10378" y="11208"/>
                  <a:pt x="10496" y="11235"/>
                  <a:pt x="10542" y="11162"/>
                </a:cubicBezTo>
                <a:cubicBezTo>
                  <a:pt x="10575" y="11110"/>
                  <a:pt x="10524" y="11024"/>
                  <a:pt x="10492" y="10988"/>
                </a:cubicBezTo>
                <a:cubicBezTo>
                  <a:pt x="10461" y="10954"/>
                  <a:pt x="10436" y="10964"/>
                  <a:pt x="10393" y="10964"/>
                </a:cubicBezTo>
              </a:path>
              <a:path w="3573" h="1539">
                <a:moveTo>
                  <a:pt x="10393" y="10864"/>
                </a:moveTo>
                <a:cubicBezTo>
                  <a:pt x="10353" y="10904"/>
                  <a:pt x="10310" y="10928"/>
                  <a:pt x="10269" y="10964"/>
                </a:cubicBezTo>
                <a:cubicBezTo>
                  <a:pt x="10243" y="10987"/>
                  <a:pt x="10219" y="11013"/>
                  <a:pt x="10195" y="11038"/>
                </a:cubicBezTo>
              </a:path>
              <a:path w="3573" h="1539">
                <a:moveTo>
                  <a:pt x="10914" y="11931"/>
                </a:moveTo>
                <a:cubicBezTo>
                  <a:pt x="10955" y="11998"/>
                  <a:pt x="10923" y="12018"/>
                  <a:pt x="10914" y="12080"/>
                </a:cubicBezTo>
                <a:cubicBezTo>
                  <a:pt x="10902" y="12159"/>
                  <a:pt x="10897" y="12191"/>
                  <a:pt x="10840" y="12254"/>
                </a:cubicBezTo>
                <a:cubicBezTo>
                  <a:pt x="10793" y="12306"/>
                  <a:pt x="10712" y="12345"/>
                  <a:pt x="10740" y="12402"/>
                </a:cubicBezTo>
                <a:cubicBezTo>
                  <a:pt x="10740" y="12361"/>
                  <a:pt x="10732" y="12345"/>
                  <a:pt x="10765" y="123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Ink 16"/>
          <p:cNvSpPr/>
          <p:nvPr/>
        </p:nvSpPr>
        <p:spPr>
          <a:xfrm>
            <a:off x="4295880" y="3956040"/>
            <a:ext cx="1204920" cy="411120"/>
          </a:xfrm>
          <a:custGeom>
            <a:avLst/>
            <a:gdLst/>
            <a:ahLst/>
            <a:rect l="l" t="t" r="r" b="b"/>
            <a:pathLst>
              <a:path w="3350" h="1142">
                <a:moveTo>
                  <a:pt x="12179" y="11906"/>
                </a:moveTo>
                <a:cubicBezTo>
                  <a:pt x="12179" y="11839"/>
                  <a:pt x="12193" y="11786"/>
                  <a:pt x="12204" y="11733"/>
                </a:cubicBezTo>
                <a:cubicBezTo>
                  <a:pt x="12215" y="11681"/>
                  <a:pt x="12200" y="11578"/>
                  <a:pt x="12179" y="11534"/>
                </a:cubicBezTo>
                <a:cubicBezTo>
                  <a:pt x="12139" y="11475"/>
                  <a:pt x="12135" y="11464"/>
                  <a:pt x="12105" y="11435"/>
                </a:cubicBezTo>
                <a:cubicBezTo>
                  <a:pt x="12065" y="11475"/>
                  <a:pt x="12042" y="11519"/>
                  <a:pt x="12005" y="11559"/>
                </a:cubicBezTo>
                <a:cubicBezTo>
                  <a:pt x="11953" y="11616"/>
                  <a:pt x="11934" y="11678"/>
                  <a:pt x="11931" y="11757"/>
                </a:cubicBezTo>
                <a:cubicBezTo>
                  <a:pt x="11927" y="11854"/>
                  <a:pt x="11907" y="11981"/>
                  <a:pt x="11981" y="12055"/>
                </a:cubicBezTo>
                <a:cubicBezTo>
                  <a:pt x="12026" y="12101"/>
                  <a:pt x="12113" y="12088"/>
                  <a:pt x="12154" y="12055"/>
                </a:cubicBezTo>
                <a:cubicBezTo>
                  <a:pt x="12217" y="12005"/>
                  <a:pt x="12225" y="11966"/>
                  <a:pt x="12254" y="11906"/>
                </a:cubicBezTo>
                <a:cubicBezTo>
                  <a:pt x="12281" y="11878"/>
                  <a:pt x="12289" y="11864"/>
                  <a:pt x="12278" y="11832"/>
                </a:cubicBezTo>
                <a:cubicBezTo>
                  <a:pt x="12287" y="11904"/>
                  <a:pt x="12302" y="11930"/>
                  <a:pt x="12353" y="11981"/>
                </a:cubicBezTo>
                <a:cubicBezTo>
                  <a:pt x="12408" y="12036"/>
                  <a:pt x="12439" y="12114"/>
                  <a:pt x="12526" y="12129"/>
                </a:cubicBezTo>
                <a:cubicBezTo>
                  <a:pt x="12551" y="12129"/>
                  <a:pt x="12576" y="12129"/>
                  <a:pt x="12601" y="12129"/>
                </a:cubicBezTo>
              </a:path>
              <a:path w="3350" h="1142">
                <a:moveTo>
                  <a:pt x="12675" y="11683"/>
                </a:moveTo>
                <a:cubicBezTo>
                  <a:pt x="12754" y="11640"/>
                  <a:pt x="12812" y="11628"/>
                  <a:pt x="12898" y="11609"/>
                </a:cubicBezTo>
                <a:cubicBezTo>
                  <a:pt x="12906" y="11609"/>
                  <a:pt x="12915" y="11609"/>
                  <a:pt x="12923" y="11609"/>
                </a:cubicBezTo>
              </a:path>
              <a:path w="3350" h="1142">
                <a:moveTo>
                  <a:pt x="12700" y="11782"/>
                </a:moveTo>
                <a:cubicBezTo>
                  <a:pt x="12812" y="11844"/>
                  <a:pt x="12830" y="11835"/>
                  <a:pt x="12948" y="11782"/>
                </a:cubicBezTo>
              </a:path>
              <a:path w="3350" h="1142">
                <a:moveTo>
                  <a:pt x="13221" y="11261"/>
                </a:moveTo>
                <a:cubicBezTo>
                  <a:pt x="13306" y="11184"/>
                  <a:pt x="13351" y="11143"/>
                  <a:pt x="13469" y="11137"/>
                </a:cubicBezTo>
                <a:cubicBezTo>
                  <a:pt x="13544" y="11133"/>
                  <a:pt x="13567" y="11136"/>
                  <a:pt x="13618" y="11187"/>
                </a:cubicBezTo>
                <a:cubicBezTo>
                  <a:pt x="13675" y="11244"/>
                  <a:pt x="13636" y="11328"/>
                  <a:pt x="13618" y="11385"/>
                </a:cubicBezTo>
                <a:cubicBezTo>
                  <a:pt x="13584" y="11495"/>
                  <a:pt x="13564" y="11530"/>
                  <a:pt x="13494" y="11609"/>
                </a:cubicBezTo>
                <a:cubicBezTo>
                  <a:pt x="13443" y="11667"/>
                  <a:pt x="13448" y="11704"/>
                  <a:pt x="13395" y="11757"/>
                </a:cubicBezTo>
                <a:cubicBezTo>
                  <a:pt x="13362" y="11790"/>
                  <a:pt x="13320" y="11841"/>
                  <a:pt x="13295" y="11881"/>
                </a:cubicBezTo>
                <a:cubicBezTo>
                  <a:pt x="13287" y="11898"/>
                  <a:pt x="13279" y="11914"/>
                  <a:pt x="13271" y="11931"/>
                </a:cubicBezTo>
                <a:cubicBezTo>
                  <a:pt x="13325" y="11964"/>
                  <a:pt x="13376" y="11956"/>
                  <a:pt x="13444" y="11956"/>
                </a:cubicBezTo>
                <a:cubicBezTo>
                  <a:pt x="13539" y="11956"/>
                  <a:pt x="13687" y="11989"/>
                  <a:pt x="13767" y="11931"/>
                </a:cubicBezTo>
                <a:cubicBezTo>
                  <a:pt x="13813" y="11884"/>
                  <a:pt x="13825" y="11870"/>
                  <a:pt x="13866" y="11857"/>
                </a:cubicBezTo>
              </a:path>
              <a:path w="3350" h="1142">
                <a:moveTo>
                  <a:pt x="14015" y="11162"/>
                </a:moveTo>
                <a:cubicBezTo>
                  <a:pt x="13962" y="11228"/>
                  <a:pt x="13964" y="11286"/>
                  <a:pt x="13940" y="11361"/>
                </a:cubicBezTo>
                <a:cubicBezTo>
                  <a:pt x="13919" y="11427"/>
                  <a:pt x="13859" y="11516"/>
                  <a:pt x="13866" y="11584"/>
                </a:cubicBezTo>
                <a:cubicBezTo>
                  <a:pt x="13877" y="11683"/>
                  <a:pt x="13912" y="11716"/>
                  <a:pt x="13965" y="11782"/>
                </a:cubicBezTo>
                <a:cubicBezTo>
                  <a:pt x="14014" y="11843"/>
                  <a:pt x="14018" y="11917"/>
                  <a:pt x="14114" y="11931"/>
                </a:cubicBezTo>
                <a:cubicBezTo>
                  <a:pt x="14219" y="11946"/>
                  <a:pt x="14324" y="11921"/>
                  <a:pt x="14387" y="11832"/>
                </a:cubicBezTo>
                <a:cubicBezTo>
                  <a:pt x="14419" y="11787"/>
                  <a:pt x="14451" y="11664"/>
                  <a:pt x="14461" y="11609"/>
                </a:cubicBezTo>
                <a:cubicBezTo>
                  <a:pt x="14472" y="11553"/>
                  <a:pt x="14450" y="11418"/>
                  <a:pt x="14436" y="11361"/>
                </a:cubicBezTo>
                <a:cubicBezTo>
                  <a:pt x="14419" y="11295"/>
                  <a:pt x="14397" y="11181"/>
                  <a:pt x="14337" y="11137"/>
                </a:cubicBezTo>
                <a:cubicBezTo>
                  <a:pt x="14298" y="11109"/>
                  <a:pt x="14211" y="11052"/>
                  <a:pt x="14163" y="11063"/>
                </a:cubicBezTo>
                <a:cubicBezTo>
                  <a:pt x="14036" y="11093"/>
                  <a:pt x="13996" y="11194"/>
                  <a:pt x="13965" y="11311"/>
                </a:cubicBezTo>
                <a:cubicBezTo>
                  <a:pt x="13951" y="11362"/>
                  <a:pt x="13998" y="11440"/>
                  <a:pt x="14015" y="11485"/>
                </a:cubicBezTo>
              </a:path>
              <a:path w="3350" h="1142">
                <a:moveTo>
                  <a:pt x="14684" y="11212"/>
                </a:moveTo>
                <a:cubicBezTo>
                  <a:pt x="14664" y="11287"/>
                  <a:pt x="14639" y="11359"/>
                  <a:pt x="14635" y="11435"/>
                </a:cubicBezTo>
                <a:cubicBezTo>
                  <a:pt x="14628" y="11565"/>
                  <a:pt x="14629" y="11624"/>
                  <a:pt x="14709" y="11733"/>
                </a:cubicBezTo>
                <a:cubicBezTo>
                  <a:pt x="14739" y="11774"/>
                  <a:pt x="14814" y="11842"/>
                  <a:pt x="14858" y="11857"/>
                </a:cubicBezTo>
                <a:cubicBezTo>
                  <a:pt x="14930" y="11882"/>
                  <a:pt x="15046" y="11843"/>
                  <a:pt x="15106" y="11807"/>
                </a:cubicBezTo>
                <a:cubicBezTo>
                  <a:pt x="15178" y="11764"/>
                  <a:pt x="15200" y="11712"/>
                  <a:pt x="15230" y="11633"/>
                </a:cubicBezTo>
                <a:cubicBezTo>
                  <a:pt x="15276" y="11512"/>
                  <a:pt x="15310" y="11390"/>
                  <a:pt x="15255" y="11261"/>
                </a:cubicBezTo>
                <a:cubicBezTo>
                  <a:pt x="15231" y="11203"/>
                  <a:pt x="15153" y="11094"/>
                  <a:pt x="15106" y="11063"/>
                </a:cubicBezTo>
                <a:cubicBezTo>
                  <a:pt x="15063" y="11035"/>
                  <a:pt x="14933" y="10982"/>
                  <a:pt x="14883" y="10988"/>
                </a:cubicBezTo>
                <a:cubicBezTo>
                  <a:pt x="14829" y="10994"/>
                  <a:pt x="14728" y="11026"/>
                  <a:pt x="14684" y="11063"/>
                </a:cubicBezTo>
                <a:cubicBezTo>
                  <a:pt x="14659" y="11088"/>
                  <a:pt x="14635" y="11112"/>
                  <a:pt x="14610" y="111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e6e3aa"/>
                </a:solidFill>
                <a:latin typeface="Garamond"/>
              </a:rPr>
              <a:t>Chapter Six</a:t>
            </a:r>
            <a:br>
              <a:rPr sz="4000"/>
            </a:br>
            <a:r>
              <a:rPr b="1" i="1" lang="en-US" sz="4000" spc="-1" strike="noStrike">
                <a:solidFill>
                  <a:srgbClr val="e6e3aa"/>
                </a:solidFill>
                <a:latin typeface="Garamond"/>
              </a:rPr>
              <a:t>Topics in Trigonometry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e6e3aa"/>
                </a:solidFill>
                <a:latin typeface="Garamond"/>
              </a:rPr>
              <a:t>Lesson 6.1</a:t>
            </a:r>
            <a:br>
              <a:rPr sz="7500"/>
            </a:br>
            <a:r>
              <a:rPr b="1" lang="en-US" sz="7500" spc="-1" strike="noStrike">
                <a:solidFill>
                  <a:srgbClr val="e6e3aa"/>
                </a:solidFill>
                <a:latin typeface="Garamond"/>
              </a:rPr>
              <a:t>part one</a:t>
            </a:r>
            <a:endParaRPr b="1" lang="en-US" sz="75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Review:  How did we “solve” a triangle?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Garamond"/>
              </a:rPr>
              <a:t>But what if we don’t have a right triangle?</a:t>
            </a:r>
            <a:endParaRPr b="0" lang="en-US" sz="4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The </a:t>
            </a:r>
            <a:r>
              <a:rPr b="1" lang="en-US" sz="4000" spc="-1" strike="noStrike" u="sng">
                <a:solidFill>
                  <a:srgbClr val="e6e3aa"/>
                </a:solidFill>
                <a:uFillTx/>
                <a:latin typeface="Garamond"/>
              </a:rPr>
              <a:t>Law of Sines</a:t>
            </a: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 can be used to solve </a:t>
            </a:r>
            <a:r>
              <a:rPr b="1" i="1" lang="en-US" sz="4000" spc="-1" strike="noStrike">
                <a:solidFill>
                  <a:srgbClr val="e6e3aa"/>
                </a:solidFill>
                <a:latin typeface="Garamond"/>
              </a:rPr>
              <a:t>most</a:t>
            </a: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 oblique triangles (triangles without a right angle)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e6e3aa"/>
                </a:solidFill>
                <a:latin typeface="Garamond"/>
              </a:rPr>
              <a:t>Place Important Paper #5 into your binder</a:t>
            </a:r>
            <a:endParaRPr b="1" lang="en-US" sz="55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Law of Sines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ital letters are the angles of the triangle and lowercase letters are the sides opposite those ang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be used as is or in reciproca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two of the three parts are needed and are solved like a propor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n all solutions, round answers to one decimal 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e6e3aa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Solve this triangle:</a:t>
            </a:r>
            <a:br>
              <a:rPr sz="4000"/>
            </a:b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C = 120</a:t>
            </a:r>
            <a:r>
              <a:rPr b="1" lang="en-US" sz="4000" spc="-1" strike="noStrike">
                <a:solidFill>
                  <a:srgbClr val="e6e3aa"/>
                </a:solidFill>
                <a:latin typeface="Symbol"/>
                <a:ea typeface="Symbol"/>
              </a:rPr>
              <a:t></a:t>
            </a: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, c = 15 and B = 45</a:t>
            </a:r>
            <a:r>
              <a:rPr b="1" lang="en-US" sz="4000" spc="-1" strike="noStrike">
                <a:solidFill>
                  <a:srgbClr val="e6e3aa"/>
                </a:solidFill>
                <a:latin typeface="Symbol"/>
                <a:ea typeface="Symbol"/>
              </a:rPr>
              <a:t>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8" name="Ink 5"/>
          <p:cNvSpPr/>
          <p:nvPr/>
        </p:nvSpPr>
        <p:spPr>
          <a:xfrm>
            <a:off x="3973680" y="5045040"/>
            <a:ext cx="992160" cy="339840"/>
          </a:xfrm>
          <a:custGeom>
            <a:avLst/>
            <a:gdLst/>
            <a:ahLst/>
            <a:rect l="l" t="t" r="r" b="b"/>
            <a:pathLst>
              <a:path w="2754" h="943">
                <a:moveTo>
                  <a:pt x="13791" y="14015"/>
                </a:moveTo>
                <a:cubicBezTo>
                  <a:pt x="13654" y="14073"/>
                  <a:pt x="13654" y="14044"/>
                  <a:pt x="13519" y="14039"/>
                </a:cubicBezTo>
                <a:cubicBezTo>
                  <a:pt x="13359" y="14033"/>
                  <a:pt x="13210" y="14018"/>
                  <a:pt x="13047" y="14015"/>
                </a:cubicBezTo>
                <a:cubicBezTo>
                  <a:pt x="12604" y="14007"/>
                  <a:pt x="12120" y="13967"/>
                  <a:pt x="11683" y="14039"/>
                </a:cubicBezTo>
                <a:cubicBezTo>
                  <a:pt x="11516" y="14067"/>
                  <a:pt x="11349" y="14086"/>
                  <a:pt x="11187" y="14139"/>
                </a:cubicBezTo>
                <a:cubicBezTo>
                  <a:pt x="11134" y="14157"/>
                  <a:pt x="11085" y="14190"/>
                  <a:pt x="11038" y="14213"/>
                </a:cubicBezTo>
              </a:path>
              <a:path w="2754" h="943">
                <a:moveTo>
                  <a:pt x="11981" y="14387"/>
                </a:moveTo>
                <a:cubicBezTo>
                  <a:pt x="11944" y="14377"/>
                  <a:pt x="11786" y="14322"/>
                  <a:pt x="11757" y="14387"/>
                </a:cubicBezTo>
                <a:cubicBezTo>
                  <a:pt x="11726" y="14457"/>
                  <a:pt x="11802" y="14510"/>
                  <a:pt x="11832" y="14560"/>
                </a:cubicBezTo>
                <a:cubicBezTo>
                  <a:pt x="11875" y="14631"/>
                  <a:pt x="11916" y="14727"/>
                  <a:pt x="11931" y="14808"/>
                </a:cubicBezTo>
                <a:cubicBezTo>
                  <a:pt x="11954" y="14935"/>
                  <a:pt x="11841" y="14919"/>
                  <a:pt x="11757" y="14883"/>
                </a:cubicBezTo>
                <a:cubicBezTo>
                  <a:pt x="11710" y="14863"/>
                  <a:pt x="11674" y="14748"/>
                  <a:pt x="11658" y="14709"/>
                </a:cubicBezTo>
              </a:path>
              <a:path w="2754" h="943">
                <a:moveTo>
                  <a:pt x="12105" y="14784"/>
                </a:moveTo>
                <a:cubicBezTo>
                  <a:pt x="12105" y="14908"/>
                  <a:pt x="12105" y="15015"/>
                  <a:pt x="12105" y="14932"/>
                </a:cubicBezTo>
              </a:path>
              <a:path w="2754" h="943">
                <a:moveTo>
                  <a:pt x="12154" y="14337"/>
                </a:moveTo>
                <a:cubicBezTo>
                  <a:pt x="12214" y="14346"/>
                  <a:pt x="12215" y="14331"/>
                  <a:pt x="12229" y="14387"/>
                </a:cubicBezTo>
              </a:path>
              <a:path w="2754" h="943">
                <a:moveTo>
                  <a:pt x="12229" y="14808"/>
                </a:moveTo>
                <a:cubicBezTo>
                  <a:pt x="12229" y="14865"/>
                  <a:pt x="12247" y="14662"/>
                  <a:pt x="12254" y="14635"/>
                </a:cubicBezTo>
                <a:cubicBezTo>
                  <a:pt x="12277" y="14587"/>
                  <a:pt x="12285" y="14572"/>
                  <a:pt x="12278" y="14536"/>
                </a:cubicBezTo>
                <a:cubicBezTo>
                  <a:pt x="12340" y="14543"/>
                  <a:pt x="12390" y="14552"/>
                  <a:pt x="12427" y="14610"/>
                </a:cubicBezTo>
                <a:cubicBezTo>
                  <a:pt x="12460" y="14662"/>
                  <a:pt x="12474" y="14748"/>
                  <a:pt x="12477" y="14808"/>
                </a:cubicBezTo>
                <a:cubicBezTo>
                  <a:pt x="12480" y="14857"/>
                  <a:pt x="12477" y="14908"/>
                  <a:pt x="12477" y="14957"/>
                </a:cubicBezTo>
              </a:path>
              <a:path w="2754" h="943">
                <a:moveTo>
                  <a:pt x="12700" y="14461"/>
                </a:moveTo>
                <a:cubicBezTo>
                  <a:pt x="12700" y="14600"/>
                  <a:pt x="12703" y="14727"/>
                  <a:pt x="12725" y="14858"/>
                </a:cubicBezTo>
                <a:cubicBezTo>
                  <a:pt x="12725" y="14910"/>
                  <a:pt x="12726" y="14928"/>
                  <a:pt x="12750" y="14957"/>
                </a:cubicBezTo>
              </a:path>
              <a:path w="2754" h="943">
                <a:moveTo>
                  <a:pt x="12824" y="14436"/>
                </a:moveTo>
                <a:cubicBezTo>
                  <a:pt x="12891" y="14412"/>
                  <a:pt x="12985" y="14392"/>
                  <a:pt x="13022" y="14486"/>
                </a:cubicBezTo>
                <a:cubicBezTo>
                  <a:pt x="13045" y="14544"/>
                  <a:pt x="12972" y="14635"/>
                  <a:pt x="12948" y="14684"/>
                </a:cubicBezTo>
                <a:cubicBezTo>
                  <a:pt x="12907" y="14765"/>
                  <a:pt x="12879" y="14763"/>
                  <a:pt x="12874" y="14858"/>
                </a:cubicBezTo>
                <a:cubicBezTo>
                  <a:pt x="12870" y="14939"/>
                  <a:pt x="12941" y="14977"/>
                  <a:pt x="13022" y="14957"/>
                </a:cubicBezTo>
                <a:cubicBezTo>
                  <a:pt x="13030" y="14949"/>
                  <a:pt x="13039" y="14940"/>
                  <a:pt x="13047" y="14932"/>
                </a:cubicBezTo>
              </a:path>
              <a:path w="2754" h="943">
                <a:moveTo>
                  <a:pt x="13246" y="14436"/>
                </a:moveTo>
                <a:cubicBezTo>
                  <a:pt x="13191" y="14491"/>
                  <a:pt x="13115" y="14553"/>
                  <a:pt x="13097" y="14635"/>
                </a:cubicBezTo>
                <a:cubicBezTo>
                  <a:pt x="13077" y="14726"/>
                  <a:pt x="13106" y="14754"/>
                  <a:pt x="13146" y="14808"/>
                </a:cubicBezTo>
                <a:cubicBezTo>
                  <a:pt x="13187" y="14864"/>
                  <a:pt x="13237" y="14967"/>
                  <a:pt x="13320" y="14883"/>
                </a:cubicBezTo>
                <a:cubicBezTo>
                  <a:pt x="13373" y="14830"/>
                  <a:pt x="13370" y="14751"/>
                  <a:pt x="13370" y="14684"/>
                </a:cubicBezTo>
                <a:cubicBezTo>
                  <a:pt x="13370" y="14593"/>
                  <a:pt x="13313" y="14562"/>
                  <a:pt x="13295" y="14486"/>
                </a:cubicBezTo>
                <a:cubicBezTo>
                  <a:pt x="13285" y="14446"/>
                  <a:pt x="13279" y="14403"/>
                  <a:pt x="13271" y="14362"/>
                </a:cubicBezTo>
              </a:path>
              <a:path w="2754" h="943">
                <a:moveTo>
                  <a:pt x="13419" y="14288"/>
                </a:moveTo>
                <a:cubicBezTo>
                  <a:pt x="13380" y="14398"/>
                  <a:pt x="13368" y="14415"/>
                  <a:pt x="13419" y="14511"/>
                </a:cubicBezTo>
                <a:cubicBezTo>
                  <a:pt x="13443" y="14559"/>
                  <a:pt x="13450" y="14575"/>
                  <a:pt x="13494" y="14560"/>
                </a:cubicBezTo>
                <a:cubicBezTo>
                  <a:pt x="13551" y="14490"/>
                  <a:pt x="13509" y="14427"/>
                  <a:pt x="13543" y="14362"/>
                </a:cubicBezTo>
                <a:cubicBezTo>
                  <a:pt x="13560" y="14345"/>
                  <a:pt x="13576" y="14329"/>
                  <a:pt x="13593" y="143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Ink 6"/>
          <p:cNvSpPr/>
          <p:nvPr/>
        </p:nvSpPr>
        <p:spPr>
          <a:xfrm>
            <a:off x="4321080" y="3813120"/>
            <a:ext cx="920880" cy="347760"/>
          </a:xfrm>
          <a:custGeom>
            <a:avLst/>
            <a:gdLst/>
            <a:ahLst/>
            <a:rect l="l" t="t" r="r" b="b"/>
            <a:pathLst>
              <a:path w="2556" h="968">
                <a:moveTo>
                  <a:pt x="12353" y="10889"/>
                </a:moveTo>
                <a:cubicBezTo>
                  <a:pt x="12375" y="10933"/>
                  <a:pt x="12378" y="10944"/>
                  <a:pt x="12402" y="10964"/>
                </a:cubicBezTo>
                <a:cubicBezTo>
                  <a:pt x="12402" y="10923"/>
                  <a:pt x="12409" y="10855"/>
                  <a:pt x="12353" y="10840"/>
                </a:cubicBezTo>
                <a:cubicBezTo>
                  <a:pt x="12283" y="10821"/>
                  <a:pt x="12264" y="10831"/>
                  <a:pt x="12204" y="10840"/>
                </a:cubicBezTo>
                <a:cubicBezTo>
                  <a:pt x="12116" y="10853"/>
                  <a:pt x="12086" y="10869"/>
                  <a:pt x="12080" y="10964"/>
                </a:cubicBezTo>
                <a:cubicBezTo>
                  <a:pt x="12076" y="11027"/>
                  <a:pt x="12112" y="11047"/>
                  <a:pt x="12154" y="11088"/>
                </a:cubicBezTo>
                <a:cubicBezTo>
                  <a:pt x="12191" y="11125"/>
                  <a:pt x="12249" y="11146"/>
                  <a:pt x="12278" y="11187"/>
                </a:cubicBezTo>
                <a:cubicBezTo>
                  <a:pt x="12319" y="11245"/>
                  <a:pt x="12359" y="11305"/>
                  <a:pt x="12402" y="11361"/>
                </a:cubicBezTo>
                <a:cubicBezTo>
                  <a:pt x="12443" y="11414"/>
                  <a:pt x="12439" y="11490"/>
                  <a:pt x="12378" y="11534"/>
                </a:cubicBezTo>
                <a:cubicBezTo>
                  <a:pt x="12294" y="11594"/>
                  <a:pt x="12163" y="11552"/>
                  <a:pt x="12080" y="11509"/>
                </a:cubicBezTo>
                <a:cubicBezTo>
                  <a:pt x="12033" y="11485"/>
                  <a:pt x="12014" y="11431"/>
                  <a:pt x="12005" y="11385"/>
                </a:cubicBezTo>
              </a:path>
              <a:path w="2556" h="968">
                <a:moveTo>
                  <a:pt x="12675" y="11088"/>
                </a:moveTo>
                <a:cubicBezTo>
                  <a:pt x="12687" y="11158"/>
                  <a:pt x="12730" y="11308"/>
                  <a:pt x="12700" y="11385"/>
                </a:cubicBezTo>
                <a:cubicBezTo>
                  <a:pt x="12669" y="11465"/>
                  <a:pt x="12675" y="11355"/>
                  <a:pt x="12675" y="11336"/>
                </a:cubicBezTo>
              </a:path>
              <a:path w="2556" h="968">
                <a:moveTo>
                  <a:pt x="12650" y="10691"/>
                </a:moveTo>
                <a:cubicBezTo>
                  <a:pt x="12670" y="10650"/>
                  <a:pt x="12668" y="10634"/>
                  <a:pt x="12700" y="10641"/>
                </a:cubicBezTo>
              </a:path>
              <a:path w="2556" h="968">
                <a:moveTo>
                  <a:pt x="12849" y="11187"/>
                </a:moveTo>
                <a:cubicBezTo>
                  <a:pt x="12849" y="11245"/>
                  <a:pt x="12849" y="11303"/>
                  <a:pt x="12849" y="11361"/>
                </a:cubicBezTo>
                <a:cubicBezTo>
                  <a:pt x="12849" y="11296"/>
                  <a:pt x="12866" y="11238"/>
                  <a:pt x="12874" y="11187"/>
                </a:cubicBezTo>
                <a:cubicBezTo>
                  <a:pt x="12887" y="11103"/>
                  <a:pt x="12887" y="11054"/>
                  <a:pt x="12948" y="10988"/>
                </a:cubicBezTo>
                <a:cubicBezTo>
                  <a:pt x="12987" y="10945"/>
                  <a:pt x="13068" y="10959"/>
                  <a:pt x="13097" y="11013"/>
                </a:cubicBezTo>
                <a:cubicBezTo>
                  <a:pt x="13139" y="11093"/>
                  <a:pt x="13160" y="11157"/>
                  <a:pt x="13196" y="11237"/>
                </a:cubicBezTo>
                <a:cubicBezTo>
                  <a:pt x="13227" y="11305"/>
                  <a:pt x="13196" y="11371"/>
                  <a:pt x="13221" y="11435"/>
                </a:cubicBezTo>
                <a:cubicBezTo>
                  <a:pt x="13244" y="11458"/>
                  <a:pt x="13252" y="11469"/>
                  <a:pt x="13246" y="11435"/>
                </a:cubicBezTo>
              </a:path>
              <a:path w="2556" h="968">
                <a:moveTo>
                  <a:pt x="13469" y="10790"/>
                </a:moveTo>
                <a:cubicBezTo>
                  <a:pt x="13505" y="10850"/>
                  <a:pt x="13494" y="10914"/>
                  <a:pt x="13494" y="10988"/>
                </a:cubicBezTo>
                <a:cubicBezTo>
                  <a:pt x="13494" y="11071"/>
                  <a:pt x="13506" y="11136"/>
                  <a:pt x="13519" y="11212"/>
                </a:cubicBezTo>
                <a:cubicBezTo>
                  <a:pt x="13525" y="11246"/>
                  <a:pt x="13519" y="11435"/>
                  <a:pt x="13519" y="11385"/>
                </a:cubicBezTo>
              </a:path>
              <a:path w="2556" h="968">
                <a:moveTo>
                  <a:pt x="13816" y="10840"/>
                </a:moveTo>
                <a:cubicBezTo>
                  <a:pt x="13881" y="10822"/>
                  <a:pt x="13981" y="10838"/>
                  <a:pt x="14039" y="10815"/>
                </a:cubicBezTo>
                <a:cubicBezTo>
                  <a:pt x="14062" y="10792"/>
                  <a:pt x="14066" y="10784"/>
                  <a:pt x="14089" y="10790"/>
                </a:cubicBezTo>
              </a:path>
              <a:path w="2556" h="968">
                <a:moveTo>
                  <a:pt x="13816" y="10815"/>
                </a:moveTo>
                <a:cubicBezTo>
                  <a:pt x="13758" y="10912"/>
                  <a:pt x="13734" y="10921"/>
                  <a:pt x="13742" y="10988"/>
                </a:cubicBezTo>
                <a:cubicBezTo>
                  <a:pt x="13809" y="11029"/>
                  <a:pt x="13829" y="10997"/>
                  <a:pt x="13891" y="10988"/>
                </a:cubicBezTo>
                <a:cubicBezTo>
                  <a:pt x="13955" y="10978"/>
                  <a:pt x="14049" y="11007"/>
                  <a:pt x="14089" y="11063"/>
                </a:cubicBezTo>
                <a:cubicBezTo>
                  <a:pt x="14129" y="11118"/>
                  <a:pt x="14177" y="11218"/>
                  <a:pt x="14163" y="11286"/>
                </a:cubicBezTo>
                <a:cubicBezTo>
                  <a:pt x="14148" y="11358"/>
                  <a:pt x="14088" y="11373"/>
                  <a:pt x="14039" y="11410"/>
                </a:cubicBezTo>
                <a:cubicBezTo>
                  <a:pt x="13964" y="11467"/>
                  <a:pt x="13916" y="11471"/>
                  <a:pt x="13841" y="11410"/>
                </a:cubicBezTo>
                <a:cubicBezTo>
                  <a:pt x="13801" y="11377"/>
                  <a:pt x="13816" y="11333"/>
                  <a:pt x="13816" y="11286"/>
                </a:cubicBezTo>
              </a:path>
              <a:path w="2556" h="968">
                <a:moveTo>
                  <a:pt x="14312" y="10592"/>
                </a:moveTo>
                <a:cubicBezTo>
                  <a:pt x="14302" y="10695"/>
                  <a:pt x="14261" y="10777"/>
                  <a:pt x="14362" y="10840"/>
                </a:cubicBezTo>
                <a:cubicBezTo>
                  <a:pt x="14418" y="10875"/>
                  <a:pt x="14498" y="10845"/>
                  <a:pt x="14536" y="10790"/>
                </a:cubicBezTo>
                <a:cubicBezTo>
                  <a:pt x="14588" y="10716"/>
                  <a:pt x="14539" y="10619"/>
                  <a:pt x="14461" y="10592"/>
                </a:cubicBezTo>
                <a:cubicBezTo>
                  <a:pt x="14403" y="10592"/>
                  <a:pt x="14378" y="10592"/>
                  <a:pt x="14337" y="105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Ink 7"/>
          <p:cNvSpPr/>
          <p:nvPr/>
        </p:nvSpPr>
        <p:spPr>
          <a:xfrm>
            <a:off x="4813200" y="1482840"/>
            <a:ext cx="625680" cy="1714320"/>
          </a:xfrm>
          <a:custGeom>
            <a:avLst/>
            <a:gdLst/>
            <a:ahLst/>
            <a:rect l="l" t="t" r="r" b="b"/>
            <a:pathLst>
              <a:path w="1737" h="4763">
                <a:moveTo>
                  <a:pt x="13370" y="7863"/>
                </a:moveTo>
                <a:cubicBezTo>
                  <a:pt x="13376" y="7979"/>
                  <a:pt x="13395" y="8049"/>
                  <a:pt x="13395" y="8161"/>
                </a:cubicBezTo>
                <a:cubicBezTo>
                  <a:pt x="13395" y="8342"/>
                  <a:pt x="13393" y="8566"/>
                  <a:pt x="13370" y="8706"/>
                </a:cubicBezTo>
                <a:cubicBezTo>
                  <a:pt x="13370" y="8781"/>
                  <a:pt x="13370" y="8806"/>
                  <a:pt x="13370" y="8706"/>
                </a:cubicBezTo>
              </a:path>
              <a:path w="1737" h="4763">
                <a:moveTo>
                  <a:pt x="13543" y="8136"/>
                </a:moveTo>
                <a:cubicBezTo>
                  <a:pt x="13572" y="8064"/>
                  <a:pt x="13605" y="7981"/>
                  <a:pt x="13643" y="7913"/>
                </a:cubicBezTo>
                <a:cubicBezTo>
                  <a:pt x="13668" y="7868"/>
                  <a:pt x="13770" y="7811"/>
                  <a:pt x="13816" y="7813"/>
                </a:cubicBezTo>
                <a:cubicBezTo>
                  <a:pt x="13876" y="7816"/>
                  <a:pt x="13949" y="7847"/>
                  <a:pt x="13965" y="7913"/>
                </a:cubicBezTo>
                <a:cubicBezTo>
                  <a:pt x="13981" y="7978"/>
                  <a:pt x="13950" y="8036"/>
                  <a:pt x="13940" y="8086"/>
                </a:cubicBezTo>
                <a:cubicBezTo>
                  <a:pt x="13927" y="8149"/>
                  <a:pt x="13887" y="8176"/>
                  <a:pt x="13866" y="8235"/>
                </a:cubicBezTo>
                <a:cubicBezTo>
                  <a:pt x="13841" y="8304"/>
                  <a:pt x="13784" y="8366"/>
                  <a:pt x="13767" y="8434"/>
                </a:cubicBezTo>
                <a:cubicBezTo>
                  <a:pt x="13741" y="8542"/>
                  <a:pt x="13725" y="8550"/>
                  <a:pt x="13667" y="8632"/>
                </a:cubicBezTo>
                <a:cubicBezTo>
                  <a:pt x="13635" y="8678"/>
                  <a:pt x="13577" y="8743"/>
                  <a:pt x="13593" y="8806"/>
                </a:cubicBezTo>
                <a:cubicBezTo>
                  <a:pt x="13601" y="8822"/>
                  <a:pt x="13610" y="8839"/>
                  <a:pt x="13618" y="8855"/>
                </a:cubicBezTo>
                <a:cubicBezTo>
                  <a:pt x="13664" y="8775"/>
                  <a:pt x="13675" y="8781"/>
                  <a:pt x="13767" y="8781"/>
                </a:cubicBezTo>
                <a:cubicBezTo>
                  <a:pt x="13883" y="8781"/>
                  <a:pt x="13998" y="8781"/>
                  <a:pt x="14114" y="8781"/>
                </a:cubicBezTo>
              </a:path>
              <a:path w="1737" h="4763">
                <a:moveTo>
                  <a:pt x="14337" y="7863"/>
                </a:moveTo>
                <a:cubicBezTo>
                  <a:pt x="14328" y="7946"/>
                  <a:pt x="14320" y="8034"/>
                  <a:pt x="14288" y="8111"/>
                </a:cubicBezTo>
                <a:cubicBezTo>
                  <a:pt x="14257" y="8184"/>
                  <a:pt x="14230" y="8259"/>
                  <a:pt x="14213" y="8334"/>
                </a:cubicBezTo>
                <a:cubicBezTo>
                  <a:pt x="14189" y="8438"/>
                  <a:pt x="14195" y="8646"/>
                  <a:pt x="14238" y="8731"/>
                </a:cubicBezTo>
                <a:cubicBezTo>
                  <a:pt x="14251" y="8757"/>
                  <a:pt x="14312" y="8836"/>
                  <a:pt x="14337" y="8855"/>
                </a:cubicBezTo>
                <a:cubicBezTo>
                  <a:pt x="14395" y="8899"/>
                  <a:pt x="14461" y="8870"/>
                  <a:pt x="14511" y="8855"/>
                </a:cubicBezTo>
                <a:cubicBezTo>
                  <a:pt x="14569" y="8838"/>
                  <a:pt x="14599" y="8775"/>
                  <a:pt x="14635" y="8731"/>
                </a:cubicBezTo>
                <a:cubicBezTo>
                  <a:pt x="14671" y="8688"/>
                  <a:pt x="14706" y="8615"/>
                  <a:pt x="14709" y="8558"/>
                </a:cubicBezTo>
                <a:cubicBezTo>
                  <a:pt x="14715" y="8445"/>
                  <a:pt x="14721" y="8318"/>
                  <a:pt x="14684" y="8210"/>
                </a:cubicBezTo>
                <a:cubicBezTo>
                  <a:pt x="14665" y="8156"/>
                  <a:pt x="14639" y="8077"/>
                  <a:pt x="14610" y="8037"/>
                </a:cubicBezTo>
                <a:cubicBezTo>
                  <a:pt x="14580" y="7996"/>
                  <a:pt x="14541" y="7879"/>
                  <a:pt x="14486" y="7863"/>
                </a:cubicBezTo>
                <a:cubicBezTo>
                  <a:pt x="14445" y="7851"/>
                  <a:pt x="14368" y="7813"/>
                  <a:pt x="14337" y="7863"/>
                </a:cubicBezTo>
                <a:cubicBezTo>
                  <a:pt x="14337" y="7871"/>
                  <a:pt x="14337" y="7880"/>
                  <a:pt x="14337" y="7888"/>
                </a:cubicBezTo>
              </a:path>
              <a:path w="1737" h="4763">
                <a:moveTo>
                  <a:pt x="14734" y="7689"/>
                </a:moveTo>
                <a:cubicBezTo>
                  <a:pt x="14730" y="7736"/>
                  <a:pt x="14666" y="7888"/>
                  <a:pt x="14759" y="7888"/>
                </a:cubicBezTo>
                <a:cubicBezTo>
                  <a:pt x="14796" y="7888"/>
                  <a:pt x="14852" y="7844"/>
                  <a:pt x="14883" y="7813"/>
                </a:cubicBezTo>
                <a:cubicBezTo>
                  <a:pt x="14843" y="7764"/>
                  <a:pt x="14815" y="7722"/>
                  <a:pt x="14759" y="7689"/>
                </a:cubicBezTo>
                <a:cubicBezTo>
                  <a:pt x="14718" y="7669"/>
                  <a:pt x="14712" y="7661"/>
                  <a:pt x="14684" y="7665"/>
                </a:cubicBezTo>
              </a:path>
              <a:path w="1737" h="4763">
                <a:moveTo>
                  <a:pt x="13767" y="5978"/>
                </a:moveTo>
                <a:cubicBezTo>
                  <a:pt x="13767" y="6067"/>
                  <a:pt x="13743" y="6118"/>
                  <a:pt x="13717" y="6201"/>
                </a:cubicBezTo>
                <a:cubicBezTo>
                  <a:pt x="13713" y="6215"/>
                  <a:pt x="13640" y="6385"/>
                  <a:pt x="13643" y="6400"/>
                </a:cubicBezTo>
                <a:cubicBezTo>
                  <a:pt x="13653" y="6453"/>
                  <a:pt x="13736" y="6449"/>
                  <a:pt x="13767" y="6474"/>
                </a:cubicBezTo>
                <a:cubicBezTo>
                  <a:pt x="13802" y="6503"/>
                  <a:pt x="13938" y="6539"/>
                  <a:pt x="13990" y="6524"/>
                </a:cubicBezTo>
                <a:cubicBezTo>
                  <a:pt x="14033" y="6512"/>
                  <a:pt x="14087" y="6488"/>
                  <a:pt x="14139" y="6474"/>
                </a:cubicBezTo>
              </a:path>
              <a:path w="1737" h="4763">
                <a:moveTo>
                  <a:pt x="14064" y="5928"/>
                </a:moveTo>
                <a:cubicBezTo>
                  <a:pt x="14010" y="6010"/>
                  <a:pt x="14015" y="6052"/>
                  <a:pt x="14015" y="6152"/>
                </a:cubicBezTo>
                <a:cubicBezTo>
                  <a:pt x="14015" y="6283"/>
                  <a:pt x="14007" y="6398"/>
                  <a:pt x="13990" y="6524"/>
                </a:cubicBezTo>
                <a:cubicBezTo>
                  <a:pt x="13973" y="6651"/>
                  <a:pt x="13990" y="6793"/>
                  <a:pt x="13990" y="6921"/>
                </a:cubicBezTo>
              </a:path>
              <a:path w="1737" h="4763">
                <a:moveTo>
                  <a:pt x="14387" y="6077"/>
                </a:moveTo>
                <a:cubicBezTo>
                  <a:pt x="14508" y="6071"/>
                  <a:pt x="14605" y="6058"/>
                  <a:pt x="14709" y="6028"/>
                </a:cubicBezTo>
                <a:cubicBezTo>
                  <a:pt x="14717" y="6028"/>
                  <a:pt x="14726" y="6028"/>
                  <a:pt x="14734" y="6028"/>
                </a:cubicBezTo>
              </a:path>
              <a:path w="1737" h="4763">
                <a:moveTo>
                  <a:pt x="14362" y="6052"/>
                </a:moveTo>
                <a:cubicBezTo>
                  <a:pt x="14320" y="6147"/>
                  <a:pt x="14278" y="6228"/>
                  <a:pt x="14263" y="6325"/>
                </a:cubicBezTo>
                <a:cubicBezTo>
                  <a:pt x="14263" y="6342"/>
                  <a:pt x="14263" y="6358"/>
                  <a:pt x="14263" y="6375"/>
                </a:cubicBezTo>
                <a:cubicBezTo>
                  <a:pt x="14301" y="6394"/>
                  <a:pt x="14342" y="6386"/>
                  <a:pt x="14387" y="6350"/>
                </a:cubicBezTo>
                <a:cubicBezTo>
                  <a:pt x="14442" y="6306"/>
                  <a:pt x="14498" y="6322"/>
                  <a:pt x="14560" y="6350"/>
                </a:cubicBezTo>
                <a:cubicBezTo>
                  <a:pt x="14641" y="6386"/>
                  <a:pt x="14637" y="6431"/>
                  <a:pt x="14684" y="6499"/>
                </a:cubicBezTo>
                <a:cubicBezTo>
                  <a:pt x="14729" y="6564"/>
                  <a:pt x="14734" y="6592"/>
                  <a:pt x="14734" y="6672"/>
                </a:cubicBezTo>
                <a:cubicBezTo>
                  <a:pt x="14734" y="6756"/>
                  <a:pt x="14667" y="6799"/>
                  <a:pt x="14610" y="6846"/>
                </a:cubicBezTo>
                <a:cubicBezTo>
                  <a:pt x="14552" y="6895"/>
                  <a:pt x="14542" y="6896"/>
                  <a:pt x="14461" y="6896"/>
                </a:cubicBezTo>
                <a:cubicBezTo>
                  <a:pt x="14378" y="6896"/>
                  <a:pt x="14327" y="6906"/>
                  <a:pt x="14288" y="6821"/>
                </a:cubicBezTo>
                <a:cubicBezTo>
                  <a:pt x="14280" y="6796"/>
                  <a:pt x="14271" y="6772"/>
                  <a:pt x="14263" y="6747"/>
                </a:cubicBezTo>
              </a:path>
              <a:path w="1737" h="4763">
                <a:moveTo>
                  <a:pt x="14759" y="6052"/>
                </a:moveTo>
                <a:cubicBezTo>
                  <a:pt x="14769" y="6133"/>
                  <a:pt x="14785" y="6180"/>
                  <a:pt x="14883" y="6152"/>
                </a:cubicBezTo>
                <a:cubicBezTo>
                  <a:pt x="14931" y="6138"/>
                  <a:pt x="15000" y="6057"/>
                  <a:pt x="14982" y="6003"/>
                </a:cubicBezTo>
                <a:cubicBezTo>
                  <a:pt x="14960" y="5939"/>
                  <a:pt x="14856" y="5953"/>
                  <a:pt x="14808" y="5953"/>
                </a:cubicBezTo>
                <a:cubicBezTo>
                  <a:pt x="14792" y="5953"/>
                  <a:pt x="14775" y="5953"/>
                  <a:pt x="14759" y="5953"/>
                </a:cubicBezTo>
              </a:path>
              <a:path w="1737" h="4763">
                <a:moveTo>
                  <a:pt x="13990" y="4341"/>
                </a:moveTo>
                <a:cubicBezTo>
                  <a:pt x="13990" y="4291"/>
                  <a:pt x="13990" y="4275"/>
                  <a:pt x="13990" y="4242"/>
                </a:cubicBezTo>
                <a:cubicBezTo>
                  <a:pt x="13990" y="4427"/>
                  <a:pt x="13986" y="4607"/>
                  <a:pt x="13965" y="4787"/>
                </a:cubicBezTo>
                <a:cubicBezTo>
                  <a:pt x="13953" y="4892"/>
                  <a:pt x="13929" y="4978"/>
                  <a:pt x="13915" y="5085"/>
                </a:cubicBezTo>
                <a:cubicBezTo>
                  <a:pt x="13907" y="5148"/>
                  <a:pt x="13898" y="5198"/>
                  <a:pt x="13891" y="5259"/>
                </a:cubicBezTo>
              </a:path>
              <a:path w="1737" h="4763">
                <a:moveTo>
                  <a:pt x="14312" y="4316"/>
                </a:moveTo>
                <a:cubicBezTo>
                  <a:pt x="14402" y="4308"/>
                  <a:pt x="14521" y="4312"/>
                  <a:pt x="14610" y="4291"/>
                </a:cubicBezTo>
                <a:cubicBezTo>
                  <a:pt x="14667" y="4263"/>
                  <a:pt x="14690" y="4252"/>
                  <a:pt x="14734" y="4242"/>
                </a:cubicBezTo>
              </a:path>
              <a:path w="1737" h="4763">
                <a:moveTo>
                  <a:pt x="14288" y="4316"/>
                </a:moveTo>
                <a:cubicBezTo>
                  <a:pt x="14268" y="4411"/>
                  <a:pt x="14242" y="4495"/>
                  <a:pt x="14238" y="4589"/>
                </a:cubicBezTo>
                <a:cubicBezTo>
                  <a:pt x="14238" y="4655"/>
                  <a:pt x="14238" y="4672"/>
                  <a:pt x="14238" y="4713"/>
                </a:cubicBezTo>
                <a:cubicBezTo>
                  <a:pt x="14305" y="4703"/>
                  <a:pt x="14313" y="4686"/>
                  <a:pt x="14362" y="4638"/>
                </a:cubicBezTo>
                <a:cubicBezTo>
                  <a:pt x="14399" y="4602"/>
                  <a:pt x="14450" y="4540"/>
                  <a:pt x="14511" y="4564"/>
                </a:cubicBezTo>
                <a:cubicBezTo>
                  <a:pt x="14579" y="4591"/>
                  <a:pt x="14625" y="4655"/>
                  <a:pt x="14660" y="4713"/>
                </a:cubicBezTo>
                <a:cubicBezTo>
                  <a:pt x="14702" y="4783"/>
                  <a:pt x="14709" y="4832"/>
                  <a:pt x="14709" y="4911"/>
                </a:cubicBezTo>
                <a:cubicBezTo>
                  <a:pt x="14709" y="4994"/>
                  <a:pt x="14687" y="5038"/>
                  <a:pt x="14635" y="5085"/>
                </a:cubicBezTo>
                <a:cubicBezTo>
                  <a:pt x="14573" y="5141"/>
                  <a:pt x="14558" y="5164"/>
                  <a:pt x="14486" y="5184"/>
                </a:cubicBezTo>
                <a:cubicBezTo>
                  <a:pt x="14381" y="5213"/>
                  <a:pt x="14295" y="5228"/>
                  <a:pt x="14213" y="5135"/>
                </a:cubicBezTo>
                <a:cubicBezTo>
                  <a:pt x="14205" y="5118"/>
                  <a:pt x="14196" y="5102"/>
                  <a:pt x="14188" y="5085"/>
                </a:cubicBezTo>
              </a:path>
              <a:path w="1737" h="4763">
                <a:moveTo>
                  <a:pt x="14883" y="4167"/>
                </a:moveTo>
                <a:cubicBezTo>
                  <a:pt x="14883" y="4250"/>
                  <a:pt x="14883" y="4266"/>
                  <a:pt x="14883" y="4316"/>
                </a:cubicBezTo>
                <a:cubicBezTo>
                  <a:pt x="14952" y="4316"/>
                  <a:pt x="15000" y="4321"/>
                  <a:pt x="15056" y="4291"/>
                </a:cubicBezTo>
                <a:cubicBezTo>
                  <a:pt x="15093" y="4271"/>
                  <a:pt x="15157" y="4172"/>
                  <a:pt x="15081" y="4142"/>
                </a:cubicBezTo>
                <a:cubicBezTo>
                  <a:pt x="15015" y="4116"/>
                  <a:pt x="14942" y="4113"/>
                  <a:pt x="14883" y="41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Ink 8"/>
          <p:cNvSpPr/>
          <p:nvPr/>
        </p:nvSpPr>
        <p:spPr>
          <a:xfrm>
            <a:off x="633240" y="1724040"/>
            <a:ext cx="2098800" cy="2562120"/>
          </a:xfrm>
          <a:custGeom>
            <a:avLst/>
            <a:gdLst/>
            <a:ahLst/>
            <a:rect l="l" t="t" r="r" b="b"/>
            <a:pathLst>
              <a:path w="5830" h="7120">
                <a:moveTo>
                  <a:pt x="1761" y="4787"/>
                </a:moveTo>
                <a:cubicBezTo>
                  <a:pt x="1783" y="4856"/>
                  <a:pt x="1799" y="4917"/>
                  <a:pt x="1836" y="4986"/>
                </a:cubicBezTo>
                <a:cubicBezTo>
                  <a:pt x="1872" y="5053"/>
                  <a:pt x="1923" y="5116"/>
                  <a:pt x="1960" y="5184"/>
                </a:cubicBezTo>
                <a:cubicBezTo>
                  <a:pt x="1997" y="5252"/>
                  <a:pt x="2046" y="5317"/>
                  <a:pt x="2084" y="5383"/>
                </a:cubicBezTo>
                <a:cubicBezTo>
                  <a:pt x="2143" y="5485"/>
                  <a:pt x="2171" y="5607"/>
                  <a:pt x="2232" y="5705"/>
                </a:cubicBezTo>
                <a:cubicBezTo>
                  <a:pt x="2293" y="5804"/>
                  <a:pt x="2307" y="5897"/>
                  <a:pt x="2356" y="6003"/>
                </a:cubicBezTo>
                <a:cubicBezTo>
                  <a:pt x="2409" y="6116"/>
                  <a:pt x="2483" y="6206"/>
                  <a:pt x="2530" y="6325"/>
                </a:cubicBezTo>
                <a:cubicBezTo>
                  <a:pt x="2567" y="6420"/>
                  <a:pt x="2619" y="6503"/>
                  <a:pt x="2654" y="6598"/>
                </a:cubicBezTo>
                <a:cubicBezTo>
                  <a:pt x="2691" y="6697"/>
                  <a:pt x="2729" y="6778"/>
                  <a:pt x="2778" y="6871"/>
                </a:cubicBezTo>
                <a:cubicBezTo>
                  <a:pt x="2830" y="6970"/>
                  <a:pt x="2867" y="7063"/>
                  <a:pt x="2902" y="7169"/>
                </a:cubicBezTo>
                <a:cubicBezTo>
                  <a:pt x="2955" y="7329"/>
                  <a:pt x="3007" y="7519"/>
                  <a:pt x="3076" y="7665"/>
                </a:cubicBezTo>
                <a:cubicBezTo>
                  <a:pt x="3116" y="7750"/>
                  <a:pt x="3162" y="7827"/>
                  <a:pt x="3200" y="7913"/>
                </a:cubicBezTo>
              </a:path>
              <a:path w="5830" h="7120">
                <a:moveTo>
                  <a:pt x="3101" y="8161"/>
                </a:moveTo>
                <a:cubicBezTo>
                  <a:pt x="3065" y="8089"/>
                  <a:pt x="3061" y="8042"/>
                  <a:pt x="2977" y="8037"/>
                </a:cubicBezTo>
                <a:cubicBezTo>
                  <a:pt x="2885" y="8032"/>
                  <a:pt x="2870" y="8091"/>
                  <a:pt x="2803" y="8136"/>
                </a:cubicBezTo>
                <a:cubicBezTo>
                  <a:pt x="2744" y="8175"/>
                  <a:pt x="2696" y="8207"/>
                  <a:pt x="2679" y="8285"/>
                </a:cubicBezTo>
                <a:cubicBezTo>
                  <a:pt x="2666" y="8344"/>
                  <a:pt x="2669" y="8431"/>
                  <a:pt x="2704" y="8483"/>
                </a:cubicBezTo>
                <a:cubicBezTo>
                  <a:pt x="2756" y="8561"/>
                  <a:pt x="2833" y="8543"/>
                  <a:pt x="2902" y="8582"/>
                </a:cubicBezTo>
                <a:cubicBezTo>
                  <a:pt x="3007" y="8641"/>
                  <a:pt x="3079" y="8632"/>
                  <a:pt x="3200" y="8632"/>
                </a:cubicBezTo>
                <a:cubicBezTo>
                  <a:pt x="3311" y="8632"/>
                  <a:pt x="3371" y="8621"/>
                  <a:pt x="3448" y="8582"/>
                </a:cubicBezTo>
                <a:cubicBezTo>
                  <a:pt x="3456" y="8582"/>
                  <a:pt x="3465" y="8582"/>
                  <a:pt x="3473" y="8582"/>
                </a:cubicBezTo>
              </a:path>
              <a:path w="5830" h="7120">
                <a:moveTo>
                  <a:pt x="7590" y="10691"/>
                </a:moveTo>
                <a:cubicBezTo>
                  <a:pt x="7529" y="10654"/>
                  <a:pt x="7410" y="10607"/>
                  <a:pt x="7342" y="10592"/>
                </a:cubicBezTo>
                <a:cubicBezTo>
                  <a:pt x="7232" y="10569"/>
                  <a:pt x="7109" y="10567"/>
                  <a:pt x="6995" y="10567"/>
                </a:cubicBezTo>
                <a:cubicBezTo>
                  <a:pt x="6655" y="10567"/>
                  <a:pt x="6314" y="10568"/>
                  <a:pt x="5978" y="10592"/>
                </a:cubicBezTo>
                <a:cubicBezTo>
                  <a:pt x="5826" y="10603"/>
                  <a:pt x="5631" y="10607"/>
                  <a:pt x="5482" y="10641"/>
                </a:cubicBezTo>
                <a:cubicBezTo>
                  <a:pt x="5347" y="10672"/>
                  <a:pt x="5222" y="10727"/>
                  <a:pt x="5085" y="10740"/>
                </a:cubicBezTo>
                <a:cubicBezTo>
                  <a:pt x="4971" y="10751"/>
                  <a:pt x="4954" y="10763"/>
                  <a:pt x="4862" y="10815"/>
                </a:cubicBezTo>
              </a:path>
              <a:path w="5830" h="7120">
                <a:moveTo>
                  <a:pt x="6152" y="11112"/>
                </a:moveTo>
                <a:cubicBezTo>
                  <a:pt x="6152" y="11257"/>
                  <a:pt x="6162" y="11392"/>
                  <a:pt x="6176" y="11534"/>
                </a:cubicBezTo>
                <a:cubicBezTo>
                  <a:pt x="6184" y="11615"/>
                  <a:pt x="6176" y="11701"/>
                  <a:pt x="6176" y="11782"/>
                </a:cubicBezTo>
              </a:path>
              <a:path w="5830" h="7120">
                <a:moveTo>
                  <a:pt x="6400" y="11187"/>
                </a:moveTo>
                <a:cubicBezTo>
                  <a:pt x="6485" y="11170"/>
                  <a:pt x="6566" y="11153"/>
                  <a:pt x="6648" y="11137"/>
                </a:cubicBezTo>
              </a:path>
              <a:path w="5830" h="7120">
                <a:moveTo>
                  <a:pt x="6474" y="11112"/>
                </a:moveTo>
                <a:cubicBezTo>
                  <a:pt x="6391" y="11160"/>
                  <a:pt x="6355" y="11212"/>
                  <a:pt x="6400" y="11311"/>
                </a:cubicBezTo>
                <a:cubicBezTo>
                  <a:pt x="6430" y="11378"/>
                  <a:pt x="6496" y="11400"/>
                  <a:pt x="6548" y="11435"/>
                </a:cubicBezTo>
                <a:cubicBezTo>
                  <a:pt x="6614" y="11479"/>
                  <a:pt x="6640" y="11490"/>
                  <a:pt x="6697" y="11559"/>
                </a:cubicBezTo>
                <a:cubicBezTo>
                  <a:pt x="6767" y="11643"/>
                  <a:pt x="6796" y="11673"/>
                  <a:pt x="6796" y="11782"/>
                </a:cubicBezTo>
                <a:cubicBezTo>
                  <a:pt x="6796" y="11873"/>
                  <a:pt x="6763" y="11858"/>
                  <a:pt x="6697" y="11881"/>
                </a:cubicBezTo>
                <a:cubicBezTo>
                  <a:pt x="6607" y="11913"/>
                  <a:pt x="6521" y="11906"/>
                  <a:pt x="6424" y="11906"/>
                </a:cubicBezTo>
                <a:cubicBezTo>
                  <a:pt x="6408" y="11906"/>
                  <a:pt x="6391" y="11906"/>
                  <a:pt x="6375" y="11906"/>
                </a:cubicBezTo>
              </a:path>
              <a:path w="5830" h="7120">
                <a:moveTo>
                  <a:pt x="4068" y="10294"/>
                </a:moveTo>
                <a:cubicBezTo>
                  <a:pt x="4138" y="10373"/>
                  <a:pt x="4191" y="10434"/>
                  <a:pt x="4266" y="10492"/>
                </a:cubicBezTo>
                <a:cubicBezTo>
                  <a:pt x="4363" y="10567"/>
                  <a:pt x="4444" y="10661"/>
                  <a:pt x="4539" y="10740"/>
                </a:cubicBezTo>
                <a:cubicBezTo>
                  <a:pt x="4655" y="10837"/>
                  <a:pt x="4774" y="10917"/>
                  <a:pt x="4887" y="11013"/>
                </a:cubicBezTo>
                <a:cubicBezTo>
                  <a:pt x="4980" y="11092"/>
                  <a:pt x="5082" y="11168"/>
                  <a:pt x="5184" y="11237"/>
                </a:cubicBezTo>
                <a:cubicBezTo>
                  <a:pt x="5242" y="11276"/>
                  <a:pt x="5284" y="11294"/>
                  <a:pt x="5333" y="11286"/>
                </a:cubicBezTo>
              </a:path>
              <a:path w="5830" h="7120">
                <a:moveTo>
                  <a:pt x="4787" y="10145"/>
                </a:moveTo>
                <a:cubicBezTo>
                  <a:pt x="4751" y="10208"/>
                  <a:pt x="4726" y="10304"/>
                  <a:pt x="4663" y="10344"/>
                </a:cubicBezTo>
                <a:cubicBezTo>
                  <a:pt x="4564" y="10407"/>
                  <a:pt x="4442" y="10450"/>
                  <a:pt x="4341" y="10517"/>
                </a:cubicBezTo>
                <a:cubicBezTo>
                  <a:pt x="4242" y="10583"/>
                  <a:pt x="4197" y="10669"/>
                  <a:pt x="4093" y="10716"/>
                </a:cubicBezTo>
                <a:cubicBezTo>
                  <a:pt x="4002" y="10757"/>
                  <a:pt x="3991" y="10806"/>
                  <a:pt x="3919" y="10864"/>
                </a:cubicBezTo>
                <a:cubicBezTo>
                  <a:pt x="3877" y="10897"/>
                  <a:pt x="3814" y="10897"/>
                  <a:pt x="3770" y="109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Ink 9"/>
          <p:cNvSpPr/>
          <p:nvPr/>
        </p:nvSpPr>
        <p:spPr>
          <a:xfrm>
            <a:off x="588960" y="3429000"/>
            <a:ext cx="920880" cy="349200"/>
          </a:xfrm>
          <a:custGeom>
            <a:avLst/>
            <a:gdLst/>
            <a:ahLst/>
            <a:rect l="l" t="t" r="r" b="b"/>
            <a:pathLst>
              <a:path w="2556" h="968">
                <a:moveTo>
                  <a:pt x="2009" y="9971"/>
                </a:moveTo>
                <a:cubicBezTo>
                  <a:pt x="1993" y="9898"/>
                  <a:pt x="1975" y="9855"/>
                  <a:pt x="1885" y="9847"/>
                </a:cubicBezTo>
                <a:cubicBezTo>
                  <a:pt x="1810" y="9840"/>
                  <a:pt x="1734" y="9837"/>
                  <a:pt x="1712" y="9922"/>
                </a:cubicBezTo>
                <a:cubicBezTo>
                  <a:pt x="1700" y="9968"/>
                  <a:pt x="1707" y="10093"/>
                  <a:pt x="1761" y="10120"/>
                </a:cubicBezTo>
                <a:cubicBezTo>
                  <a:pt x="1782" y="10130"/>
                  <a:pt x="1892" y="10141"/>
                  <a:pt x="1910" y="10145"/>
                </a:cubicBezTo>
                <a:cubicBezTo>
                  <a:pt x="1956" y="10154"/>
                  <a:pt x="2005" y="10178"/>
                  <a:pt x="2034" y="10220"/>
                </a:cubicBezTo>
                <a:cubicBezTo>
                  <a:pt x="2064" y="10263"/>
                  <a:pt x="2105" y="10316"/>
                  <a:pt x="2108" y="10368"/>
                </a:cubicBezTo>
                <a:cubicBezTo>
                  <a:pt x="2113" y="10440"/>
                  <a:pt x="2075" y="10484"/>
                  <a:pt x="2009" y="10492"/>
                </a:cubicBezTo>
                <a:cubicBezTo>
                  <a:pt x="1909" y="10504"/>
                  <a:pt x="1864" y="10490"/>
                  <a:pt x="1786" y="10443"/>
                </a:cubicBezTo>
                <a:cubicBezTo>
                  <a:pt x="1763" y="10429"/>
                  <a:pt x="1642" y="10358"/>
                  <a:pt x="1637" y="10344"/>
                </a:cubicBezTo>
                <a:cubicBezTo>
                  <a:pt x="1637" y="10327"/>
                  <a:pt x="1637" y="10311"/>
                  <a:pt x="1637" y="10294"/>
                </a:cubicBezTo>
              </a:path>
              <a:path w="2556" h="968">
                <a:moveTo>
                  <a:pt x="2307" y="10046"/>
                </a:moveTo>
                <a:cubicBezTo>
                  <a:pt x="2307" y="10112"/>
                  <a:pt x="2307" y="10364"/>
                  <a:pt x="2307" y="10344"/>
                </a:cubicBezTo>
              </a:path>
              <a:path w="2556" h="968">
                <a:moveTo>
                  <a:pt x="2332" y="9748"/>
                </a:moveTo>
                <a:cubicBezTo>
                  <a:pt x="2348" y="9732"/>
                  <a:pt x="2365" y="9715"/>
                  <a:pt x="2381" y="9699"/>
                </a:cubicBezTo>
              </a:path>
              <a:path w="2556" h="968">
                <a:moveTo>
                  <a:pt x="2505" y="10220"/>
                </a:moveTo>
                <a:cubicBezTo>
                  <a:pt x="2497" y="10261"/>
                  <a:pt x="2488" y="10303"/>
                  <a:pt x="2480" y="10344"/>
                </a:cubicBezTo>
                <a:cubicBezTo>
                  <a:pt x="2480" y="10251"/>
                  <a:pt x="2515" y="10198"/>
                  <a:pt x="2530" y="10120"/>
                </a:cubicBezTo>
                <a:cubicBezTo>
                  <a:pt x="2556" y="9982"/>
                  <a:pt x="2555" y="10038"/>
                  <a:pt x="2629" y="9971"/>
                </a:cubicBezTo>
                <a:cubicBezTo>
                  <a:pt x="2653" y="9923"/>
                  <a:pt x="2660" y="9907"/>
                  <a:pt x="2704" y="9922"/>
                </a:cubicBezTo>
                <a:cubicBezTo>
                  <a:pt x="2746" y="9998"/>
                  <a:pt x="2774" y="10067"/>
                  <a:pt x="2803" y="10145"/>
                </a:cubicBezTo>
                <a:cubicBezTo>
                  <a:pt x="2831" y="10218"/>
                  <a:pt x="2828" y="10262"/>
                  <a:pt x="2828" y="10344"/>
                </a:cubicBezTo>
                <a:cubicBezTo>
                  <a:pt x="2828" y="10368"/>
                  <a:pt x="2828" y="10376"/>
                  <a:pt x="2828" y="10344"/>
                </a:cubicBezTo>
              </a:path>
              <a:path w="2556" h="968">
                <a:moveTo>
                  <a:pt x="3001" y="9823"/>
                </a:moveTo>
                <a:cubicBezTo>
                  <a:pt x="3001" y="9893"/>
                  <a:pt x="2968" y="10010"/>
                  <a:pt x="3051" y="10046"/>
                </a:cubicBezTo>
                <a:cubicBezTo>
                  <a:pt x="3105" y="10069"/>
                  <a:pt x="3151" y="10075"/>
                  <a:pt x="3200" y="10046"/>
                </a:cubicBezTo>
              </a:path>
              <a:path w="2556" h="968">
                <a:moveTo>
                  <a:pt x="3274" y="9674"/>
                </a:moveTo>
                <a:cubicBezTo>
                  <a:pt x="3245" y="9788"/>
                  <a:pt x="3269" y="9856"/>
                  <a:pt x="3274" y="9971"/>
                </a:cubicBezTo>
                <a:cubicBezTo>
                  <a:pt x="3280" y="10111"/>
                  <a:pt x="3274" y="10484"/>
                  <a:pt x="3274" y="10344"/>
                </a:cubicBezTo>
              </a:path>
              <a:path w="2556" h="968">
                <a:moveTo>
                  <a:pt x="3423" y="9748"/>
                </a:moveTo>
                <a:cubicBezTo>
                  <a:pt x="3490" y="9756"/>
                  <a:pt x="3577" y="9798"/>
                  <a:pt x="3646" y="9773"/>
                </a:cubicBezTo>
                <a:cubicBezTo>
                  <a:pt x="3669" y="9750"/>
                  <a:pt x="3673" y="9742"/>
                  <a:pt x="3696" y="9748"/>
                </a:cubicBezTo>
              </a:path>
              <a:path w="2556" h="968">
                <a:moveTo>
                  <a:pt x="3448" y="9773"/>
                </a:moveTo>
                <a:cubicBezTo>
                  <a:pt x="3425" y="9842"/>
                  <a:pt x="3423" y="9897"/>
                  <a:pt x="3423" y="9971"/>
                </a:cubicBezTo>
                <a:cubicBezTo>
                  <a:pt x="3493" y="9971"/>
                  <a:pt x="3692" y="9936"/>
                  <a:pt x="3746" y="9996"/>
                </a:cubicBezTo>
                <a:cubicBezTo>
                  <a:pt x="3795" y="10050"/>
                  <a:pt x="3811" y="10112"/>
                  <a:pt x="3820" y="10195"/>
                </a:cubicBezTo>
                <a:cubicBezTo>
                  <a:pt x="3829" y="10275"/>
                  <a:pt x="3831" y="10336"/>
                  <a:pt x="3746" y="10344"/>
                </a:cubicBezTo>
                <a:cubicBezTo>
                  <a:pt x="3651" y="10353"/>
                  <a:pt x="3600" y="10359"/>
                  <a:pt x="3547" y="10294"/>
                </a:cubicBezTo>
              </a:path>
              <a:path w="2556" h="968">
                <a:moveTo>
                  <a:pt x="4018" y="9674"/>
                </a:moveTo>
                <a:cubicBezTo>
                  <a:pt x="3998" y="9734"/>
                  <a:pt x="3980" y="9749"/>
                  <a:pt x="4018" y="9773"/>
                </a:cubicBezTo>
                <a:cubicBezTo>
                  <a:pt x="4119" y="9773"/>
                  <a:pt x="4110" y="9774"/>
                  <a:pt x="4167" y="9699"/>
                </a:cubicBezTo>
                <a:cubicBezTo>
                  <a:pt x="4225" y="9622"/>
                  <a:pt x="4166" y="9594"/>
                  <a:pt x="4093" y="9550"/>
                </a:cubicBezTo>
                <a:cubicBezTo>
                  <a:pt x="4045" y="9526"/>
                  <a:pt x="4031" y="9518"/>
                  <a:pt x="3994" y="95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Ink 10"/>
          <p:cNvSpPr/>
          <p:nvPr/>
        </p:nvSpPr>
        <p:spPr>
          <a:xfrm>
            <a:off x="1751040" y="2874960"/>
            <a:ext cx="384120" cy="260280"/>
          </a:xfrm>
          <a:custGeom>
            <a:avLst/>
            <a:gdLst/>
            <a:ahLst/>
            <a:rect l="l" t="t" r="r" b="b"/>
            <a:pathLst>
              <a:path w="1067" h="720">
                <a:moveTo>
                  <a:pt x="4936" y="8136"/>
                </a:moveTo>
                <a:cubicBezTo>
                  <a:pt x="4929" y="8195"/>
                  <a:pt x="4923" y="8265"/>
                  <a:pt x="4887" y="8310"/>
                </a:cubicBezTo>
                <a:cubicBezTo>
                  <a:pt x="4879" y="8318"/>
                  <a:pt x="4870" y="8326"/>
                  <a:pt x="4862" y="8334"/>
                </a:cubicBezTo>
                <a:cubicBezTo>
                  <a:pt x="4973" y="8334"/>
                  <a:pt x="5141" y="8364"/>
                  <a:pt x="5234" y="8310"/>
                </a:cubicBezTo>
              </a:path>
              <a:path w="1067" h="720">
                <a:moveTo>
                  <a:pt x="5035" y="7987"/>
                </a:moveTo>
                <a:cubicBezTo>
                  <a:pt x="5042" y="8087"/>
                  <a:pt x="5060" y="8184"/>
                  <a:pt x="5060" y="8285"/>
                </a:cubicBezTo>
                <a:cubicBezTo>
                  <a:pt x="5060" y="8425"/>
                  <a:pt x="5060" y="8566"/>
                  <a:pt x="5060" y="8706"/>
                </a:cubicBezTo>
              </a:path>
              <a:path w="1067" h="720">
                <a:moveTo>
                  <a:pt x="5283" y="8558"/>
                </a:moveTo>
                <a:cubicBezTo>
                  <a:pt x="5291" y="8533"/>
                  <a:pt x="5300" y="8508"/>
                  <a:pt x="5308" y="8483"/>
                </a:cubicBezTo>
              </a:path>
              <a:path w="1067" h="720">
                <a:moveTo>
                  <a:pt x="5531" y="8037"/>
                </a:moveTo>
                <a:cubicBezTo>
                  <a:pt x="5621" y="8012"/>
                  <a:pt x="5713" y="8002"/>
                  <a:pt x="5804" y="7987"/>
                </a:cubicBezTo>
              </a:path>
              <a:path w="1067" h="720">
                <a:moveTo>
                  <a:pt x="5432" y="8086"/>
                </a:moveTo>
                <a:cubicBezTo>
                  <a:pt x="5438" y="8180"/>
                  <a:pt x="5432" y="8210"/>
                  <a:pt x="5482" y="8285"/>
                </a:cubicBezTo>
                <a:cubicBezTo>
                  <a:pt x="5531" y="8255"/>
                  <a:pt x="5583" y="8260"/>
                  <a:pt x="5631" y="8235"/>
                </a:cubicBezTo>
                <a:cubicBezTo>
                  <a:pt x="5709" y="8196"/>
                  <a:pt x="5767" y="8253"/>
                  <a:pt x="5829" y="8310"/>
                </a:cubicBezTo>
                <a:cubicBezTo>
                  <a:pt x="5869" y="8346"/>
                  <a:pt x="5913" y="8373"/>
                  <a:pt x="5928" y="8434"/>
                </a:cubicBezTo>
                <a:cubicBezTo>
                  <a:pt x="5939" y="8477"/>
                  <a:pt x="5944" y="8596"/>
                  <a:pt x="5904" y="8632"/>
                </a:cubicBezTo>
                <a:cubicBezTo>
                  <a:pt x="5849" y="8681"/>
                  <a:pt x="5762" y="8658"/>
                  <a:pt x="5705" y="8706"/>
                </a:cubicBezTo>
                <a:cubicBezTo>
                  <a:pt x="5628" y="8689"/>
                  <a:pt x="5558" y="8661"/>
                  <a:pt x="5482" y="86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Ink 11"/>
          <p:cNvSpPr/>
          <p:nvPr/>
        </p:nvSpPr>
        <p:spPr>
          <a:xfrm>
            <a:off x="2224080" y="2581200"/>
            <a:ext cx="401760" cy="214560"/>
          </a:xfrm>
          <a:custGeom>
            <a:avLst/>
            <a:gdLst/>
            <a:ahLst/>
            <a:rect l="l" t="t" r="r" b="b"/>
            <a:pathLst>
              <a:path w="1118" h="596">
                <a:moveTo>
                  <a:pt x="6251" y="7243"/>
                </a:moveTo>
                <a:cubicBezTo>
                  <a:pt x="6251" y="7344"/>
                  <a:pt x="6249" y="7344"/>
                  <a:pt x="6201" y="7417"/>
                </a:cubicBezTo>
                <a:cubicBezTo>
                  <a:pt x="6142" y="7507"/>
                  <a:pt x="6186" y="7536"/>
                  <a:pt x="6276" y="7541"/>
                </a:cubicBezTo>
                <a:cubicBezTo>
                  <a:pt x="6342" y="7541"/>
                  <a:pt x="6375" y="7541"/>
                  <a:pt x="6424" y="7541"/>
                </a:cubicBezTo>
              </a:path>
              <a:path w="1118" h="596">
                <a:moveTo>
                  <a:pt x="6474" y="7169"/>
                </a:moveTo>
                <a:cubicBezTo>
                  <a:pt x="6441" y="7223"/>
                  <a:pt x="6449" y="7274"/>
                  <a:pt x="6449" y="7342"/>
                </a:cubicBezTo>
                <a:cubicBezTo>
                  <a:pt x="6449" y="7423"/>
                  <a:pt x="6427" y="7463"/>
                  <a:pt x="6424" y="7541"/>
                </a:cubicBezTo>
                <a:cubicBezTo>
                  <a:pt x="6421" y="7614"/>
                  <a:pt x="6400" y="7755"/>
                  <a:pt x="6449" y="7739"/>
                </a:cubicBezTo>
              </a:path>
              <a:path w="1118" h="596">
                <a:moveTo>
                  <a:pt x="6722" y="7218"/>
                </a:moveTo>
                <a:cubicBezTo>
                  <a:pt x="6829" y="7218"/>
                  <a:pt x="6923" y="7230"/>
                  <a:pt x="7020" y="7193"/>
                </a:cubicBezTo>
              </a:path>
              <a:path w="1118" h="596">
                <a:moveTo>
                  <a:pt x="6697" y="7169"/>
                </a:moveTo>
                <a:cubicBezTo>
                  <a:pt x="6648" y="7268"/>
                  <a:pt x="6623" y="7311"/>
                  <a:pt x="6623" y="7417"/>
                </a:cubicBezTo>
                <a:cubicBezTo>
                  <a:pt x="6672" y="7367"/>
                  <a:pt x="6699" y="7346"/>
                  <a:pt x="6772" y="7342"/>
                </a:cubicBezTo>
                <a:cubicBezTo>
                  <a:pt x="6838" y="7338"/>
                  <a:pt x="6904" y="7370"/>
                  <a:pt x="6921" y="7441"/>
                </a:cubicBezTo>
                <a:cubicBezTo>
                  <a:pt x="6941" y="7525"/>
                  <a:pt x="6893" y="7600"/>
                  <a:pt x="6846" y="7665"/>
                </a:cubicBezTo>
                <a:cubicBezTo>
                  <a:pt x="6813" y="7710"/>
                  <a:pt x="6753" y="7735"/>
                  <a:pt x="6697" y="7714"/>
                </a:cubicBezTo>
                <a:cubicBezTo>
                  <a:pt x="6629" y="7688"/>
                  <a:pt x="6634" y="7637"/>
                  <a:pt x="6648" y="7590"/>
                </a:cubicBezTo>
              </a:path>
              <a:path w="1118" h="596">
                <a:moveTo>
                  <a:pt x="7169" y="7218"/>
                </a:moveTo>
                <a:cubicBezTo>
                  <a:pt x="7144" y="7260"/>
                  <a:pt x="7125" y="7347"/>
                  <a:pt x="7218" y="7317"/>
                </a:cubicBezTo>
                <a:cubicBezTo>
                  <a:pt x="7241" y="7310"/>
                  <a:pt x="7328" y="7221"/>
                  <a:pt x="7293" y="7193"/>
                </a:cubicBezTo>
                <a:cubicBezTo>
                  <a:pt x="7276" y="7193"/>
                  <a:pt x="7260" y="7193"/>
                  <a:pt x="7243" y="71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Ink 12"/>
          <p:cNvSpPr/>
          <p:nvPr/>
        </p:nvSpPr>
        <p:spPr>
          <a:xfrm>
            <a:off x="534960" y="3438360"/>
            <a:ext cx="2171880" cy="847800"/>
          </a:xfrm>
          <a:custGeom>
            <a:avLst/>
            <a:gdLst/>
            <a:ahLst/>
            <a:rect l="l" t="t" r="r" b="b"/>
            <a:pathLst>
              <a:path w="6029" h="2357">
                <a:moveTo>
                  <a:pt x="1488" y="10517"/>
                </a:moveTo>
                <a:cubicBezTo>
                  <a:pt x="1564" y="10539"/>
                  <a:pt x="1568" y="10567"/>
                  <a:pt x="1662" y="10567"/>
                </a:cubicBezTo>
                <a:cubicBezTo>
                  <a:pt x="1831" y="10567"/>
                  <a:pt x="1985" y="10541"/>
                  <a:pt x="2133" y="10517"/>
                </a:cubicBezTo>
                <a:cubicBezTo>
                  <a:pt x="2340" y="10484"/>
                  <a:pt x="2595" y="10504"/>
                  <a:pt x="2803" y="10492"/>
                </a:cubicBezTo>
                <a:cubicBezTo>
                  <a:pt x="2985" y="10482"/>
                  <a:pt x="3945" y="10587"/>
                  <a:pt x="3994" y="10443"/>
                </a:cubicBezTo>
              </a:path>
              <a:path w="6029" h="2357">
                <a:moveTo>
                  <a:pt x="2604" y="11038"/>
                </a:moveTo>
                <a:cubicBezTo>
                  <a:pt x="2637" y="11093"/>
                  <a:pt x="2629" y="11144"/>
                  <a:pt x="2629" y="11212"/>
                </a:cubicBezTo>
                <a:cubicBezTo>
                  <a:pt x="2629" y="11291"/>
                  <a:pt x="2608" y="11358"/>
                  <a:pt x="2604" y="11435"/>
                </a:cubicBezTo>
                <a:cubicBezTo>
                  <a:pt x="2599" y="11523"/>
                  <a:pt x="2601" y="11646"/>
                  <a:pt x="2580" y="11733"/>
                </a:cubicBezTo>
                <a:cubicBezTo>
                  <a:pt x="2556" y="11781"/>
                  <a:pt x="2547" y="11795"/>
                  <a:pt x="2555" y="11832"/>
                </a:cubicBezTo>
                <a:cubicBezTo>
                  <a:pt x="2588" y="11778"/>
                  <a:pt x="2587" y="11721"/>
                  <a:pt x="2604" y="11658"/>
                </a:cubicBezTo>
                <a:cubicBezTo>
                  <a:pt x="2633" y="11546"/>
                  <a:pt x="2651" y="11506"/>
                  <a:pt x="2729" y="11460"/>
                </a:cubicBezTo>
                <a:cubicBezTo>
                  <a:pt x="2791" y="11423"/>
                  <a:pt x="2802" y="11434"/>
                  <a:pt x="2853" y="11485"/>
                </a:cubicBezTo>
                <a:cubicBezTo>
                  <a:pt x="2902" y="11534"/>
                  <a:pt x="2949" y="11618"/>
                  <a:pt x="2952" y="11683"/>
                </a:cubicBezTo>
                <a:cubicBezTo>
                  <a:pt x="2958" y="11808"/>
                  <a:pt x="2904" y="11831"/>
                  <a:pt x="2803" y="11881"/>
                </a:cubicBezTo>
                <a:cubicBezTo>
                  <a:pt x="2726" y="11919"/>
                  <a:pt x="2681" y="11907"/>
                  <a:pt x="2604" y="11881"/>
                </a:cubicBezTo>
                <a:cubicBezTo>
                  <a:pt x="2481" y="11839"/>
                  <a:pt x="2508" y="11836"/>
                  <a:pt x="2555" y="11733"/>
                </a:cubicBezTo>
              </a:path>
              <a:path w="6029" h="2357">
                <a:moveTo>
                  <a:pt x="4291" y="10567"/>
                </a:moveTo>
                <a:cubicBezTo>
                  <a:pt x="4365" y="10567"/>
                  <a:pt x="4440" y="10567"/>
                  <a:pt x="4514" y="10567"/>
                </a:cubicBezTo>
              </a:path>
              <a:path w="6029" h="2357">
                <a:moveTo>
                  <a:pt x="4366" y="10740"/>
                </a:moveTo>
                <a:cubicBezTo>
                  <a:pt x="4464" y="10765"/>
                  <a:pt x="4521" y="10775"/>
                  <a:pt x="4614" y="10740"/>
                </a:cubicBezTo>
              </a:path>
              <a:path w="6029" h="2357">
                <a:moveTo>
                  <a:pt x="5333" y="9897"/>
                </a:moveTo>
                <a:cubicBezTo>
                  <a:pt x="5383" y="9897"/>
                  <a:pt x="5400" y="9897"/>
                  <a:pt x="5383" y="9847"/>
                </a:cubicBezTo>
                <a:cubicBezTo>
                  <a:pt x="5323" y="9812"/>
                  <a:pt x="5258" y="9823"/>
                  <a:pt x="5184" y="9823"/>
                </a:cubicBezTo>
                <a:cubicBezTo>
                  <a:pt x="5134" y="9823"/>
                  <a:pt x="5085" y="9823"/>
                  <a:pt x="5035" y="9823"/>
                </a:cubicBezTo>
                <a:cubicBezTo>
                  <a:pt x="5045" y="9924"/>
                  <a:pt x="5095" y="9980"/>
                  <a:pt x="5184" y="10046"/>
                </a:cubicBezTo>
                <a:cubicBezTo>
                  <a:pt x="5289" y="10124"/>
                  <a:pt x="5301" y="10154"/>
                  <a:pt x="5383" y="10269"/>
                </a:cubicBezTo>
                <a:cubicBezTo>
                  <a:pt x="5411" y="10298"/>
                  <a:pt x="5419" y="10311"/>
                  <a:pt x="5407" y="10344"/>
                </a:cubicBezTo>
                <a:cubicBezTo>
                  <a:pt x="5337" y="10385"/>
                  <a:pt x="5308" y="10356"/>
                  <a:pt x="5234" y="10344"/>
                </a:cubicBezTo>
                <a:cubicBezTo>
                  <a:pt x="5155" y="10331"/>
                  <a:pt x="5124" y="10355"/>
                  <a:pt x="5085" y="10269"/>
                </a:cubicBezTo>
                <a:cubicBezTo>
                  <a:pt x="5077" y="10244"/>
                  <a:pt x="5068" y="10220"/>
                  <a:pt x="5060" y="10195"/>
                </a:cubicBezTo>
              </a:path>
              <a:path w="6029" h="2357">
                <a:moveTo>
                  <a:pt x="5531" y="9971"/>
                </a:moveTo>
                <a:cubicBezTo>
                  <a:pt x="5555" y="10065"/>
                  <a:pt x="5569" y="10117"/>
                  <a:pt x="5556" y="10195"/>
                </a:cubicBezTo>
                <a:cubicBezTo>
                  <a:pt x="5552" y="10219"/>
                  <a:pt x="5556" y="10348"/>
                  <a:pt x="5556" y="10269"/>
                </a:cubicBezTo>
              </a:path>
              <a:path w="6029" h="2357">
                <a:moveTo>
                  <a:pt x="5606" y="9599"/>
                </a:moveTo>
                <a:cubicBezTo>
                  <a:pt x="5614" y="9583"/>
                  <a:pt x="5623" y="9566"/>
                  <a:pt x="5631" y="9550"/>
                </a:cubicBezTo>
              </a:path>
              <a:path w="6029" h="2357">
                <a:moveTo>
                  <a:pt x="5755" y="9971"/>
                </a:moveTo>
                <a:cubicBezTo>
                  <a:pt x="5755" y="10070"/>
                  <a:pt x="5755" y="10170"/>
                  <a:pt x="5755" y="10269"/>
                </a:cubicBezTo>
                <a:cubicBezTo>
                  <a:pt x="5755" y="10188"/>
                  <a:pt x="5767" y="10114"/>
                  <a:pt x="5779" y="10046"/>
                </a:cubicBezTo>
                <a:cubicBezTo>
                  <a:pt x="5792" y="9975"/>
                  <a:pt x="5809" y="9976"/>
                  <a:pt x="5854" y="9922"/>
                </a:cubicBezTo>
                <a:cubicBezTo>
                  <a:pt x="5862" y="9914"/>
                  <a:pt x="5871" y="9905"/>
                  <a:pt x="5879" y="9897"/>
                </a:cubicBezTo>
                <a:cubicBezTo>
                  <a:pt x="5919" y="9910"/>
                  <a:pt x="6038" y="9949"/>
                  <a:pt x="6052" y="9996"/>
                </a:cubicBezTo>
                <a:cubicBezTo>
                  <a:pt x="6066" y="10044"/>
                  <a:pt x="6100" y="10181"/>
                  <a:pt x="6102" y="10195"/>
                </a:cubicBezTo>
                <a:cubicBezTo>
                  <a:pt x="6117" y="10282"/>
                  <a:pt x="6104" y="10307"/>
                  <a:pt x="6176" y="10344"/>
                </a:cubicBezTo>
              </a:path>
              <a:path w="6029" h="2357">
                <a:moveTo>
                  <a:pt x="6300" y="9748"/>
                </a:moveTo>
                <a:cubicBezTo>
                  <a:pt x="6300" y="9887"/>
                  <a:pt x="6308" y="10009"/>
                  <a:pt x="6325" y="10145"/>
                </a:cubicBezTo>
                <a:cubicBezTo>
                  <a:pt x="6330" y="10181"/>
                  <a:pt x="6329" y="10314"/>
                  <a:pt x="6350" y="10344"/>
                </a:cubicBezTo>
                <a:cubicBezTo>
                  <a:pt x="6358" y="10344"/>
                  <a:pt x="6367" y="10344"/>
                  <a:pt x="6375" y="10344"/>
                </a:cubicBezTo>
              </a:path>
              <a:path w="6029" h="2357">
                <a:moveTo>
                  <a:pt x="6524" y="9823"/>
                </a:moveTo>
                <a:cubicBezTo>
                  <a:pt x="6706" y="9758"/>
                  <a:pt x="6653" y="9775"/>
                  <a:pt x="6772" y="9823"/>
                </a:cubicBezTo>
                <a:cubicBezTo>
                  <a:pt x="6854" y="9856"/>
                  <a:pt x="6820" y="9915"/>
                  <a:pt x="6796" y="9971"/>
                </a:cubicBezTo>
                <a:cubicBezTo>
                  <a:pt x="6768" y="10036"/>
                  <a:pt x="6721" y="10136"/>
                  <a:pt x="6672" y="10195"/>
                </a:cubicBezTo>
                <a:cubicBezTo>
                  <a:pt x="6648" y="10225"/>
                  <a:pt x="6606" y="10289"/>
                  <a:pt x="6648" y="10344"/>
                </a:cubicBezTo>
                <a:cubicBezTo>
                  <a:pt x="6667" y="10370"/>
                  <a:pt x="6762" y="10377"/>
                  <a:pt x="6796" y="10368"/>
                </a:cubicBezTo>
                <a:cubicBezTo>
                  <a:pt x="6813" y="10360"/>
                  <a:pt x="6829" y="10352"/>
                  <a:pt x="6846" y="10344"/>
                </a:cubicBezTo>
              </a:path>
              <a:path w="6029" h="2357">
                <a:moveTo>
                  <a:pt x="7020" y="9823"/>
                </a:moveTo>
                <a:cubicBezTo>
                  <a:pt x="6984" y="9893"/>
                  <a:pt x="6924" y="9970"/>
                  <a:pt x="6921" y="10046"/>
                </a:cubicBezTo>
                <a:cubicBezTo>
                  <a:pt x="6917" y="10133"/>
                  <a:pt x="6977" y="10293"/>
                  <a:pt x="7045" y="10344"/>
                </a:cubicBezTo>
                <a:cubicBezTo>
                  <a:pt x="7100" y="10386"/>
                  <a:pt x="7186" y="10324"/>
                  <a:pt x="7218" y="10294"/>
                </a:cubicBezTo>
                <a:cubicBezTo>
                  <a:pt x="7276" y="10240"/>
                  <a:pt x="7268" y="10194"/>
                  <a:pt x="7268" y="10120"/>
                </a:cubicBezTo>
                <a:cubicBezTo>
                  <a:pt x="7268" y="10069"/>
                  <a:pt x="7226" y="9936"/>
                  <a:pt x="7193" y="9897"/>
                </a:cubicBezTo>
                <a:cubicBezTo>
                  <a:pt x="7147" y="9844"/>
                  <a:pt x="7103" y="9831"/>
                  <a:pt x="7045" y="9823"/>
                </a:cubicBezTo>
              </a:path>
              <a:path w="6029" h="2357">
                <a:moveTo>
                  <a:pt x="7293" y="9674"/>
                </a:moveTo>
                <a:cubicBezTo>
                  <a:pt x="7275" y="9761"/>
                  <a:pt x="7300" y="9870"/>
                  <a:pt x="7441" y="9823"/>
                </a:cubicBezTo>
                <a:cubicBezTo>
                  <a:pt x="7512" y="9799"/>
                  <a:pt x="7532" y="9722"/>
                  <a:pt x="7491" y="9674"/>
                </a:cubicBezTo>
                <a:cubicBezTo>
                  <a:pt x="7443" y="9619"/>
                  <a:pt x="7411" y="9611"/>
                  <a:pt x="7342" y="95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Ink 13"/>
          <p:cNvSpPr/>
          <p:nvPr/>
        </p:nvSpPr>
        <p:spPr>
          <a:xfrm>
            <a:off x="4295880" y="3724200"/>
            <a:ext cx="2295360" cy="866880"/>
          </a:xfrm>
          <a:custGeom>
            <a:avLst/>
            <a:gdLst/>
            <a:ahLst/>
            <a:rect l="l" t="t" r="r" b="b"/>
            <a:pathLst>
              <a:path w="6376" h="2407">
                <a:moveTo>
                  <a:pt x="11931" y="11683"/>
                </a:moveTo>
                <a:cubicBezTo>
                  <a:pt x="12116" y="11701"/>
                  <a:pt x="12291" y="11708"/>
                  <a:pt x="12477" y="11708"/>
                </a:cubicBezTo>
                <a:cubicBezTo>
                  <a:pt x="12668" y="11708"/>
                  <a:pt x="12858" y="11703"/>
                  <a:pt x="13047" y="11683"/>
                </a:cubicBezTo>
                <a:cubicBezTo>
                  <a:pt x="13261" y="11661"/>
                  <a:pt x="13480" y="11660"/>
                  <a:pt x="13692" y="11633"/>
                </a:cubicBezTo>
                <a:cubicBezTo>
                  <a:pt x="13777" y="11622"/>
                  <a:pt x="13937" y="11616"/>
                  <a:pt x="14015" y="11584"/>
                </a:cubicBezTo>
                <a:cubicBezTo>
                  <a:pt x="14039" y="11559"/>
                  <a:pt x="14047" y="11551"/>
                  <a:pt x="14015" y="11584"/>
                </a:cubicBezTo>
              </a:path>
              <a:path w="6376" h="2407">
                <a:moveTo>
                  <a:pt x="13047" y="12477"/>
                </a:moveTo>
                <a:cubicBezTo>
                  <a:pt x="13047" y="12434"/>
                  <a:pt x="13066" y="12296"/>
                  <a:pt x="12998" y="12278"/>
                </a:cubicBezTo>
                <a:cubicBezTo>
                  <a:pt x="12950" y="12265"/>
                  <a:pt x="12841" y="12293"/>
                  <a:pt x="12824" y="12353"/>
                </a:cubicBezTo>
                <a:cubicBezTo>
                  <a:pt x="12806" y="12413"/>
                  <a:pt x="12761" y="12467"/>
                  <a:pt x="12750" y="12526"/>
                </a:cubicBezTo>
                <a:cubicBezTo>
                  <a:pt x="12736" y="12598"/>
                  <a:pt x="12754" y="12671"/>
                  <a:pt x="12799" y="12725"/>
                </a:cubicBezTo>
                <a:cubicBezTo>
                  <a:pt x="12807" y="12733"/>
                  <a:pt x="12816" y="12742"/>
                  <a:pt x="12824" y="12750"/>
                </a:cubicBezTo>
                <a:cubicBezTo>
                  <a:pt x="12893" y="12681"/>
                  <a:pt x="12925" y="12631"/>
                  <a:pt x="12973" y="12551"/>
                </a:cubicBezTo>
                <a:cubicBezTo>
                  <a:pt x="12998" y="12526"/>
                  <a:pt x="13006" y="12518"/>
                  <a:pt x="13022" y="12502"/>
                </a:cubicBezTo>
                <a:cubicBezTo>
                  <a:pt x="13044" y="12566"/>
                  <a:pt x="13034" y="12634"/>
                  <a:pt x="13097" y="12675"/>
                </a:cubicBezTo>
                <a:cubicBezTo>
                  <a:pt x="13176" y="12726"/>
                  <a:pt x="13256" y="12719"/>
                  <a:pt x="13345" y="12725"/>
                </a:cubicBezTo>
              </a:path>
              <a:path w="6376" h="2407">
                <a:moveTo>
                  <a:pt x="14412" y="11559"/>
                </a:moveTo>
                <a:cubicBezTo>
                  <a:pt x="14544" y="11578"/>
                  <a:pt x="14560" y="11586"/>
                  <a:pt x="14635" y="11584"/>
                </a:cubicBezTo>
              </a:path>
              <a:path w="6376" h="2407">
                <a:moveTo>
                  <a:pt x="14436" y="11708"/>
                </a:moveTo>
                <a:cubicBezTo>
                  <a:pt x="14572" y="11762"/>
                  <a:pt x="14603" y="11757"/>
                  <a:pt x="14759" y="11757"/>
                </a:cubicBezTo>
              </a:path>
              <a:path w="6376" h="2407">
                <a:moveTo>
                  <a:pt x="15627" y="11162"/>
                </a:moveTo>
                <a:cubicBezTo>
                  <a:pt x="15618" y="11101"/>
                  <a:pt x="15597" y="11063"/>
                  <a:pt x="15553" y="11013"/>
                </a:cubicBezTo>
                <a:cubicBezTo>
                  <a:pt x="15503" y="10956"/>
                  <a:pt x="15448" y="10964"/>
                  <a:pt x="15379" y="10964"/>
                </a:cubicBezTo>
                <a:cubicBezTo>
                  <a:pt x="15333" y="10964"/>
                  <a:pt x="15287" y="11013"/>
                  <a:pt x="15304" y="11063"/>
                </a:cubicBezTo>
                <a:cubicBezTo>
                  <a:pt x="15319" y="11107"/>
                  <a:pt x="15391" y="11185"/>
                  <a:pt x="15429" y="11212"/>
                </a:cubicBezTo>
                <a:cubicBezTo>
                  <a:pt x="15504" y="11266"/>
                  <a:pt x="15559" y="11324"/>
                  <a:pt x="15627" y="11385"/>
                </a:cubicBezTo>
                <a:cubicBezTo>
                  <a:pt x="15662" y="11417"/>
                  <a:pt x="15732" y="11516"/>
                  <a:pt x="15726" y="11559"/>
                </a:cubicBezTo>
                <a:cubicBezTo>
                  <a:pt x="15716" y="11634"/>
                  <a:pt x="15584" y="11624"/>
                  <a:pt x="15528" y="11609"/>
                </a:cubicBezTo>
                <a:cubicBezTo>
                  <a:pt x="15458" y="11591"/>
                  <a:pt x="15405" y="11585"/>
                  <a:pt x="15379" y="11509"/>
                </a:cubicBezTo>
                <a:cubicBezTo>
                  <a:pt x="15379" y="11501"/>
                  <a:pt x="15379" y="11493"/>
                  <a:pt x="15379" y="11485"/>
                </a:cubicBezTo>
              </a:path>
              <a:path w="6376" h="2407">
                <a:moveTo>
                  <a:pt x="15949" y="11162"/>
                </a:moveTo>
                <a:cubicBezTo>
                  <a:pt x="15937" y="11248"/>
                  <a:pt x="15903" y="11392"/>
                  <a:pt x="15925" y="11485"/>
                </a:cubicBezTo>
                <a:cubicBezTo>
                  <a:pt x="15959" y="11555"/>
                  <a:pt x="15967" y="11548"/>
                  <a:pt x="15949" y="11410"/>
                </a:cubicBezTo>
              </a:path>
              <a:path w="6376" h="2407">
                <a:moveTo>
                  <a:pt x="15850" y="10740"/>
                </a:moveTo>
                <a:cubicBezTo>
                  <a:pt x="15873" y="10718"/>
                  <a:pt x="15881" y="10713"/>
                  <a:pt x="15875" y="10691"/>
                </a:cubicBezTo>
              </a:path>
              <a:path w="6376" h="2407">
                <a:moveTo>
                  <a:pt x="16098" y="11385"/>
                </a:moveTo>
                <a:cubicBezTo>
                  <a:pt x="16098" y="11528"/>
                  <a:pt x="16098" y="11570"/>
                  <a:pt x="16098" y="11410"/>
                </a:cubicBezTo>
                <a:cubicBezTo>
                  <a:pt x="16098" y="11328"/>
                  <a:pt x="16087" y="11254"/>
                  <a:pt x="16123" y="11187"/>
                </a:cubicBezTo>
                <a:cubicBezTo>
                  <a:pt x="16169" y="11101"/>
                  <a:pt x="16155" y="11052"/>
                  <a:pt x="16272" y="11013"/>
                </a:cubicBezTo>
                <a:cubicBezTo>
                  <a:pt x="16345" y="10988"/>
                  <a:pt x="16429" y="11074"/>
                  <a:pt x="16446" y="11137"/>
                </a:cubicBezTo>
                <a:cubicBezTo>
                  <a:pt x="16466" y="11210"/>
                  <a:pt x="16470" y="11283"/>
                  <a:pt x="16470" y="11361"/>
                </a:cubicBezTo>
                <a:cubicBezTo>
                  <a:pt x="16470" y="11430"/>
                  <a:pt x="16495" y="11486"/>
                  <a:pt x="16495" y="11559"/>
                </a:cubicBezTo>
              </a:path>
              <a:path w="6376" h="2407">
                <a:moveTo>
                  <a:pt x="16842" y="10790"/>
                </a:moveTo>
                <a:cubicBezTo>
                  <a:pt x="16859" y="10905"/>
                  <a:pt x="16879" y="11024"/>
                  <a:pt x="16892" y="11137"/>
                </a:cubicBezTo>
                <a:cubicBezTo>
                  <a:pt x="16910" y="11291"/>
                  <a:pt x="16837" y="11589"/>
                  <a:pt x="16942" y="11658"/>
                </a:cubicBezTo>
              </a:path>
              <a:path w="6376" h="2407">
                <a:moveTo>
                  <a:pt x="17066" y="10765"/>
                </a:moveTo>
                <a:cubicBezTo>
                  <a:pt x="17123" y="10726"/>
                  <a:pt x="17186" y="10661"/>
                  <a:pt x="17264" y="10691"/>
                </a:cubicBezTo>
                <a:cubicBezTo>
                  <a:pt x="17347" y="10723"/>
                  <a:pt x="17375" y="10809"/>
                  <a:pt x="17363" y="10889"/>
                </a:cubicBezTo>
                <a:cubicBezTo>
                  <a:pt x="17345" y="11007"/>
                  <a:pt x="17299" y="11091"/>
                  <a:pt x="17239" y="11187"/>
                </a:cubicBezTo>
                <a:cubicBezTo>
                  <a:pt x="17196" y="11255"/>
                  <a:pt x="17204" y="11317"/>
                  <a:pt x="17165" y="11385"/>
                </a:cubicBezTo>
                <a:cubicBezTo>
                  <a:pt x="17136" y="11435"/>
                  <a:pt x="17139" y="11502"/>
                  <a:pt x="17165" y="11559"/>
                </a:cubicBezTo>
                <a:cubicBezTo>
                  <a:pt x="17205" y="11646"/>
                  <a:pt x="17325" y="11616"/>
                  <a:pt x="17388" y="11609"/>
                </a:cubicBezTo>
                <a:cubicBezTo>
                  <a:pt x="17396" y="11609"/>
                  <a:pt x="17405" y="11609"/>
                  <a:pt x="17413" y="11609"/>
                </a:cubicBezTo>
              </a:path>
              <a:path w="6376" h="2407">
                <a:moveTo>
                  <a:pt x="17661" y="10765"/>
                </a:moveTo>
                <a:cubicBezTo>
                  <a:pt x="17607" y="10864"/>
                  <a:pt x="17616" y="10932"/>
                  <a:pt x="17587" y="11038"/>
                </a:cubicBezTo>
                <a:cubicBezTo>
                  <a:pt x="17565" y="11119"/>
                  <a:pt x="17545" y="11222"/>
                  <a:pt x="17562" y="11311"/>
                </a:cubicBezTo>
                <a:cubicBezTo>
                  <a:pt x="17576" y="11385"/>
                  <a:pt x="17578" y="11526"/>
                  <a:pt x="17636" y="11584"/>
                </a:cubicBezTo>
                <a:cubicBezTo>
                  <a:pt x="17728" y="11676"/>
                  <a:pt x="17812" y="11709"/>
                  <a:pt x="17934" y="11658"/>
                </a:cubicBezTo>
                <a:cubicBezTo>
                  <a:pt x="18002" y="11629"/>
                  <a:pt x="18006" y="11543"/>
                  <a:pt x="18008" y="11485"/>
                </a:cubicBezTo>
                <a:cubicBezTo>
                  <a:pt x="18013" y="11359"/>
                  <a:pt x="18018" y="11232"/>
                  <a:pt x="17983" y="11112"/>
                </a:cubicBezTo>
                <a:cubicBezTo>
                  <a:pt x="17956" y="11019"/>
                  <a:pt x="17921" y="10929"/>
                  <a:pt x="17884" y="10840"/>
                </a:cubicBezTo>
                <a:cubicBezTo>
                  <a:pt x="17868" y="10799"/>
                  <a:pt x="17851" y="10757"/>
                  <a:pt x="17835" y="10716"/>
                </a:cubicBezTo>
              </a:path>
              <a:path w="6376" h="2407">
                <a:moveTo>
                  <a:pt x="18033" y="10443"/>
                </a:moveTo>
                <a:cubicBezTo>
                  <a:pt x="18020" y="10558"/>
                  <a:pt x="17972" y="10641"/>
                  <a:pt x="18107" y="10641"/>
                </a:cubicBezTo>
                <a:cubicBezTo>
                  <a:pt x="18157" y="10641"/>
                  <a:pt x="18206" y="10641"/>
                  <a:pt x="18256" y="10641"/>
                </a:cubicBezTo>
                <a:cubicBezTo>
                  <a:pt x="18264" y="10566"/>
                  <a:pt x="18322" y="10524"/>
                  <a:pt x="18281" y="10443"/>
                </a:cubicBezTo>
                <a:cubicBezTo>
                  <a:pt x="18255" y="10391"/>
                  <a:pt x="18189" y="10348"/>
                  <a:pt x="18132" y="10344"/>
                </a:cubicBezTo>
                <a:cubicBezTo>
                  <a:pt x="18073" y="10340"/>
                  <a:pt x="18007" y="10333"/>
                  <a:pt x="17983" y="103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Ink 14"/>
          <p:cNvSpPr/>
          <p:nvPr/>
        </p:nvSpPr>
        <p:spPr>
          <a:xfrm>
            <a:off x="374760" y="4375080"/>
            <a:ext cx="3027240" cy="420840"/>
          </a:xfrm>
          <a:custGeom>
            <a:avLst/>
            <a:gdLst/>
            <a:ahLst/>
            <a:rect l="l" t="t" r="r" b="b"/>
            <a:pathLst>
              <a:path w="8410" h="1167">
                <a:moveTo>
                  <a:pt x="1116" y="12378"/>
                </a:moveTo>
                <a:cubicBezTo>
                  <a:pt x="1116" y="12500"/>
                  <a:pt x="1108" y="12608"/>
                  <a:pt x="1091" y="12725"/>
                </a:cubicBezTo>
                <a:cubicBezTo>
                  <a:pt x="1078" y="12816"/>
                  <a:pt x="1081" y="12910"/>
                  <a:pt x="1067" y="12998"/>
                </a:cubicBezTo>
                <a:cubicBezTo>
                  <a:pt x="1056" y="13067"/>
                  <a:pt x="1078" y="13112"/>
                  <a:pt x="1042" y="13171"/>
                </a:cubicBezTo>
              </a:path>
              <a:path w="8410" h="1167">
                <a:moveTo>
                  <a:pt x="1315" y="12477"/>
                </a:moveTo>
                <a:cubicBezTo>
                  <a:pt x="1393" y="12477"/>
                  <a:pt x="1444" y="12498"/>
                  <a:pt x="1513" y="12502"/>
                </a:cubicBezTo>
                <a:cubicBezTo>
                  <a:pt x="1565" y="12502"/>
                  <a:pt x="1583" y="12501"/>
                  <a:pt x="1612" y="12477"/>
                </a:cubicBezTo>
              </a:path>
              <a:path w="8410" h="1167">
                <a:moveTo>
                  <a:pt x="1290" y="12551"/>
                </a:moveTo>
                <a:cubicBezTo>
                  <a:pt x="1251" y="12628"/>
                  <a:pt x="1217" y="12643"/>
                  <a:pt x="1265" y="12675"/>
                </a:cubicBezTo>
                <a:cubicBezTo>
                  <a:pt x="1317" y="12645"/>
                  <a:pt x="1373" y="12601"/>
                  <a:pt x="1439" y="12626"/>
                </a:cubicBezTo>
                <a:cubicBezTo>
                  <a:pt x="1499" y="12649"/>
                  <a:pt x="1493" y="12712"/>
                  <a:pt x="1513" y="12750"/>
                </a:cubicBezTo>
                <a:cubicBezTo>
                  <a:pt x="1552" y="12827"/>
                  <a:pt x="1583" y="12847"/>
                  <a:pt x="1588" y="12948"/>
                </a:cubicBezTo>
                <a:cubicBezTo>
                  <a:pt x="1591" y="13014"/>
                  <a:pt x="1573" y="13085"/>
                  <a:pt x="1513" y="13122"/>
                </a:cubicBezTo>
                <a:cubicBezTo>
                  <a:pt x="1455" y="13158"/>
                  <a:pt x="1362" y="13135"/>
                  <a:pt x="1315" y="13097"/>
                </a:cubicBezTo>
                <a:cubicBezTo>
                  <a:pt x="1290" y="13072"/>
                  <a:pt x="1282" y="13064"/>
                  <a:pt x="1315" y="13047"/>
                </a:cubicBezTo>
              </a:path>
              <a:path w="8410" h="1167">
                <a:moveTo>
                  <a:pt x="2009" y="12799"/>
                </a:moveTo>
                <a:lnTo>
                  <a:pt x="2009" y="12799"/>
                </a:lnTo>
              </a:path>
              <a:path w="8410" h="1167">
                <a:moveTo>
                  <a:pt x="2456" y="12675"/>
                </a:moveTo>
                <a:cubicBezTo>
                  <a:pt x="2447" y="12616"/>
                  <a:pt x="2415" y="12550"/>
                  <a:pt x="2332" y="12576"/>
                </a:cubicBezTo>
                <a:cubicBezTo>
                  <a:pt x="2309" y="12599"/>
                  <a:pt x="2305" y="12607"/>
                  <a:pt x="2282" y="12601"/>
                </a:cubicBezTo>
                <a:cubicBezTo>
                  <a:pt x="2304" y="12699"/>
                  <a:pt x="2331" y="12719"/>
                  <a:pt x="2406" y="12774"/>
                </a:cubicBezTo>
                <a:cubicBezTo>
                  <a:pt x="2455" y="12810"/>
                  <a:pt x="2455" y="12852"/>
                  <a:pt x="2480" y="12898"/>
                </a:cubicBezTo>
                <a:cubicBezTo>
                  <a:pt x="2512" y="12959"/>
                  <a:pt x="2551" y="12980"/>
                  <a:pt x="2555" y="13047"/>
                </a:cubicBezTo>
                <a:cubicBezTo>
                  <a:pt x="2559" y="13109"/>
                  <a:pt x="2494" y="13157"/>
                  <a:pt x="2431" y="13146"/>
                </a:cubicBezTo>
                <a:cubicBezTo>
                  <a:pt x="2409" y="13142"/>
                  <a:pt x="2267" y="13130"/>
                  <a:pt x="2257" y="13097"/>
                </a:cubicBezTo>
                <a:cubicBezTo>
                  <a:pt x="2257" y="13047"/>
                  <a:pt x="2257" y="13031"/>
                  <a:pt x="2257" y="12998"/>
                </a:cubicBezTo>
              </a:path>
              <a:path w="8410" h="1167">
                <a:moveTo>
                  <a:pt x="2778" y="12799"/>
                </a:moveTo>
                <a:cubicBezTo>
                  <a:pt x="2777" y="12802"/>
                  <a:pt x="2748" y="13074"/>
                  <a:pt x="2753" y="13072"/>
                </a:cubicBezTo>
                <a:cubicBezTo>
                  <a:pt x="2761" y="13055"/>
                  <a:pt x="2770" y="13039"/>
                  <a:pt x="2778" y="13022"/>
                </a:cubicBezTo>
              </a:path>
              <a:path w="8410" h="1167">
                <a:moveTo>
                  <a:pt x="2778" y="12452"/>
                </a:moveTo>
                <a:cubicBezTo>
                  <a:pt x="2795" y="12444"/>
                  <a:pt x="2811" y="12435"/>
                  <a:pt x="2828" y="12427"/>
                </a:cubicBezTo>
              </a:path>
              <a:path w="8410" h="1167">
                <a:moveTo>
                  <a:pt x="2927" y="12799"/>
                </a:moveTo>
                <a:cubicBezTo>
                  <a:pt x="2906" y="12875"/>
                  <a:pt x="2886" y="12945"/>
                  <a:pt x="2877" y="13022"/>
                </a:cubicBezTo>
                <a:cubicBezTo>
                  <a:pt x="2907" y="13032"/>
                  <a:pt x="2916" y="13004"/>
                  <a:pt x="2952" y="12948"/>
                </a:cubicBezTo>
                <a:cubicBezTo>
                  <a:pt x="2995" y="12881"/>
                  <a:pt x="3015" y="12797"/>
                  <a:pt x="3051" y="12725"/>
                </a:cubicBezTo>
                <a:cubicBezTo>
                  <a:pt x="3073" y="12681"/>
                  <a:pt x="3076" y="12669"/>
                  <a:pt x="3101" y="12650"/>
                </a:cubicBezTo>
                <a:cubicBezTo>
                  <a:pt x="3147" y="12677"/>
                  <a:pt x="3210" y="12720"/>
                  <a:pt x="3225" y="12774"/>
                </a:cubicBezTo>
                <a:cubicBezTo>
                  <a:pt x="3247" y="12854"/>
                  <a:pt x="3249" y="12936"/>
                  <a:pt x="3249" y="13022"/>
                </a:cubicBezTo>
                <a:cubicBezTo>
                  <a:pt x="3249" y="13039"/>
                  <a:pt x="3249" y="13055"/>
                  <a:pt x="3249" y="13072"/>
                </a:cubicBezTo>
              </a:path>
              <a:path w="8410" h="1167">
                <a:moveTo>
                  <a:pt x="3423" y="12576"/>
                </a:moveTo>
                <a:cubicBezTo>
                  <a:pt x="3423" y="12653"/>
                  <a:pt x="3406" y="12737"/>
                  <a:pt x="3448" y="12799"/>
                </a:cubicBezTo>
                <a:cubicBezTo>
                  <a:pt x="3457" y="12813"/>
                  <a:pt x="3532" y="12899"/>
                  <a:pt x="3547" y="12898"/>
                </a:cubicBezTo>
                <a:cubicBezTo>
                  <a:pt x="3564" y="12890"/>
                  <a:pt x="3580" y="12882"/>
                  <a:pt x="3597" y="12874"/>
                </a:cubicBezTo>
              </a:path>
              <a:path w="8410" h="1167">
                <a:moveTo>
                  <a:pt x="3671" y="12452"/>
                </a:moveTo>
                <a:cubicBezTo>
                  <a:pt x="3664" y="12560"/>
                  <a:pt x="3646" y="12618"/>
                  <a:pt x="3646" y="12725"/>
                </a:cubicBezTo>
                <a:cubicBezTo>
                  <a:pt x="3646" y="12819"/>
                  <a:pt x="3632" y="12888"/>
                  <a:pt x="3621" y="12973"/>
                </a:cubicBezTo>
                <a:cubicBezTo>
                  <a:pt x="3611" y="13046"/>
                  <a:pt x="3635" y="13109"/>
                  <a:pt x="3671" y="13097"/>
                </a:cubicBezTo>
              </a:path>
              <a:path w="8410" h="1167">
                <a:moveTo>
                  <a:pt x="3944" y="12502"/>
                </a:moveTo>
                <a:cubicBezTo>
                  <a:pt x="3999" y="12474"/>
                  <a:pt x="4056" y="12461"/>
                  <a:pt x="4118" y="12452"/>
                </a:cubicBezTo>
              </a:path>
              <a:path w="8410" h="1167">
                <a:moveTo>
                  <a:pt x="3969" y="12427"/>
                </a:moveTo>
                <a:cubicBezTo>
                  <a:pt x="3919" y="12477"/>
                  <a:pt x="3921" y="12496"/>
                  <a:pt x="3894" y="12551"/>
                </a:cubicBezTo>
                <a:cubicBezTo>
                  <a:pt x="3876" y="12588"/>
                  <a:pt x="3849" y="12655"/>
                  <a:pt x="3919" y="12675"/>
                </a:cubicBezTo>
                <a:cubicBezTo>
                  <a:pt x="3985" y="12694"/>
                  <a:pt x="4036" y="12654"/>
                  <a:pt x="4093" y="12700"/>
                </a:cubicBezTo>
                <a:cubicBezTo>
                  <a:pt x="4157" y="12751"/>
                  <a:pt x="4164" y="12795"/>
                  <a:pt x="4167" y="12874"/>
                </a:cubicBezTo>
                <a:cubicBezTo>
                  <a:pt x="4170" y="12946"/>
                  <a:pt x="4171" y="13036"/>
                  <a:pt x="4142" y="13097"/>
                </a:cubicBezTo>
                <a:cubicBezTo>
                  <a:pt x="4116" y="13150"/>
                  <a:pt x="4045" y="13160"/>
                  <a:pt x="3994" y="13146"/>
                </a:cubicBezTo>
                <a:cubicBezTo>
                  <a:pt x="3934" y="13130"/>
                  <a:pt x="3902" y="13072"/>
                  <a:pt x="3894" y="13022"/>
                </a:cubicBezTo>
                <a:cubicBezTo>
                  <a:pt x="3894" y="12997"/>
                  <a:pt x="3894" y="12973"/>
                  <a:pt x="3894" y="12948"/>
                </a:cubicBezTo>
              </a:path>
              <a:path w="8410" h="1167">
                <a:moveTo>
                  <a:pt x="4341" y="12303"/>
                </a:moveTo>
                <a:cubicBezTo>
                  <a:pt x="4330" y="12381"/>
                  <a:pt x="4298" y="12515"/>
                  <a:pt x="4440" y="12477"/>
                </a:cubicBezTo>
                <a:cubicBezTo>
                  <a:pt x="4493" y="12463"/>
                  <a:pt x="4506" y="12369"/>
                  <a:pt x="4490" y="12328"/>
                </a:cubicBezTo>
                <a:cubicBezTo>
                  <a:pt x="4466" y="12267"/>
                  <a:pt x="4414" y="12240"/>
                  <a:pt x="4366" y="12204"/>
                </a:cubicBezTo>
                <a:cubicBezTo>
                  <a:pt x="4343" y="12181"/>
                  <a:pt x="4335" y="12177"/>
                  <a:pt x="4341" y="12154"/>
                </a:cubicBezTo>
              </a:path>
              <a:path w="8410" h="1167">
                <a:moveTo>
                  <a:pt x="4638" y="12774"/>
                </a:moveTo>
                <a:cubicBezTo>
                  <a:pt x="4696" y="12774"/>
                  <a:pt x="4754" y="12774"/>
                  <a:pt x="4812" y="12774"/>
                </a:cubicBezTo>
              </a:path>
              <a:path w="8410" h="1167">
                <a:moveTo>
                  <a:pt x="4688" y="12849"/>
                </a:moveTo>
                <a:cubicBezTo>
                  <a:pt x="4752" y="12891"/>
                  <a:pt x="4785" y="12892"/>
                  <a:pt x="4862" y="12898"/>
                </a:cubicBezTo>
              </a:path>
              <a:path w="8410" h="1167">
                <a:moveTo>
                  <a:pt x="5606" y="12378"/>
                </a:moveTo>
                <a:cubicBezTo>
                  <a:pt x="5606" y="12618"/>
                  <a:pt x="5546" y="12948"/>
                  <a:pt x="5631" y="13171"/>
                </a:cubicBezTo>
                <a:cubicBezTo>
                  <a:pt x="5653" y="13089"/>
                  <a:pt x="5675" y="13007"/>
                  <a:pt x="5680" y="12923"/>
                </a:cubicBezTo>
                <a:cubicBezTo>
                  <a:pt x="5684" y="12854"/>
                  <a:pt x="5715" y="12784"/>
                  <a:pt x="5755" y="12725"/>
                </a:cubicBezTo>
                <a:cubicBezTo>
                  <a:pt x="5781" y="12687"/>
                  <a:pt x="5829" y="12633"/>
                  <a:pt x="5879" y="12650"/>
                </a:cubicBezTo>
                <a:cubicBezTo>
                  <a:pt x="5923" y="12665"/>
                  <a:pt x="5954" y="12743"/>
                  <a:pt x="5978" y="12774"/>
                </a:cubicBezTo>
                <a:cubicBezTo>
                  <a:pt x="6026" y="12837"/>
                  <a:pt x="6003" y="12941"/>
                  <a:pt x="6003" y="13022"/>
                </a:cubicBezTo>
                <a:cubicBezTo>
                  <a:pt x="6003" y="13079"/>
                  <a:pt x="5963" y="13131"/>
                  <a:pt x="5904" y="13146"/>
                </a:cubicBezTo>
                <a:cubicBezTo>
                  <a:pt x="5849" y="13160"/>
                  <a:pt x="5745" y="13129"/>
                  <a:pt x="5705" y="13097"/>
                </a:cubicBezTo>
                <a:cubicBezTo>
                  <a:pt x="5682" y="13074"/>
                  <a:pt x="5674" y="13070"/>
                  <a:pt x="5680" y="13047"/>
                </a:cubicBezTo>
              </a:path>
              <a:path w="8410" h="1167">
                <a:moveTo>
                  <a:pt x="6375" y="12650"/>
                </a:moveTo>
                <a:lnTo>
                  <a:pt x="6375" y="12650"/>
                </a:lnTo>
              </a:path>
              <a:path w="8410" h="1167">
                <a:moveTo>
                  <a:pt x="6896" y="12626"/>
                </a:moveTo>
                <a:cubicBezTo>
                  <a:pt x="6886" y="12545"/>
                  <a:pt x="6883" y="12507"/>
                  <a:pt x="6796" y="12502"/>
                </a:cubicBezTo>
                <a:cubicBezTo>
                  <a:pt x="6691" y="12496"/>
                  <a:pt x="6732" y="12573"/>
                  <a:pt x="6772" y="12626"/>
                </a:cubicBezTo>
                <a:cubicBezTo>
                  <a:pt x="6840" y="12717"/>
                  <a:pt x="6941" y="12773"/>
                  <a:pt x="6995" y="12874"/>
                </a:cubicBezTo>
                <a:cubicBezTo>
                  <a:pt x="7035" y="12949"/>
                  <a:pt x="7068" y="13019"/>
                  <a:pt x="7020" y="13097"/>
                </a:cubicBezTo>
                <a:cubicBezTo>
                  <a:pt x="6988" y="13149"/>
                  <a:pt x="6906" y="13125"/>
                  <a:pt x="6871" y="13097"/>
                </a:cubicBezTo>
                <a:cubicBezTo>
                  <a:pt x="6808" y="13047"/>
                  <a:pt x="6802" y="13007"/>
                  <a:pt x="6772" y="12948"/>
                </a:cubicBezTo>
                <a:cubicBezTo>
                  <a:pt x="6764" y="12940"/>
                  <a:pt x="6755" y="12931"/>
                  <a:pt x="6747" y="12923"/>
                </a:cubicBezTo>
              </a:path>
              <a:path w="8410" h="1167">
                <a:moveTo>
                  <a:pt x="7317" y="12626"/>
                </a:moveTo>
                <a:cubicBezTo>
                  <a:pt x="7317" y="12740"/>
                  <a:pt x="7324" y="12841"/>
                  <a:pt x="7342" y="12948"/>
                </a:cubicBezTo>
                <a:cubicBezTo>
                  <a:pt x="7349" y="12992"/>
                  <a:pt x="7333" y="13057"/>
                  <a:pt x="7367" y="13022"/>
                </a:cubicBezTo>
              </a:path>
              <a:path w="8410" h="1167">
                <a:moveTo>
                  <a:pt x="7317" y="12254"/>
                </a:moveTo>
                <a:cubicBezTo>
                  <a:pt x="7340" y="12231"/>
                  <a:pt x="7344" y="12223"/>
                  <a:pt x="7367" y="12229"/>
                </a:cubicBezTo>
              </a:path>
              <a:path w="8410" h="1167">
                <a:moveTo>
                  <a:pt x="7516" y="12650"/>
                </a:moveTo>
                <a:cubicBezTo>
                  <a:pt x="7516" y="12758"/>
                  <a:pt x="7516" y="12865"/>
                  <a:pt x="7516" y="12973"/>
                </a:cubicBezTo>
                <a:cubicBezTo>
                  <a:pt x="7516" y="12887"/>
                  <a:pt x="7537" y="12826"/>
                  <a:pt x="7541" y="12750"/>
                </a:cubicBezTo>
                <a:cubicBezTo>
                  <a:pt x="7545" y="12679"/>
                  <a:pt x="7522" y="12600"/>
                  <a:pt x="7590" y="12551"/>
                </a:cubicBezTo>
                <a:cubicBezTo>
                  <a:pt x="7680" y="12487"/>
                  <a:pt x="7721" y="12550"/>
                  <a:pt x="7764" y="12626"/>
                </a:cubicBezTo>
                <a:cubicBezTo>
                  <a:pt x="7800" y="12689"/>
                  <a:pt x="7791" y="12759"/>
                  <a:pt x="7813" y="12824"/>
                </a:cubicBezTo>
                <a:cubicBezTo>
                  <a:pt x="7836" y="12893"/>
                  <a:pt x="7854" y="12934"/>
                  <a:pt x="7888" y="12998"/>
                </a:cubicBezTo>
                <a:cubicBezTo>
                  <a:pt x="7896" y="13014"/>
                  <a:pt x="7905" y="13031"/>
                  <a:pt x="7913" y="13047"/>
                </a:cubicBezTo>
              </a:path>
              <a:path w="8410" h="1167">
                <a:moveTo>
                  <a:pt x="8086" y="12402"/>
                </a:moveTo>
                <a:cubicBezTo>
                  <a:pt x="8111" y="12485"/>
                  <a:pt x="8111" y="12561"/>
                  <a:pt x="8111" y="12650"/>
                </a:cubicBezTo>
                <a:cubicBezTo>
                  <a:pt x="8111" y="12723"/>
                  <a:pt x="8121" y="12852"/>
                  <a:pt x="8136" y="12923"/>
                </a:cubicBezTo>
                <a:cubicBezTo>
                  <a:pt x="8144" y="12940"/>
                  <a:pt x="8153" y="12956"/>
                  <a:pt x="8161" y="12973"/>
                </a:cubicBezTo>
              </a:path>
              <a:path w="8410" h="1167">
                <a:moveTo>
                  <a:pt x="8334" y="12427"/>
                </a:moveTo>
                <a:cubicBezTo>
                  <a:pt x="8396" y="12360"/>
                  <a:pt x="8442" y="12275"/>
                  <a:pt x="8533" y="12328"/>
                </a:cubicBezTo>
                <a:cubicBezTo>
                  <a:pt x="8605" y="12370"/>
                  <a:pt x="8540" y="12459"/>
                  <a:pt x="8533" y="12502"/>
                </a:cubicBezTo>
                <a:cubicBezTo>
                  <a:pt x="8521" y="12583"/>
                  <a:pt x="8515" y="12610"/>
                  <a:pt x="8458" y="12675"/>
                </a:cubicBezTo>
                <a:cubicBezTo>
                  <a:pt x="8420" y="12718"/>
                  <a:pt x="8370" y="12787"/>
                  <a:pt x="8384" y="12849"/>
                </a:cubicBezTo>
                <a:cubicBezTo>
                  <a:pt x="8395" y="12899"/>
                  <a:pt x="8448" y="12938"/>
                  <a:pt x="8483" y="12973"/>
                </a:cubicBezTo>
                <a:cubicBezTo>
                  <a:pt x="8544" y="13035"/>
                  <a:pt x="8583" y="13025"/>
                  <a:pt x="8657" y="12998"/>
                </a:cubicBezTo>
              </a:path>
              <a:path w="8410" h="1167">
                <a:moveTo>
                  <a:pt x="8855" y="12328"/>
                </a:moveTo>
                <a:cubicBezTo>
                  <a:pt x="8823" y="12384"/>
                  <a:pt x="8808" y="12426"/>
                  <a:pt x="8781" y="12477"/>
                </a:cubicBezTo>
                <a:cubicBezTo>
                  <a:pt x="8740" y="12553"/>
                  <a:pt x="8756" y="12640"/>
                  <a:pt x="8756" y="12725"/>
                </a:cubicBezTo>
                <a:cubicBezTo>
                  <a:pt x="8756" y="12800"/>
                  <a:pt x="8794" y="12838"/>
                  <a:pt x="8830" y="12898"/>
                </a:cubicBezTo>
                <a:cubicBezTo>
                  <a:pt x="8868" y="12962"/>
                  <a:pt x="8877" y="12993"/>
                  <a:pt x="8954" y="12998"/>
                </a:cubicBezTo>
                <a:cubicBezTo>
                  <a:pt x="9014" y="13002"/>
                  <a:pt x="9064" y="12960"/>
                  <a:pt x="9079" y="12898"/>
                </a:cubicBezTo>
                <a:cubicBezTo>
                  <a:pt x="9094" y="12834"/>
                  <a:pt x="9118" y="12771"/>
                  <a:pt x="9128" y="12700"/>
                </a:cubicBezTo>
                <a:cubicBezTo>
                  <a:pt x="9140" y="12617"/>
                  <a:pt x="9136" y="12520"/>
                  <a:pt x="9103" y="12452"/>
                </a:cubicBezTo>
                <a:cubicBezTo>
                  <a:pt x="9064" y="12371"/>
                  <a:pt x="9075" y="12309"/>
                  <a:pt x="8979" y="12303"/>
                </a:cubicBezTo>
                <a:cubicBezTo>
                  <a:pt x="8874" y="12297"/>
                  <a:pt x="8945" y="12349"/>
                  <a:pt x="8979" y="12378"/>
                </a:cubicBezTo>
              </a:path>
              <a:path w="8410" h="1167">
                <a:moveTo>
                  <a:pt x="9252" y="12254"/>
                </a:moveTo>
                <a:cubicBezTo>
                  <a:pt x="9261" y="12316"/>
                  <a:pt x="9291" y="12392"/>
                  <a:pt x="9376" y="12378"/>
                </a:cubicBezTo>
                <a:cubicBezTo>
                  <a:pt x="9452" y="12365"/>
                  <a:pt x="9470" y="12263"/>
                  <a:pt x="9401" y="12229"/>
                </a:cubicBezTo>
                <a:cubicBezTo>
                  <a:pt x="9384" y="12229"/>
                  <a:pt x="9368" y="12229"/>
                  <a:pt x="9351" y="12229"/>
                </a:cubicBezTo>
              </a:path>
              <a:path w="8410" h="1167">
                <a:moveTo>
                  <a:pt x="5432" y="13271"/>
                </a:moveTo>
                <a:cubicBezTo>
                  <a:pt x="5494" y="13285"/>
                  <a:pt x="5537" y="13293"/>
                  <a:pt x="5606" y="13295"/>
                </a:cubicBezTo>
                <a:cubicBezTo>
                  <a:pt x="5732" y="13299"/>
                  <a:pt x="5854" y="13312"/>
                  <a:pt x="5978" y="13320"/>
                </a:cubicBezTo>
                <a:cubicBezTo>
                  <a:pt x="6228" y="13335"/>
                  <a:pt x="6503" y="13338"/>
                  <a:pt x="6747" y="13295"/>
                </a:cubicBezTo>
                <a:cubicBezTo>
                  <a:pt x="6870" y="13274"/>
                  <a:pt x="6993" y="13250"/>
                  <a:pt x="7119" y="13246"/>
                </a:cubicBezTo>
                <a:cubicBezTo>
                  <a:pt x="7230" y="13242"/>
                  <a:pt x="7334" y="13206"/>
                  <a:pt x="7441" y="13196"/>
                </a:cubicBezTo>
                <a:cubicBezTo>
                  <a:pt x="7556" y="13185"/>
                  <a:pt x="7677" y="13181"/>
                  <a:pt x="7789" y="13171"/>
                </a:cubicBezTo>
                <a:cubicBezTo>
                  <a:pt x="7912" y="13160"/>
                  <a:pt x="8041" y="13157"/>
                  <a:pt x="8161" y="13146"/>
                </a:cubicBezTo>
                <a:cubicBezTo>
                  <a:pt x="8299" y="13134"/>
                  <a:pt x="8444" y="13126"/>
                  <a:pt x="8582" y="13122"/>
                </a:cubicBezTo>
                <a:cubicBezTo>
                  <a:pt x="8645" y="13120"/>
                  <a:pt x="8745" y="13115"/>
                  <a:pt x="8806" y="13097"/>
                </a:cubicBezTo>
                <a:cubicBezTo>
                  <a:pt x="8855" y="13072"/>
                  <a:pt x="8872" y="13063"/>
                  <a:pt x="8905" y="130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Ink 15"/>
          <p:cNvSpPr/>
          <p:nvPr/>
        </p:nvSpPr>
        <p:spPr>
          <a:xfrm>
            <a:off x="5072040" y="4062240"/>
            <a:ext cx="1598760" cy="812880"/>
          </a:xfrm>
          <a:custGeom>
            <a:avLst/>
            <a:gdLst/>
            <a:ahLst/>
            <a:rect l="l" t="t" r="r" b="b"/>
            <a:pathLst>
              <a:path w="4441" h="2258">
                <a:moveTo>
                  <a:pt x="18529" y="11881"/>
                </a:moveTo>
                <a:cubicBezTo>
                  <a:pt x="18393" y="11904"/>
                  <a:pt x="18270" y="11906"/>
                  <a:pt x="18132" y="11906"/>
                </a:cubicBezTo>
                <a:cubicBezTo>
                  <a:pt x="17957" y="11906"/>
                  <a:pt x="17784" y="11898"/>
                  <a:pt x="17611" y="11881"/>
                </a:cubicBezTo>
                <a:cubicBezTo>
                  <a:pt x="17355" y="11855"/>
                  <a:pt x="17098" y="11820"/>
                  <a:pt x="16842" y="11807"/>
                </a:cubicBezTo>
                <a:cubicBezTo>
                  <a:pt x="16634" y="11797"/>
                  <a:pt x="16431" y="11782"/>
                  <a:pt x="16222" y="11782"/>
                </a:cubicBezTo>
                <a:cubicBezTo>
                  <a:pt x="15974" y="11782"/>
                  <a:pt x="15715" y="11786"/>
                  <a:pt x="15478" y="11832"/>
                </a:cubicBezTo>
                <a:cubicBezTo>
                  <a:pt x="15172" y="11892"/>
                  <a:pt x="15400" y="11832"/>
                  <a:pt x="15304" y="11906"/>
                </a:cubicBezTo>
              </a:path>
              <a:path w="4441" h="2258">
                <a:moveTo>
                  <a:pt x="16446" y="12452"/>
                </a:moveTo>
                <a:cubicBezTo>
                  <a:pt x="16455" y="12586"/>
                  <a:pt x="16470" y="12712"/>
                  <a:pt x="16470" y="12849"/>
                </a:cubicBezTo>
                <a:cubicBezTo>
                  <a:pt x="16470" y="13006"/>
                  <a:pt x="16470" y="13163"/>
                  <a:pt x="16470" y="13320"/>
                </a:cubicBezTo>
              </a:path>
              <a:path w="4441" h="2258">
                <a:moveTo>
                  <a:pt x="16718" y="12427"/>
                </a:moveTo>
                <a:cubicBezTo>
                  <a:pt x="16832" y="12414"/>
                  <a:pt x="16975" y="12422"/>
                  <a:pt x="17090" y="12402"/>
                </a:cubicBezTo>
                <a:cubicBezTo>
                  <a:pt x="17123" y="12394"/>
                  <a:pt x="17157" y="12386"/>
                  <a:pt x="17190" y="12378"/>
                </a:cubicBezTo>
              </a:path>
              <a:path w="4441" h="2258">
                <a:moveTo>
                  <a:pt x="16867" y="12427"/>
                </a:moveTo>
                <a:cubicBezTo>
                  <a:pt x="16845" y="12483"/>
                  <a:pt x="16746" y="12655"/>
                  <a:pt x="16768" y="12725"/>
                </a:cubicBezTo>
                <a:cubicBezTo>
                  <a:pt x="16787" y="12788"/>
                  <a:pt x="16870" y="12774"/>
                  <a:pt x="16917" y="12774"/>
                </a:cubicBezTo>
                <a:cubicBezTo>
                  <a:pt x="16996" y="12774"/>
                  <a:pt x="17020" y="12819"/>
                  <a:pt x="17066" y="12874"/>
                </a:cubicBezTo>
                <a:cubicBezTo>
                  <a:pt x="17121" y="12940"/>
                  <a:pt x="17215" y="13010"/>
                  <a:pt x="17239" y="13097"/>
                </a:cubicBezTo>
                <a:cubicBezTo>
                  <a:pt x="17279" y="13243"/>
                  <a:pt x="17259" y="13315"/>
                  <a:pt x="17239" y="13444"/>
                </a:cubicBezTo>
                <a:cubicBezTo>
                  <a:pt x="17226" y="13524"/>
                  <a:pt x="17147" y="13539"/>
                  <a:pt x="17066" y="13543"/>
                </a:cubicBezTo>
                <a:cubicBezTo>
                  <a:pt x="16967" y="13548"/>
                  <a:pt x="16878" y="13487"/>
                  <a:pt x="16793" y="13444"/>
                </a:cubicBezTo>
              </a:path>
              <a:path w="4441" h="2258">
                <a:moveTo>
                  <a:pt x="14387" y="11286"/>
                </a:moveTo>
                <a:cubicBezTo>
                  <a:pt x="14400" y="11374"/>
                  <a:pt x="14460" y="11411"/>
                  <a:pt x="14511" y="11485"/>
                </a:cubicBezTo>
                <a:cubicBezTo>
                  <a:pt x="14576" y="11580"/>
                  <a:pt x="14674" y="11680"/>
                  <a:pt x="14759" y="11757"/>
                </a:cubicBezTo>
                <a:cubicBezTo>
                  <a:pt x="14853" y="11842"/>
                  <a:pt x="14900" y="11933"/>
                  <a:pt x="14982" y="12030"/>
                </a:cubicBezTo>
                <a:cubicBezTo>
                  <a:pt x="15062" y="12124"/>
                  <a:pt x="15106" y="12208"/>
                  <a:pt x="15180" y="12303"/>
                </a:cubicBezTo>
                <a:cubicBezTo>
                  <a:pt x="15241" y="12382"/>
                  <a:pt x="15266" y="12419"/>
                  <a:pt x="15304" y="12502"/>
                </a:cubicBezTo>
                <a:cubicBezTo>
                  <a:pt x="15319" y="12535"/>
                  <a:pt x="15355" y="12572"/>
                  <a:pt x="15379" y="12601"/>
                </a:cubicBezTo>
              </a:path>
              <a:path w="4441" h="2258">
                <a:moveTo>
                  <a:pt x="15280" y="11460"/>
                </a:moveTo>
                <a:cubicBezTo>
                  <a:pt x="15226" y="11554"/>
                  <a:pt x="15169" y="11623"/>
                  <a:pt x="15106" y="11708"/>
                </a:cubicBezTo>
                <a:cubicBezTo>
                  <a:pt x="15018" y="11826"/>
                  <a:pt x="14904" y="11915"/>
                  <a:pt x="14808" y="12030"/>
                </a:cubicBezTo>
                <a:cubicBezTo>
                  <a:pt x="14704" y="12155"/>
                  <a:pt x="14610" y="12283"/>
                  <a:pt x="14511" y="12402"/>
                </a:cubicBezTo>
                <a:cubicBezTo>
                  <a:pt x="14427" y="12503"/>
                  <a:pt x="14314" y="12601"/>
                  <a:pt x="14238" y="12700"/>
                </a:cubicBezTo>
                <a:cubicBezTo>
                  <a:pt x="14170" y="12813"/>
                  <a:pt x="14154" y="12844"/>
                  <a:pt x="14089" y="128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Ink 16"/>
          <p:cNvSpPr/>
          <p:nvPr/>
        </p:nvSpPr>
        <p:spPr>
          <a:xfrm>
            <a:off x="303120" y="4749840"/>
            <a:ext cx="1152720" cy="358560"/>
          </a:xfrm>
          <a:custGeom>
            <a:avLst/>
            <a:gdLst/>
            <a:ahLst/>
            <a:rect l="l" t="t" r="r" b="b"/>
            <a:pathLst>
              <a:path w="3201" h="993">
                <a:moveTo>
                  <a:pt x="843" y="13196"/>
                </a:moveTo>
                <a:cubicBezTo>
                  <a:pt x="898" y="13244"/>
                  <a:pt x="918" y="13261"/>
                  <a:pt x="992" y="13271"/>
                </a:cubicBezTo>
                <a:cubicBezTo>
                  <a:pt x="1081" y="13283"/>
                  <a:pt x="1177" y="13286"/>
                  <a:pt x="1265" y="13295"/>
                </a:cubicBezTo>
                <a:cubicBezTo>
                  <a:pt x="1509" y="13321"/>
                  <a:pt x="1765" y="13301"/>
                  <a:pt x="2009" y="13320"/>
                </a:cubicBezTo>
                <a:cubicBezTo>
                  <a:pt x="2204" y="13336"/>
                  <a:pt x="2408" y="13334"/>
                  <a:pt x="2604" y="13345"/>
                </a:cubicBezTo>
                <a:cubicBezTo>
                  <a:pt x="2875" y="13360"/>
                  <a:pt x="3886" y="13451"/>
                  <a:pt x="4018" y="13320"/>
                </a:cubicBezTo>
                <a:cubicBezTo>
                  <a:pt x="4010" y="13320"/>
                  <a:pt x="4002" y="13320"/>
                  <a:pt x="3994" y="13320"/>
                </a:cubicBezTo>
              </a:path>
              <a:path w="3201" h="993">
                <a:moveTo>
                  <a:pt x="1811" y="13692"/>
                </a:moveTo>
                <a:cubicBezTo>
                  <a:pt x="1777" y="13634"/>
                  <a:pt x="1742" y="13587"/>
                  <a:pt x="1662" y="13618"/>
                </a:cubicBezTo>
                <a:cubicBezTo>
                  <a:pt x="1583" y="13648"/>
                  <a:pt x="1630" y="13725"/>
                  <a:pt x="1662" y="13767"/>
                </a:cubicBezTo>
                <a:cubicBezTo>
                  <a:pt x="1708" y="13827"/>
                  <a:pt x="1765" y="13880"/>
                  <a:pt x="1811" y="13940"/>
                </a:cubicBezTo>
                <a:cubicBezTo>
                  <a:pt x="1850" y="13991"/>
                  <a:pt x="1906" y="14068"/>
                  <a:pt x="1885" y="14139"/>
                </a:cubicBezTo>
                <a:cubicBezTo>
                  <a:pt x="1867" y="14200"/>
                  <a:pt x="1757" y="14204"/>
                  <a:pt x="1712" y="14188"/>
                </a:cubicBezTo>
                <a:cubicBezTo>
                  <a:pt x="1688" y="14179"/>
                  <a:pt x="1599" y="14109"/>
                  <a:pt x="1588" y="14089"/>
                </a:cubicBezTo>
                <a:cubicBezTo>
                  <a:pt x="1588" y="14081"/>
                  <a:pt x="1588" y="14072"/>
                  <a:pt x="1588" y="14064"/>
                </a:cubicBezTo>
              </a:path>
              <a:path w="3201" h="993">
                <a:moveTo>
                  <a:pt x="2108" y="13915"/>
                </a:moveTo>
                <a:cubicBezTo>
                  <a:pt x="2093" y="14015"/>
                  <a:pt x="2084" y="14213"/>
                  <a:pt x="2108" y="14114"/>
                </a:cubicBezTo>
              </a:path>
              <a:path w="3201" h="993">
                <a:moveTo>
                  <a:pt x="2133" y="13568"/>
                </a:moveTo>
                <a:cubicBezTo>
                  <a:pt x="2163" y="13538"/>
                  <a:pt x="2177" y="13533"/>
                  <a:pt x="2208" y="13568"/>
                </a:cubicBezTo>
              </a:path>
              <a:path w="3201" h="993">
                <a:moveTo>
                  <a:pt x="2282" y="13866"/>
                </a:moveTo>
                <a:cubicBezTo>
                  <a:pt x="2277" y="13975"/>
                  <a:pt x="2269" y="14021"/>
                  <a:pt x="2257" y="14114"/>
                </a:cubicBezTo>
                <a:cubicBezTo>
                  <a:pt x="2283" y="14035"/>
                  <a:pt x="2300" y="13954"/>
                  <a:pt x="2356" y="13891"/>
                </a:cubicBezTo>
                <a:cubicBezTo>
                  <a:pt x="2402" y="13839"/>
                  <a:pt x="2452" y="13823"/>
                  <a:pt x="2505" y="13866"/>
                </a:cubicBezTo>
                <a:cubicBezTo>
                  <a:pt x="2564" y="13913"/>
                  <a:pt x="2576" y="13965"/>
                  <a:pt x="2580" y="14039"/>
                </a:cubicBezTo>
                <a:cubicBezTo>
                  <a:pt x="2584" y="14106"/>
                  <a:pt x="2549" y="14183"/>
                  <a:pt x="2604" y="14163"/>
                </a:cubicBezTo>
              </a:path>
              <a:path w="3201" h="993">
                <a:moveTo>
                  <a:pt x="2877" y="13667"/>
                </a:moveTo>
                <a:cubicBezTo>
                  <a:pt x="2877" y="13810"/>
                  <a:pt x="2876" y="13961"/>
                  <a:pt x="2902" y="14089"/>
                </a:cubicBezTo>
                <a:cubicBezTo>
                  <a:pt x="2911" y="14132"/>
                  <a:pt x="2892" y="14199"/>
                  <a:pt x="2927" y="14163"/>
                </a:cubicBezTo>
              </a:path>
              <a:path w="3201" h="993">
                <a:moveTo>
                  <a:pt x="3076" y="13717"/>
                </a:moveTo>
                <a:cubicBezTo>
                  <a:pt x="3156" y="13687"/>
                  <a:pt x="3212" y="13666"/>
                  <a:pt x="3274" y="13742"/>
                </a:cubicBezTo>
                <a:cubicBezTo>
                  <a:pt x="3324" y="13803"/>
                  <a:pt x="3292" y="13863"/>
                  <a:pt x="3249" y="13915"/>
                </a:cubicBezTo>
                <a:cubicBezTo>
                  <a:pt x="3206" y="13968"/>
                  <a:pt x="3132" y="14035"/>
                  <a:pt x="3150" y="14114"/>
                </a:cubicBezTo>
                <a:cubicBezTo>
                  <a:pt x="3177" y="14232"/>
                  <a:pt x="3283" y="14171"/>
                  <a:pt x="3349" y="14139"/>
                </a:cubicBezTo>
              </a:path>
              <a:path w="3201" h="993">
                <a:moveTo>
                  <a:pt x="3572" y="13667"/>
                </a:moveTo>
                <a:cubicBezTo>
                  <a:pt x="3527" y="13731"/>
                  <a:pt x="3473" y="13781"/>
                  <a:pt x="3497" y="13866"/>
                </a:cubicBezTo>
                <a:cubicBezTo>
                  <a:pt x="3516" y="13934"/>
                  <a:pt x="3550" y="14011"/>
                  <a:pt x="3597" y="14064"/>
                </a:cubicBezTo>
                <a:cubicBezTo>
                  <a:pt x="3627" y="14098"/>
                  <a:pt x="3719" y="14113"/>
                  <a:pt x="3746" y="14064"/>
                </a:cubicBezTo>
                <a:cubicBezTo>
                  <a:pt x="3781" y="14000"/>
                  <a:pt x="3795" y="13838"/>
                  <a:pt x="3770" y="13767"/>
                </a:cubicBezTo>
                <a:cubicBezTo>
                  <a:pt x="3756" y="13726"/>
                  <a:pt x="3746" y="13695"/>
                  <a:pt x="3746" y="136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Ink 17"/>
          <p:cNvSpPr/>
          <p:nvPr/>
        </p:nvSpPr>
        <p:spPr>
          <a:xfrm>
            <a:off x="2295360" y="4795920"/>
            <a:ext cx="820800" cy="295200"/>
          </a:xfrm>
          <a:custGeom>
            <a:avLst/>
            <a:gdLst/>
            <a:ahLst/>
            <a:rect l="l" t="t" r="r" b="b"/>
            <a:pathLst>
              <a:path w="2283" h="820">
                <a:moveTo>
                  <a:pt x="6672" y="13568"/>
                </a:moveTo>
                <a:cubicBezTo>
                  <a:pt x="6754" y="13609"/>
                  <a:pt x="6623" y="13524"/>
                  <a:pt x="6598" y="13519"/>
                </a:cubicBezTo>
                <a:cubicBezTo>
                  <a:pt x="6551" y="13510"/>
                  <a:pt x="6449" y="13560"/>
                  <a:pt x="6449" y="13618"/>
                </a:cubicBezTo>
                <a:cubicBezTo>
                  <a:pt x="6449" y="13669"/>
                  <a:pt x="6514" y="13733"/>
                  <a:pt x="6548" y="13767"/>
                </a:cubicBezTo>
                <a:cubicBezTo>
                  <a:pt x="6591" y="13810"/>
                  <a:pt x="6612" y="13866"/>
                  <a:pt x="6648" y="13915"/>
                </a:cubicBezTo>
                <a:cubicBezTo>
                  <a:pt x="6691" y="13973"/>
                  <a:pt x="6700" y="13997"/>
                  <a:pt x="6722" y="14064"/>
                </a:cubicBezTo>
                <a:cubicBezTo>
                  <a:pt x="6730" y="14081"/>
                  <a:pt x="6739" y="14097"/>
                  <a:pt x="6747" y="14114"/>
                </a:cubicBezTo>
                <a:cubicBezTo>
                  <a:pt x="6666" y="14155"/>
                  <a:pt x="6628" y="14130"/>
                  <a:pt x="6548" y="14089"/>
                </a:cubicBezTo>
                <a:cubicBezTo>
                  <a:pt x="6486" y="14058"/>
                  <a:pt x="6396" y="14038"/>
                  <a:pt x="6375" y="13965"/>
                </a:cubicBezTo>
                <a:cubicBezTo>
                  <a:pt x="6375" y="13924"/>
                  <a:pt x="6375" y="13916"/>
                  <a:pt x="6375" y="13891"/>
                </a:cubicBezTo>
              </a:path>
              <a:path w="2283" h="820">
                <a:moveTo>
                  <a:pt x="6921" y="13692"/>
                </a:moveTo>
                <a:cubicBezTo>
                  <a:pt x="6921" y="13726"/>
                  <a:pt x="6944" y="14015"/>
                  <a:pt x="6896" y="14015"/>
                </a:cubicBezTo>
                <a:cubicBezTo>
                  <a:pt x="6896" y="14007"/>
                  <a:pt x="6896" y="13998"/>
                  <a:pt x="6896" y="13990"/>
                </a:cubicBezTo>
              </a:path>
              <a:path w="2283" h="820">
                <a:moveTo>
                  <a:pt x="6921" y="13395"/>
                </a:moveTo>
                <a:cubicBezTo>
                  <a:pt x="6929" y="13336"/>
                  <a:pt x="6915" y="13334"/>
                  <a:pt x="6970" y="13320"/>
                </a:cubicBezTo>
              </a:path>
              <a:path w="2283" h="820">
                <a:moveTo>
                  <a:pt x="7094" y="13866"/>
                </a:moveTo>
                <a:cubicBezTo>
                  <a:pt x="7094" y="13891"/>
                  <a:pt x="7094" y="13915"/>
                  <a:pt x="7094" y="13940"/>
                </a:cubicBezTo>
                <a:cubicBezTo>
                  <a:pt x="7049" y="13963"/>
                  <a:pt x="7096" y="13865"/>
                  <a:pt x="7119" y="13816"/>
                </a:cubicBezTo>
                <a:cubicBezTo>
                  <a:pt x="7145" y="13760"/>
                  <a:pt x="7175" y="13691"/>
                  <a:pt x="7218" y="13643"/>
                </a:cubicBezTo>
                <a:cubicBezTo>
                  <a:pt x="7269" y="13587"/>
                  <a:pt x="7347" y="13624"/>
                  <a:pt x="7367" y="13692"/>
                </a:cubicBezTo>
                <a:cubicBezTo>
                  <a:pt x="7384" y="13750"/>
                  <a:pt x="7375" y="13806"/>
                  <a:pt x="7392" y="13866"/>
                </a:cubicBezTo>
                <a:cubicBezTo>
                  <a:pt x="7413" y="13941"/>
                  <a:pt x="7433" y="14015"/>
                  <a:pt x="7466" y="14089"/>
                </a:cubicBezTo>
              </a:path>
              <a:path w="2283" h="820">
                <a:moveTo>
                  <a:pt x="7714" y="13519"/>
                </a:moveTo>
                <a:cubicBezTo>
                  <a:pt x="7745" y="13609"/>
                  <a:pt x="7739" y="13693"/>
                  <a:pt x="7739" y="13791"/>
                </a:cubicBezTo>
                <a:cubicBezTo>
                  <a:pt x="7739" y="13874"/>
                  <a:pt x="7718" y="13918"/>
                  <a:pt x="7714" y="13990"/>
                </a:cubicBezTo>
                <a:cubicBezTo>
                  <a:pt x="7714" y="14031"/>
                  <a:pt x="7714" y="14055"/>
                  <a:pt x="7714" y="14015"/>
                </a:cubicBezTo>
              </a:path>
              <a:path w="2283" h="820">
                <a:moveTo>
                  <a:pt x="7863" y="13543"/>
                </a:moveTo>
                <a:cubicBezTo>
                  <a:pt x="7917" y="13514"/>
                  <a:pt x="8034" y="13451"/>
                  <a:pt x="8086" y="13543"/>
                </a:cubicBezTo>
                <a:cubicBezTo>
                  <a:pt x="8106" y="13579"/>
                  <a:pt x="8077" y="13710"/>
                  <a:pt x="8062" y="13742"/>
                </a:cubicBezTo>
                <a:cubicBezTo>
                  <a:pt x="8031" y="13808"/>
                  <a:pt x="7907" y="13799"/>
                  <a:pt x="7913" y="13915"/>
                </a:cubicBezTo>
                <a:cubicBezTo>
                  <a:pt x="7918" y="14014"/>
                  <a:pt x="8017" y="14015"/>
                  <a:pt x="8086" y="14015"/>
                </a:cubicBezTo>
              </a:path>
              <a:path w="2283" h="820">
                <a:moveTo>
                  <a:pt x="8359" y="13618"/>
                </a:moveTo>
                <a:cubicBezTo>
                  <a:pt x="8427" y="13584"/>
                  <a:pt x="8321" y="13693"/>
                  <a:pt x="8310" y="13742"/>
                </a:cubicBezTo>
                <a:cubicBezTo>
                  <a:pt x="8291" y="13828"/>
                  <a:pt x="8277" y="13877"/>
                  <a:pt x="8310" y="13965"/>
                </a:cubicBezTo>
                <a:cubicBezTo>
                  <a:pt x="8335" y="14032"/>
                  <a:pt x="8410" y="14101"/>
                  <a:pt x="8483" y="14114"/>
                </a:cubicBezTo>
                <a:cubicBezTo>
                  <a:pt x="8550" y="14126"/>
                  <a:pt x="8596" y="14094"/>
                  <a:pt x="8632" y="14039"/>
                </a:cubicBezTo>
                <a:cubicBezTo>
                  <a:pt x="8667" y="13985"/>
                  <a:pt x="8673" y="13877"/>
                  <a:pt x="8657" y="13816"/>
                </a:cubicBezTo>
                <a:cubicBezTo>
                  <a:pt x="8638" y="13745"/>
                  <a:pt x="8516" y="13655"/>
                  <a:pt x="8458" y="13618"/>
                </a:cubicBezTo>
                <a:cubicBezTo>
                  <a:pt x="8442" y="13610"/>
                  <a:pt x="8425" y="13601"/>
                  <a:pt x="8409" y="135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Ink 18"/>
          <p:cNvSpPr/>
          <p:nvPr/>
        </p:nvSpPr>
        <p:spPr>
          <a:xfrm>
            <a:off x="3956040" y="4749840"/>
            <a:ext cx="2465280" cy="358560"/>
          </a:xfrm>
          <a:custGeom>
            <a:avLst/>
            <a:gdLst/>
            <a:ahLst/>
            <a:rect l="l" t="t" r="r" b="b"/>
            <a:pathLst>
              <a:path w="6848" h="993">
                <a:moveTo>
                  <a:pt x="11013" y="13469"/>
                </a:moveTo>
                <a:cubicBezTo>
                  <a:pt x="11013" y="13606"/>
                  <a:pt x="11005" y="13737"/>
                  <a:pt x="10988" y="13866"/>
                </a:cubicBezTo>
                <a:cubicBezTo>
                  <a:pt x="10974" y="13969"/>
                  <a:pt x="10988" y="14084"/>
                  <a:pt x="10988" y="14188"/>
                </a:cubicBezTo>
              </a:path>
              <a:path w="6848" h="993">
                <a:moveTo>
                  <a:pt x="11311" y="13395"/>
                </a:moveTo>
                <a:cubicBezTo>
                  <a:pt x="11410" y="13412"/>
                  <a:pt x="11486" y="13419"/>
                  <a:pt x="11584" y="13419"/>
                </a:cubicBezTo>
              </a:path>
              <a:path w="6848" h="993">
                <a:moveTo>
                  <a:pt x="11261" y="13395"/>
                </a:moveTo>
                <a:cubicBezTo>
                  <a:pt x="11220" y="13442"/>
                  <a:pt x="11139" y="13519"/>
                  <a:pt x="11162" y="13593"/>
                </a:cubicBezTo>
                <a:cubicBezTo>
                  <a:pt x="11170" y="13601"/>
                  <a:pt x="11179" y="13610"/>
                  <a:pt x="11187" y="13618"/>
                </a:cubicBezTo>
                <a:cubicBezTo>
                  <a:pt x="11223" y="13596"/>
                  <a:pt x="11289" y="13557"/>
                  <a:pt x="11336" y="13568"/>
                </a:cubicBezTo>
                <a:cubicBezTo>
                  <a:pt x="11407" y="13585"/>
                  <a:pt x="11475" y="13634"/>
                  <a:pt x="11509" y="13692"/>
                </a:cubicBezTo>
                <a:cubicBezTo>
                  <a:pt x="11553" y="13767"/>
                  <a:pt x="11559" y="13832"/>
                  <a:pt x="11559" y="13915"/>
                </a:cubicBezTo>
                <a:cubicBezTo>
                  <a:pt x="11559" y="14023"/>
                  <a:pt x="11535" y="14007"/>
                  <a:pt x="11460" y="14064"/>
                </a:cubicBezTo>
                <a:cubicBezTo>
                  <a:pt x="11409" y="14103"/>
                  <a:pt x="11344" y="14100"/>
                  <a:pt x="11286" y="14064"/>
                </a:cubicBezTo>
                <a:cubicBezTo>
                  <a:pt x="11264" y="14042"/>
                  <a:pt x="11255" y="14037"/>
                  <a:pt x="11261" y="14015"/>
                </a:cubicBezTo>
              </a:path>
              <a:path w="6848" h="993">
                <a:moveTo>
                  <a:pt x="11881" y="13891"/>
                </a:moveTo>
                <a:cubicBezTo>
                  <a:pt x="11881" y="13874"/>
                  <a:pt x="11881" y="13858"/>
                  <a:pt x="11881" y="13841"/>
                </a:cubicBezTo>
              </a:path>
              <a:path w="6848" h="993">
                <a:moveTo>
                  <a:pt x="12378" y="13593"/>
                </a:moveTo>
                <a:cubicBezTo>
                  <a:pt x="12355" y="13570"/>
                  <a:pt x="12316" y="13508"/>
                  <a:pt x="12278" y="13519"/>
                </a:cubicBezTo>
                <a:cubicBezTo>
                  <a:pt x="12227" y="13533"/>
                  <a:pt x="12127" y="13537"/>
                  <a:pt x="12154" y="13618"/>
                </a:cubicBezTo>
                <a:cubicBezTo>
                  <a:pt x="12173" y="13676"/>
                  <a:pt x="12251" y="13734"/>
                  <a:pt x="12278" y="13791"/>
                </a:cubicBezTo>
                <a:cubicBezTo>
                  <a:pt x="12316" y="13871"/>
                  <a:pt x="12373" y="13950"/>
                  <a:pt x="12378" y="14039"/>
                </a:cubicBezTo>
                <a:cubicBezTo>
                  <a:pt x="12384" y="14154"/>
                  <a:pt x="12267" y="14099"/>
                  <a:pt x="12204" y="14064"/>
                </a:cubicBezTo>
                <a:cubicBezTo>
                  <a:pt x="12155" y="14036"/>
                  <a:pt x="12124" y="14034"/>
                  <a:pt x="12080" y="13990"/>
                </a:cubicBezTo>
                <a:cubicBezTo>
                  <a:pt x="12055" y="13965"/>
                  <a:pt x="12047" y="13957"/>
                  <a:pt x="12080" y="13940"/>
                </a:cubicBezTo>
              </a:path>
              <a:path w="6848" h="993">
                <a:moveTo>
                  <a:pt x="12601" y="13667"/>
                </a:moveTo>
                <a:cubicBezTo>
                  <a:pt x="12601" y="13783"/>
                  <a:pt x="12601" y="13899"/>
                  <a:pt x="12601" y="14015"/>
                </a:cubicBezTo>
              </a:path>
              <a:path w="6848" h="993">
                <a:moveTo>
                  <a:pt x="12576" y="13419"/>
                </a:moveTo>
                <a:cubicBezTo>
                  <a:pt x="12576" y="13334"/>
                  <a:pt x="12563" y="13308"/>
                  <a:pt x="12626" y="13295"/>
                </a:cubicBezTo>
              </a:path>
              <a:path w="6848" h="993">
                <a:moveTo>
                  <a:pt x="12799" y="13791"/>
                </a:moveTo>
                <a:cubicBezTo>
                  <a:pt x="12799" y="13832"/>
                  <a:pt x="12799" y="13874"/>
                  <a:pt x="12799" y="13915"/>
                </a:cubicBezTo>
                <a:cubicBezTo>
                  <a:pt x="12799" y="14040"/>
                  <a:pt x="12807" y="13828"/>
                  <a:pt x="12824" y="13791"/>
                </a:cubicBezTo>
                <a:cubicBezTo>
                  <a:pt x="12846" y="13741"/>
                  <a:pt x="12848" y="13683"/>
                  <a:pt x="12874" y="13643"/>
                </a:cubicBezTo>
                <a:cubicBezTo>
                  <a:pt x="12897" y="13608"/>
                  <a:pt x="13026" y="13596"/>
                  <a:pt x="13047" y="13643"/>
                </a:cubicBezTo>
                <a:cubicBezTo>
                  <a:pt x="13071" y="13698"/>
                  <a:pt x="13072" y="13803"/>
                  <a:pt x="13072" y="13866"/>
                </a:cubicBezTo>
                <a:cubicBezTo>
                  <a:pt x="13072" y="13942"/>
                  <a:pt x="13061" y="14018"/>
                  <a:pt x="13097" y="14089"/>
                </a:cubicBezTo>
                <a:cubicBezTo>
                  <a:pt x="13105" y="14097"/>
                  <a:pt x="13114" y="14106"/>
                  <a:pt x="13122" y="14114"/>
                </a:cubicBezTo>
              </a:path>
              <a:path w="6848" h="993">
                <a:moveTo>
                  <a:pt x="13395" y="13419"/>
                </a:moveTo>
                <a:cubicBezTo>
                  <a:pt x="13395" y="13504"/>
                  <a:pt x="13406" y="13565"/>
                  <a:pt x="13419" y="13643"/>
                </a:cubicBezTo>
                <a:cubicBezTo>
                  <a:pt x="13431" y="13715"/>
                  <a:pt x="13419" y="14055"/>
                  <a:pt x="13419" y="13965"/>
                </a:cubicBezTo>
              </a:path>
              <a:path w="6848" h="993">
                <a:moveTo>
                  <a:pt x="13643" y="13444"/>
                </a:moveTo>
                <a:cubicBezTo>
                  <a:pt x="13766" y="13423"/>
                  <a:pt x="13791" y="13415"/>
                  <a:pt x="13866" y="13419"/>
                </a:cubicBezTo>
              </a:path>
              <a:path w="6848" h="993">
                <a:moveTo>
                  <a:pt x="13717" y="13419"/>
                </a:moveTo>
                <a:cubicBezTo>
                  <a:pt x="13663" y="13474"/>
                  <a:pt x="13583" y="13527"/>
                  <a:pt x="13618" y="13618"/>
                </a:cubicBezTo>
                <a:cubicBezTo>
                  <a:pt x="13640" y="13675"/>
                  <a:pt x="13747" y="13631"/>
                  <a:pt x="13791" y="13643"/>
                </a:cubicBezTo>
                <a:cubicBezTo>
                  <a:pt x="13882" y="13667"/>
                  <a:pt x="13907" y="13758"/>
                  <a:pt x="13915" y="13841"/>
                </a:cubicBezTo>
                <a:cubicBezTo>
                  <a:pt x="13922" y="13913"/>
                  <a:pt x="13915" y="13962"/>
                  <a:pt x="13866" y="14015"/>
                </a:cubicBezTo>
                <a:cubicBezTo>
                  <a:pt x="13803" y="14084"/>
                  <a:pt x="13800" y="14118"/>
                  <a:pt x="13692" y="14064"/>
                </a:cubicBezTo>
                <a:cubicBezTo>
                  <a:pt x="13635" y="14035"/>
                  <a:pt x="13648" y="13994"/>
                  <a:pt x="13643" y="13940"/>
                </a:cubicBezTo>
              </a:path>
              <a:path w="6848" h="993">
                <a:moveTo>
                  <a:pt x="14089" y="13370"/>
                </a:moveTo>
                <a:cubicBezTo>
                  <a:pt x="14087" y="13402"/>
                  <a:pt x="14136" y="13605"/>
                  <a:pt x="14188" y="13469"/>
                </a:cubicBezTo>
                <a:cubicBezTo>
                  <a:pt x="14209" y="13415"/>
                  <a:pt x="14195" y="13312"/>
                  <a:pt x="14163" y="13271"/>
                </a:cubicBezTo>
                <a:cubicBezTo>
                  <a:pt x="14128" y="13227"/>
                  <a:pt x="14093" y="13207"/>
                  <a:pt x="14039" y="13196"/>
                </a:cubicBezTo>
              </a:path>
              <a:path w="6848" h="993">
                <a:moveTo>
                  <a:pt x="14288" y="13891"/>
                </a:moveTo>
                <a:cubicBezTo>
                  <a:pt x="14346" y="13891"/>
                  <a:pt x="14403" y="13891"/>
                  <a:pt x="14461" y="13891"/>
                </a:cubicBezTo>
              </a:path>
              <a:path w="6848" h="993">
                <a:moveTo>
                  <a:pt x="14312" y="14015"/>
                </a:moveTo>
                <a:cubicBezTo>
                  <a:pt x="14367" y="14091"/>
                  <a:pt x="14392" y="14089"/>
                  <a:pt x="14486" y="14089"/>
                </a:cubicBezTo>
              </a:path>
              <a:path w="6848" h="993">
                <a:moveTo>
                  <a:pt x="15205" y="13667"/>
                </a:moveTo>
                <a:cubicBezTo>
                  <a:pt x="15213" y="13692"/>
                  <a:pt x="15222" y="13717"/>
                  <a:pt x="15230" y="13742"/>
                </a:cubicBezTo>
                <a:cubicBezTo>
                  <a:pt x="15230" y="13644"/>
                  <a:pt x="15228" y="13629"/>
                  <a:pt x="15156" y="13568"/>
                </a:cubicBezTo>
                <a:cubicBezTo>
                  <a:pt x="15101" y="13522"/>
                  <a:pt x="15058" y="13587"/>
                  <a:pt x="15007" y="13618"/>
                </a:cubicBezTo>
                <a:cubicBezTo>
                  <a:pt x="14920" y="13670"/>
                  <a:pt x="14901" y="13706"/>
                  <a:pt x="14883" y="13816"/>
                </a:cubicBezTo>
                <a:cubicBezTo>
                  <a:pt x="14874" y="13871"/>
                  <a:pt x="14887" y="13968"/>
                  <a:pt x="14908" y="14015"/>
                </a:cubicBezTo>
                <a:cubicBezTo>
                  <a:pt x="14928" y="14059"/>
                  <a:pt x="14971" y="14135"/>
                  <a:pt x="15032" y="14114"/>
                </a:cubicBezTo>
                <a:cubicBezTo>
                  <a:pt x="15087" y="14095"/>
                  <a:pt x="15125" y="14007"/>
                  <a:pt x="15156" y="13965"/>
                </a:cubicBezTo>
                <a:cubicBezTo>
                  <a:pt x="15189" y="13920"/>
                  <a:pt x="15202" y="13850"/>
                  <a:pt x="15205" y="13791"/>
                </a:cubicBezTo>
                <a:cubicBezTo>
                  <a:pt x="15205" y="13775"/>
                  <a:pt x="15205" y="13758"/>
                  <a:pt x="15205" y="13742"/>
                </a:cubicBezTo>
                <a:cubicBezTo>
                  <a:pt x="15169" y="13826"/>
                  <a:pt x="15176" y="13906"/>
                  <a:pt x="15230" y="13990"/>
                </a:cubicBezTo>
                <a:cubicBezTo>
                  <a:pt x="15272" y="14055"/>
                  <a:pt x="15309" y="14057"/>
                  <a:pt x="15379" y="14064"/>
                </a:cubicBezTo>
              </a:path>
              <a:path w="6848" h="993">
                <a:moveTo>
                  <a:pt x="15528" y="13767"/>
                </a:moveTo>
                <a:cubicBezTo>
                  <a:pt x="15536" y="13767"/>
                  <a:pt x="15545" y="13767"/>
                  <a:pt x="15553" y="13767"/>
                </a:cubicBezTo>
              </a:path>
              <a:path w="6848" h="993">
                <a:moveTo>
                  <a:pt x="15974" y="13667"/>
                </a:moveTo>
                <a:cubicBezTo>
                  <a:pt x="15934" y="13612"/>
                  <a:pt x="15889" y="13581"/>
                  <a:pt x="15825" y="13568"/>
                </a:cubicBezTo>
                <a:cubicBezTo>
                  <a:pt x="15781" y="13568"/>
                  <a:pt x="15767" y="13565"/>
                  <a:pt x="15751" y="13593"/>
                </a:cubicBezTo>
                <a:cubicBezTo>
                  <a:pt x="15800" y="13642"/>
                  <a:pt x="15842" y="13681"/>
                  <a:pt x="15875" y="13742"/>
                </a:cubicBezTo>
                <a:cubicBezTo>
                  <a:pt x="15904" y="13796"/>
                  <a:pt x="15943" y="13840"/>
                  <a:pt x="15974" y="13891"/>
                </a:cubicBezTo>
                <a:cubicBezTo>
                  <a:pt x="16020" y="13967"/>
                  <a:pt x="16037" y="14013"/>
                  <a:pt x="15999" y="14089"/>
                </a:cubicBezTo>
                <a:cubicBezTo>
                  <a:pt x="15926" y="14052"/>
                  <a:pt x="15882" y="14023"/>
                  <a:pt x="15825" y="13965"/>
                </a:cubicBezTo>
                <a:cubicBezTo>
                  <a:pt x="15794" y="13934"/>
                  <a:pt x="15784" y="13907"/>
                  <a:pt x="15776" y="13866"/>
                </a:cubicBezTo>
              </a:path>
              <a:path w="6848" h="993">
                <a:moveTo>
                  <a:pt x="16123" y="13667"/>
                </a:moveTo>
                <a:cubicBezTo>
                  <a:pt x="16141" y="13749"/>
                  <a:pt x="16146" y="13865"/>
                  <a:pt x="16173" y="13940"/>
                </a:cubicBezTo>
                <a:cubicBezTo>
                  <a:pt x="16195" y="13963"/>
                  <a:pt x="16203" y="13968"/>
                  <a:pt x="16197" y="13990"/>
                </a:cubicBezTo>
              </a:path>
              <a:path w="6848" h="993">
                <a:moveTo>
                  <a:pt x="16222" y="13419"/>
                </a:moveTo>
                <a:cubicBezTo>
                  <a:pt x="16245" y="13397"/>
                  <a:pt x="16250" y="13389"/>
                  <a:pt x="16272" y="13395"/>
                </a:cubicBezTo>
              </a:path>
              <a:path w="6848" h="993">
                <a:moveTo>
                  <a:pt x="16346" y="13841"/>
                </a:moveTo>
                <a:cubicBezTo>
                  <a:pt x="16354" y="13789"/>
                  <a:pt x="16361" y="13612"/>
                  <a:pt x="16446" y="13618"/>
                </a:cubicBezTo>
                <a:cubicBezTo>
                  <a:pt x="16517" y="13623"/>
                  <a:pt x="16546" y="13718"/>
                  <a:pt x="16570" y="13767"/>
                </a:cubicBezTo>
                <a:cubicBezTo>
                  <a:pt x="16600" y="13828"/>
                  <a:pt x="16599" y="13945"/>
                  <a:pt x="16644" y="13990"/>
                </a:cubicBezTo>
                <a:cubicBezTo>
                  <a:pt x="16652" y="13990"/>
                  <a:pt x="16661" y="13990"/>
                  <a:pt x="16669" y="13990"/>
                </a:cubicBezTo>
              </a:path>
              <a:path w="6848" h="993">
                <a:moveTo>
                  <a:pt x="16867" y="13568"/>
                </a:moveTo>
                <a:cubicBezTo>
                  <a:pt x="16841" y="13688"/>
                  <a:pt x="16862" y="13746"/>
                  <a:pt x="16867" y="13866"/>
                </a:cubicBezTo>
                <a:cubicBezTo>
                  <a:pt x="16870" y="13944"/>
                  <a:pt x="16871" y="13957"/>
                  <a:pt x="16917" y="14015"/>
                </a:cubicBezTo>
              </a:path>
              <a:path w="6848" h="993">
                <a:moveTo>
                  <a:pt x="16991" y="13618"/>
                </a:moveTo>
                <a:cubicBezTo>
                  <a:pt x="17061" y="13592"/>
                  <a:pt x="17120" y="13574"/>
                  <a:pt x="17190" y="13618"/>
                </a:cubicBezTo>
                <a:cubicBezTo>
                  <a:pt x="17214" y="13643"/>
                  <a:pt x="17222" y="13651"/>
                  <a:pt x="17239" y="13667"/>
                </a:cubicBezTo>
                <a:cubicBezTo>
                  <a:pt x="17206" y="13700"/>
                  <a:pt x="17174" y="13734"/>
                  <a:pt x="17140" y="13767"/>
                </a:cubicBezTo>
                <a:cubicBezTo>
                  <a:pt x="17079" y="13827"/>
                  <a:pt x="17039" y="13895"/>
                  <a:pt x="17115" y="13965"/>
                </a:cubicBezTo>
                <a:cubicBezTo>
                  <a:pt x="17156" y="14003"/>
                  <a:pt x="17214" y="13990"/>
                  <a:pt x="17264" y="13990"/>
                </a:cubicBezTo>
              </a:path>
              <a:path w="6848" h="993">
                <a:moveTo>
                  <a:pt x="17438" y="13618"/>
                </a:moveTo>
                <a:cubicBezTo>
                  <a:pt x="17381" y="13590"/>
                  <a:pt x="17353" y="13644"/>
                  <a:pt x="17338" y="13717"/>
                </a:cubicBezTo>
                <a:cubicBezTo>
                  <a:pt x="17320" y="13808"/>
                  <a:pt x="17372" y="13862"/>
                  <a:pt x="17413" y="13940"/>
                </a:cubicBezTo>
                <a:cubicBezTo>
                  <a:pt x="17441" y="13993"/>
                  <a:pt x="17494" y="14049"/>
                  <a:pt x="17562" y="14039"/>
                </a:cubicBezTo>
                <a:cubicBezTo>
                  <a:pt x="17618" y="14031"/>
                  <a:pt x="17634" y="13929"/>
                  <a:pt x="17636" y="13891"/>
                </a:cubicBezTo>
                <a:cubicBezTo>
                  <a:pt x="17641" y="13805"/>
                  <a:pt x="17632" y="13719"/>
                  <a:pt x="17587" y="13643"/>
                </a:cubicBezTo>
                <a:cubicBezTo>
                  <a:pt x="17565" y="13607"/>
                  <a:pt x="17517" y="13573"/>
                  <a:pt x="17487" y="13543"/>
                </a:cubicBezTo>
              </a:path>
              <a:path w="6848" h="993">
                <a:moveTo>
                  <a:pt x="17711" y="13419"/>
                </a:moveTo>
                <a:cubicBezTo>
                  <a:pt x="17667" y="13463"/>
                  <a:pt x="17622" y="13513"/>
                  <a:pt x="17686" y="13568"/>
                </a:cubicBezTo>
                <a:cubicBezTo>
                  <a:pt x="17729" y="13605"/>
                  <a:pt x="17759" y="13611"/>
                  <a:pt x="17810" y="13618"/>
                </a:cubicBezTo>
                <a:cubicBezTo>
                  <a:pt x="17834" y="13554"/>
                  <a:pt x="17856" y="13501"/>
                  <a:pt x="17810" y="13444"/>
                </a:cubicBezTo>
                <a:cubicBezTo>
                  <a:pt x="17780" y="13406"/>
                  <a:pt x="17728" y="13391"/>
                  <a:pt x="17686" y="1337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Ink 19"/>
          <p:cNvSpPr/>
          <p:nvPr/>
        </p:nvSpPr>
        <p:spPr>
          <a:xfrm>
            <a:off x="4357800" y="4813200"/>
            <a:ext cx="2152440" cy="1044720"/>
          </a:xfrm>
          <a:custGeom>
            <a:avLst/>
            <a:gdLst/>
            <a:ahLst/>
            <a:rect l="l" t="t" r="r" b="b"/>
            <a:pathLst>
              <a:path w="5979" h="2903">
                <a:moveTo>
                  <a:pt x="18083" y="14213"/>
                </a:moveTo>
                <a:cubicBezTo>
                  <a:pt x="17930" y="14213"/>
                  <a:pt x="17786" y="14203"/>
                  <a:pt x="17636" y="14188"/>
                </a:cubicBezTo>
                <a:cubicBezTo>
                  <a:pt x="17486" y="14173"/>
                  <a:pt x="17340" y="14180"/>
                  <a:pt x="17190" y="14163"/>
                </a:cubicBezTo>
                <a:cubicBezTo>
                  <a:pt x="16985" y="14140"/>
                  <a:pt x="16777" y="14119"/>
                  <a:pt x="16570" y="14114"/>
                </a:cubicBezTo>
                <a:cubicBezTo>
                  <a:pt x="16336" y="14109"/>
                  <a:pt x="16106" y="14125"/>
                  <a:pt x="15875" y="14139"/>
                </a:cubicBezTo>
                <a:cubicBezTo>
                  <a:pt x="15668" y="14151"/>
                  <a:pt x="15461" y="14159"/>
                  <a:pt x="15255" y="14188"/>
                </a:cubicBezTo>
                <a:cubicBezTo>
                  <a:pt x="15136" y="14205"/>
                  <a:pt x="14997" y="14207"/>
                  <a:pt x="14883" y="14238"/>
                </a:cubicBezTo>
                <a:cubicBezTo>
                  <a:pt x="14821" y="14255"/>
                  <a:pt x="14809" y="14273"/>
                  <a:pt x="14759" y="14312"/>
                </a:cubicBezTo>
              </a:path>
              <a:path w="5979" h="2903">
                <a:moveTo>
                  <a:pt x="16098" y="14511"/>
                </a:moveTo>
                <a:cubicBezTo>
                  <a:pt x="16098" y="14430"/>
                  <a:pt x="16106" y="14395"/>
                  <a:pt x="16049" y="14337"/>
                </a:cubicBezTo>
                <a:cubicBezTo>
                  <a:pt x="16024" y="14311"/>
                  <a:pt x="15952" y="14257"/>
                  <a:pt x="15925" y="14263"/>
                </a:cubicBezTo>
                <a:cubicBezTo>
                  <a:pt x="15885" y="14271"/>
                  <a:pt x="15838" y="14351"/>
                  <a:pt x="15850" y="14387"/>
                </a:cubicBezTo>
                <a:cubicBezTo>
                  <a:pt x="15882" y="14482"/>
                  <a:pt x="15942" y="14544"/>
                  <a:pt x="15999" y="14610"/>
                </a:cubicBezTo>
                <a:cubicBezTo>
                  <a:pt x="16062" y="14684"/>
                  <a:pt x="16070" y="14751"/>
                  <a:pt x="16098" y="14833"/>
                </a:cubicBezTo>
                <a:cubicBezTo>
                  <a:pt x="16115" y="14883"/>
                  <a:pt x="16192" y="14973"/>
                  <a:pt x="16098" y="15007"/>
                </a:cubicBezTo>
                <a:cubicBezTo>
                  <a:pt x="16027" y="15033"/>
                  <a:pt x="15941" y="14988"/>
                  <a:pt x="15900" y="14932"/>
                </a:cubicBezTo>
                <a:cubicBezTo>
                  <a:pt x="15855" y="14871"/>
                  <a:pt x="15858" y="14859"/>
                  <a:pt x="15850" y="14784"/>
                </a:cubicBezTo>
              </a:path>
              <a:path w="5979" h="2903">
                <a:moveTo>
                  <a:pt x="16272" y="14784"/>
                </a:moveTo>
                <a:cubicBezTo>
                  <a:pt x="16272" y="14842"/>
                  <a:pt x="16272" y="14899"/>
                  <a:pt x="16272" y="14957"/>
                </a:cubicBezTo>
              </a:path>
              <a:path w="5979" h="2903">
                <a:moveTo>
                  <a:pt x="16346" y="14362"/>
                </a:moveTo>
                <a:cubicBezTo>
                  <a:pt x="16354" y="14354"/>
                  <a:pt x="16363" y="14345"/>
                  <a:pt x="16371" y="14337"/>
                </a:cubicBezTo>
              </a:path>
              <a:path w="5979" h="2903">
                <a:moveTo>
                  <a:pt x="16495" y="14784"/>
                </a:moveTo>
                <a:cubicBezTo>
                  <a:pt x="16495" y="14835"/>
                  <a:pt x="16494" y="14854"/>
                  <a:pt x="16470" y="14883"/>
                </a:cubicBezTo>
                <a:cubicBezTo>
                  <a:pt x="16470" y="14791"/>
                  <a:pt x="16481" y="14719"/>
                  <a:pt x="16495" y="14635"/>
                </a:cubicBezTo>
                <a:cubicBezTo>
                  <a:pt x="16509" y="14553"/>
                  <a:pt x="16529" y="14507"/>
                  <a:pt x="16570" y="14436"/>
                </a:cubicBezTo>
                <a:cubicBezTo>
                  <a:pt x="16642" y="14488"/>
                  <a:pt x="16656" y="14542"/>
                  <a:pt x="16669" y="14635"/>
                </a:cubicBezTo>
                <a:cubicBezTo>
                  <a:pt x="16678" y="14694"/>
                  <a:pt x="16688" y="14769"/>
                  <a:pt x="16743" y="14808"/>
                </a:cubicBezTo>
                <a:cubicBezTo>
                  <a:pt x="16760" y="14816"/>
                  <a:pt x="16776" y="14825"/>
                  <a:pt x="16793" y="14833"/>
                </a:cubicBezTo>
              </a:path>
              <a:path w="5979" h="2903">
                <a:moveTo>
                  <a:pt x="16942" y="14387"/>
                </a:moveTo>
                <a:cubicBezTo>
                  <a:pt x="16942" y="14466"/>
                  <a:pt x="16962" y="14533"/>
                  <a:pt x="16966" y="14610"/>
                </a:cubicBezTo>
                <a:cubicBezTo>
                  <a:pt x="16970" y="14680"/>
                  <a:pt x="16983" y="14752"/>
                  <a:pt x="16991" y="14808"/>
                </a:cubicBezTo>
                <a:cubicBezTo>
                  <a:pt x="16991" y="14866"/>
                  <a:pt x="16974" y="14891"/>
                  <a:pt x="17016" y="14883"/>
                </a:cubicBezTo>
              </a:path>
              <a:path w="5979" h="2903">
                <a:moveTo>
                  <a:pt x="17066" y="14362"/>
                </a:moveTo>
                <a:cubicBezTo>
                  <a:pt x="17121" y="14305"/>
                  <a:pt x="17144" y="14313"/>
                  <a:pt x="17214" y="14362"/>
                </a:cubicBezTo>
                <a:cubicBezTo>
                  <a:pt x="17260" y="14394"/>
                  <a:pt x="17232" y="14495"/>
                  <a:pt x="17214" y="14536"/>
                </a:cubicBezTo>
                <a:cubicBezTo>
                  <a:pt x="17169" y="14635"/>
                  <a:pt x="17145" y="14608"/>
                  <a:pt x="17140" y="14734"/>
                </a:cubicBezTo>
                <a:cubicBezTo>
                  <a:pt x="17137" y="14798"/>
                  <a:pt x="17171" y="14815"/>
                  <a:pt x="17214" y="14858"/>
                </a:cubicBezTo>
                <a:cubicBezTo>
                  <a:pt x="17260" y="14905"/>
                  <a:pt x="17284" y="14878"/>
                  <a:pt x="17338" y="14858"/>
                </a:cubicBezTo>
              </a:path>
              <a:path w="5979" h="2903">
                <a:moveTo>
                  <a:pt x="17512" y="14486"/>
                </a:moveTo>
                <a:cubicBezTo>
                  <a:pt x="17424" y="14464"/>
                  <a:pt x="17401" y="14486"/>
                  <a:pt x="17388" y="14585"/>
                </a:cubicBezTo>
                <a:cubicBezTo>
                  <a:pt x="17378" y="14664"/>
                  <a:pt x="17407" y="14762"/>
                  <a:pt x="17438" y="14833"/>
                </a:cubicBezTo>
                <a:cubicBezTo>
                  <a:pt x="17456" y="14874"/>
                  <a:pt x="17523" y="14982"/>
                  <a:pt x="17587" y="14957"/>
                </a:cubicBezTo>
                <a:cubicBezTo>
                  <a:pt x="17619" y="14944"/>
                  <a:pt x="17658" y="14811"/>
                  <a:pt x="17661" y="14784"/>
                </a:cubicBezTo>
                <a:cubicBezTo>
                  <a:pt x="17671" y="14692"/>
                  <a:pt x="17640" y="14633"/>
                  <a:pt x="17611" y="14560"/>
                </a:cubicBezTo>
                <a:cubicBezTo>
                  <a:pt x="17590" y="14495"/>
                  <a:pt x="17582" y="14479"/>
                  <a:pt x="17587" y="14436"/>
                </a:cubicBezTo>
              </a:path>
              <a:path w="5979" h="2903">
                <a:moveTo>
                  <a:pt x="17735" y="14412"/>
                </a:moveTo>
                <a:cubicBezTo>
                  <a:pt x="17716" y="14481"/>
                  <a:pt x="17730" y="14500"/>
                  <a:pt x="17785" y="14560"/>
                </a:cubicBezTo>
                <a:cubicBezTo>
                  <a:pt x="17793" y="14568"/>
                  <a:pt x="17802" y="14577"/>
                  <a:pt x="17810" y="14585"/>
                </a:cubicBezTo>
                <a:cubicBezTo>
                  <a:pt x="17843" y="14530"/>
                  <a:pt x="17848" y="14461"/>
                  <a:pt x="17785" y="14412"/>
                </a:cubicBezTo>
                <a:cubicBezTo>
                  <a:pt x="17728" y="14368"/>
                  <a:pt x="17676" y="14342"/>
                  <a:pt x="17611" y="14312"/>
                </a:cubicBezTo>
              </a:path>
              <a:path w="5979" h="2903">
                <a:moveTo>
                  <a:pt x="17611" y="14238"/>
                </a:moveTo>
                <a:cubicBezTo>
                  <a:pt x="17516" y="14302"/>
                  <a:pt x="17400" y="14306"/>
                  <a:pt x="17289" y="14337"/>
                </a:cubicBezTo>
                <a:cubicBezTo>
                  <a:pt x="17157" y="14374"/>
                  <a:pt x="17025" y="14405"/>
                  <a:pt x="16892" y="14436"/>
                </a:cubicBezTo>
                <a:cubicBezTo>
                  <a:pt x="16734" y="14473"/>
                  <a:pt x="16578" y="14518"/>
                  <a:pt x="16421" y="14560"/>
                </a:cubicBezTo>
                <a:cubicBezTo>
                  <a:pt x="16298" y="14593"/>
                  <a:pt x="16195" y="14596"/>
                  <a:pt x="16098" y="14684"/>
                </a:cubicBezTo>
                <a:cubicBezTo>
                  <a:pt x="16068" y="14714"/>
                  <a:pt x="16063" y="14716"/>
                  <a:pt x="16098" y="14660"/>
                </a:cubicBezTo>
              </a:path>
              <a:path w="5979" h="2903">
                <a:moveTo>
                  <a:pt x="17562" y="13370"/>
                </a:moveTo>
                <a:cubicBezTo>
                  <a:pt x="17450" y="13383"/>
                  <a:pt x="17348" y="13432"/>
                  <a:pt x="17239" y="13469"/>
                </a:cubicBezTo>
                <a:cubicBezTo>
                  <a:pt x="17131" y="13506"/>
                  <a:pt x="17039" y="13537"/>
                  <a:pt x="16942" y="13593"/>
                </a:cubicBezTo>
                <a:cubicBezTo>
                  <a:pt x="16845" y="13649"/>
                  <a:pt x="16745" y="13718"/>
                  <a:pt x="16644" y="13767"/>
                </a:cubicBezTo>
                <a:cubicBezTo>
                  <a:pt x="16528" y="13823"/>
                  <a:pt x="16414" y="13882"/>
                  <a:pt x="16297" y="13940"/>
                </a:cubicBezTo>
              </a:path>
              <a:path w="5979" h="2903">
                <a:moveTo>
                  <a:pt x="14536" y="15900"/>
                </a:moveTo>
                <a:cubicBezTo>
                  <a:pt x="14670" y="15900"/>
                  <a:pt x="14729" y="15898"/>
                  <a:pt x="14858" y="15875"/>
                </a:cubicBezTo>
              </a:path>
              <a:path w="5979" h="2903">
                <a:moveTo>
                  <a:pt x="14585" y="15999"/>
                </a:moveTo>
                <a:cubicBezTo>
                  <a:pt x="14720" y="16066"/>
                  <a:pt x="14720" y="16073"/>
                  <a:pt x="14858" y="16073"/>
                </a:cubicBezTo>
              </a:path>
              <a:path w="5979" h="2903">
                <a:moveTo>
                  <a:pt x="15304" y="15999"/>
                </a:moveTo>
                <a:cubicBezTo>
                  <a:pt x="15326" y="15963"/>
                  <a:pt x="15365" y="15897"/>
                  <a:pt x="15354" y="15850"/>
                </a:cubicBezTo>
                <a:cubicBezTo>
                  <a:pt x="15338" y="15782"/>
                  <a:pt x="15323" y="15705"/>
                  <a:pt x="15230" y="15726"/>
                </a:cubicBezTo>
                <a:cubicBezTo>
                  <a:pt x="15140" y="15746"/>
                  <a:pt x="15045" y="15841"/>
                  <a:pt x="14982" y="15900"/>
                </a:cubicBezTo>
                <a:cubicBezTo>
                  <a:pt x="14941" y="15939"/>
                  <a:pt x="14941" y="16070"/>
                  <a:pt x="14957" y="16123"/>
                </a:cubicBezTo>
                <a:cubicBezTo>
                  <a:pt x="14972" y="16173"/>
                  <a:pt x="15062" y="16206"/>
                  <a:pt x="15106" y="16197"/>
                </a:cubicBezTo>
                <a:cubicBezTo>
                  <a:pt x="15177" y="16182"/>
                  <a:pt x="15193" y="16122"/>
                  <a:pt x="15230" y="16073"/>
                </a:cubicBezTo>
                <a:cubicBezTo>
                  <a:pt x="15255" y="16040"/>
                  <a:pt x="15278" y="16007"/>
                  <a:pt x="15304" y="15974"/>
                </a:cubicBezTo>
                <a:cubicBezTo>
                  <a:pt x="15349" y="16086"/>
                  <a:pt x="15365" y="16054"/>
                  <a:pt x="15453" y="16123"/>
                </a:cubicBezTo>
                <a:cubicBezTo>
                  <a:pt x="15511" y="16169"/>
                  <a:pt x="15523" y="16253"/>
                  <a:pt x="15602" y="16272"/>
                </a:cubicBezTo>
                <a:cubicBezTo>
                  <a:pt x="15644" y="16272"/>
                  <a:pt x="15652" y="16272"/>
                  <a:pt x="15677" y="16272"/>
                </a:cubicBezTo>
              </a:path>
              <a:path w="5979" h="2903">
                <a:moveTo>
                  <a:pt x="12204" y="15230"/>
                </a:moveTo>
                <a:cubicBezTo>
                  <a:pt x="12204" y="15314"/>
                  <a:pt x="12186" y="15334"/>
                  <a:pt x="12154" y="15404"/>
                </a:cubicBezTo>
                <a:cubicBezTo>
                  <a:pt x="12119" y="15480"/>
                  <a:pt x="12093" y="15509"/>
                  <a:pt x="12129" y="15577"/>
                </a:cubicBezTo>
                <a:cubicBezTo>
                  <a:pt x="12178" y="15669"/>
                  <a:pt x="12224" y="15672"/>
                  <a:pt x="12328" y="15677"/>
                </a:cubicBezTo>
                <a:cubicBezTo>
                  <a:pt x="12373" y="15677"/>
                  <a:pt x="12386" y="15681"/>
                  <a:pt x="12402" y="15652"/>
                </a:cubicBezTo>
              </a:path>
              <a:path w="5979" h="2903">
                <a:moveTo>
                  <a:pt x="12353" y="15106"/>
                </a:moveTo>
                <a:cubicBezTo>
                  <a:pt x="12307" y="15258"/>
                  <a:pt x="12318" y="15327"/>
                  <a:pt x="12303" y="15478"/>
                </a:cubicBezTo>
                <a:cubicBezTo>
                  <a:pt x="12288" y="15624"/>
                  <a:pt x="12278" y="15754"/>
                  <a:pt x="12278" y="15900"/>
                </a:cubicBezTo>
                <a:cubicBezTo>
                  <a:pt x="12278" y="15987"/>
                  <a:pt x="12292" y="16047"/>
                  <a:pt x="12303" y="16123"/>
                </a:cubicBezTo>
              </a:path>
              <a:path w="5979" h="2903">
                <a:moveTo>
                  <a:pt x="12526" y="15974"/>
                </a:moveTo>
                <a:cubicBezTo>
                  <a:pt x="12504" y="15996"/>
                  <a:pt x="12493" y="16005"/>
                  <a:pt x="12526" y="15999"/>
                </a:cubicBezTo>
              </a:path>
              <a:path w="5979" h="2903">
                <a:moveTo>
                  <a:pt x="12898" y="15379"/>
                </a:moveTo>
                <a:cubicBezTo>
                  <a:pt x="13005" y="15321"/>
                  <a:pt x="13028" y="15304"/>
                  <a:pt x="13146" y="15304"/>
                </a:cubicBezTo>
                <a:cubicBezTo>
                  <a:pt x="13230" y="15304"/>
                  <a:pt x="13220" y="15315"/>
                  <a:pt x="13271" y="15255"/>
                </a:cubicBezTo>
              </a:path>
              <a:path w="5979" h="2903">
                <a:moveTo>
                  <a:pt x="12998" y="15280"/>
                </a:moveTo>
                <a:cubicBezTo>
                  <a:pt x="12936" y="15341"/>
                  <a:pt x="12891" y="15387"/>
                  <a:pt x="12874" y="15478"/>
                </a:cubicBezTo>
                <a:cubicBezTo>
                  <a:pt x="12867" y="15513"/>
                  <a:pt x="12856" y="15636"/>
                  <a:pt x="12898" y="15652"/>
                </a:cubicBezTo>
                <a:cubicBezTo>
                  <a:pt x="12970" y="15680"/>
                  <a:pt x="13044" y="15638"/>
                  <a:pt x="13122" y="15677"/>
                </a:cubicBezTo>
                <a:cubicBezTo>
                  <a:pt x="13176" y="15704"/>
                  <a:pt x="13222" y="15744"/>
                  <a:pt x="13246" y="15801"/>
                </a:cubicBezTo>
                <a:cubicBezTo>
                  <a:pt x="13277" y="15875"/>
                  <a:pt x="13333" y="15967"/>
                  <a:pt x="13320" y="16049"/>
                </a:cubicBezTo>
                <a:cubicBezTo>
                  <a:pt x="13311" y="16106"/>
                  <a:pt x="13271" y="16166"/>
                  <a:pt x="13221" y="16197"/>
                </a:cubicBezTo>
                <a:cubicBezTo>
                  <a:pt x="13137" y="16250"/>
                  <a:pt x="13012" y="16230"/>
                  <a:pt x="12923" y="16197"/>
                </a:cubicBezTo>
                <a:cubicBezTo>
                  <a:pt x="12829" y="16162"/>
                  <a:pt x="12764" y="16089"/>
                  <a:pt x="12675" y="160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Ink 20"/>
          <p:cNvSpPr/>
          <p:nvPr/>
        </p:nvSpPr>
        <p:spPr>
          <a:xfrm>
            <a:off x="615960" y="5268960"/>
            <a:ext cx="812880" cy="357120"/>
          </a:xfrm>
          <a:custGeom>
            <a:avLst/>
            <a:gdLst/>
            <a:ahLst/>
            <a:rect l="l" t="t" r="r" b="b"/>
            <a:pathLst>
              <a:path w="2258" h="993">
                <a:moveTo>
                  <a:pt x="1885" y="14709"/>
                </a:moveTo>
                <a:cubicBezTo>
                  <a:pt x="1877" y="14802"/>
                  <a:pt x="1846" y="14892"/>
                  <a:pt x="1836" y="14982"/>
                </a:cubicBezTo>
                <a:cubicBezTo>
                  <a:pt x="1826" y="15072"/>
                  <a:pt x="1835" y="15168"/>
                  <a:pt x="1811" y="15255"/>
                </a:cubicBezTo>
                <a:cubicBezTo>
                  <a:pt x="1786" y="15346"/>
                  <a:pt x="1768" y="15465"/>
                  <a:pt x="1736" y="15553"/>
                </a:cubicBezTo>
                <a:cubicBezTo>
                  <a:pt x="1708" y="15581"/>
                  <a:pt x="1700" y="15594"/>
                  <a:pt x="1712" y="15627"/>
                </a:cubicBezTo>
              </a:path>
              <a:path w="2258" h="993">
                <a:moveTo>
                  <a:pt x="2183" y="14858"/>
                </a:moveTo>
                <a:cubicBezTo>
                  <a:pt x="2130" y="14884"/>
                  <a:pt x="2210" y="14783"/>
                  <a:pt x="2232" y="14734"/>
                </a:cubicBezTo>
                <a:cubicBezTo>
                  <a:pt x="2255" y="14684"/>
                  <a:pt x="2291" y="14620"/>
                  <a:pt x="2356" y="14635"/>
                </a:cubicBezTo>
                <a:cubicBezTo>
                  <a:pt x="2454" y="14658"/>
                  <a:pt x="2434" y="14735"/>
                  <a:pt x="2456" y="14808"/>
                </a:cubicBezTo>
                <a:cubicBezTo>
                  <a:pt x="2477" y="14876"/>
                  <a:pt x="2499" y="14958"/>
                  <a:pt x="2480" y="15032"/>
                </a:cubicBezTo>
                <a:cubicBezTo>
                  <a:pt x="2458" y="15117"/>
                  <a:pt x="2448" y="15236"/>
                  <a:pt x="2381" y="15304"/>
                </a:cubicBezTo>
                <a:cubicBezTo>
                  <a:pt x="2347" y="15338"/>
                  <a:pt x="2259" y="15417"/>
                  <a:pt x="2208" y="15429"/>
                </a:cubicBezTo>
                <a:cubicBezTo>
                  <a:pt x="2110" y="15452"/>
                  <a:pt x="2112" y="15364"/>
                  <a:pt x="2133" y="15304"/>
                </a:cubicBezTo>
                <a:cubicBezTo>
                  <a:pt x="2156" y="15240"/>
                  <a:pt x="2211" y="15192"/>
                  <a:pt x="2282" y="15205"/>
                </a:cubicBezTo>
                <a:cubicBezTo>
                  <a:pt x="2390" y="15224"/>
                  <a:pt x="2418" y="15316"/>
                  <a:pt x="2431" y="15404"/>
                </a:cubicBezTo>
                <a:cubicBezTo>
                  <a:pt x="2442" y="15477"/>
                  <a:pt x="2444" y="15516"/>
                  <a:pt x="2480" y="15577"/>
                </a:cubicBezTo>
              </a:path>
              <a:path w="2258" h="993">
                <a:moveTo>
                  <a:pt x="2729" y="15503"/>
                </a:moveTo>
                <a:cubicBezTo>
                  <a:pt x="2729" y="15495"/>
                  <a:pt x="2729" y="15486"/>
                  <a:pt x="2729" y="15478"/>
                </a:cubicBezTo>
              </a:path>
              <a:path w="2258" h="993">
                <a:moveTo>
                  <a:pt x="3225" y="14883"/>
                </a:moveTo>
                <a:cubicBezTo>
                  <a:pt x="3265" y="14831"/>
                  <a:pt x="3292" y="14793"/>
                  <a:pt x="3349" y="14759"/>
                </a:cubicBezTo>
                <a:cubicBezTo>
                  <a:pt x="3413" y="14720"/>
                  <a:pt x="3491" y="14763"/>
                  <a:pt x="3547" y="14808"/>
                </a:cubicBezTo>
                <a:cubicBezTo>
                  <a:pt x="3614" y="14862"/>
                  <a:pt x="3597" y="14956"/>
                  <a:pt x="3597" y="15032"/>
                </a:cubicBezTo>
                <a:cubicBezTo>
                  <a:pt x="3597" y="15140"/>
                  <a:pt x="3611" y="15252"/>
                  <a:pt x="3572" y="15354"/>
                </a:cubicBezTo>
                <a:cubicBezTo>
                  <a:pt x="3546" y="15422"/>
                  <a:pt x="3505" y="15441"/>
                  <a:pt x="3448" y="15478"/>
                </a:cubicBezTo>
                <a:cubicBezTo>
                  <a:pt x="3397" y="15511"/>
                  <a:pt x="3269" y="15580"/>
                  <a:pt x="3225" y="15478"/>
                </a:cubicBezTo>
                <a:cubicBezTo>
                  <a:pt x="3193" y="15403"/>
                  <a:pt x="3282" y="15338"/>
                  <a:pt x="3324" y="15304"/>
                </a:cubicBezTo>
                <a:cubicBezTo>
                  <a:pt x="3390" y="15250"/>
                  <a:pt x="3430" y="15320"/>
                  <a:pt x="3497" y="15354"/>
                </a:cubicBezTo>
                <a:cubicBezTo>
                  <a:pt x="3551" y="15381"/>
                  <a:pt x="3573" y="15422"/>
                  <a:pt x="3621" y="15453"/>
                </a:cubicBezTo>
                <a:cubicBezTo>
                  <a:pt x="3670" y="15484"/>
                  <a:pt x="3739" y="15505"/>
                  <a:pt x="3795" y="15528"/>
                </a:cubicBezTo>
                <a:cubicBezTo>
                  <a:pt x="3854" y="15552"/>
                  <a:pt x="3964" y="15588"/>
                  <a:pt x="3944" y="1552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Ink 21"/>
          <p:cNvSpPr/>
          <p:nvPr/>
        </p:nvSpPr>
        <p:spPr>
          <a:xfrm>
            <a:off x="419040" y="1062000"/>
            <a:ext cx="206280" cy="420840"/>
          </a:xfrm>
          <a:custGeom>
            <a:avLst/>
            <a:gdLst/>
            <a:ahLst/>
            <a:rect l="l" t="t" r="r" b="b"/>
            <a:pathLst>
              <a:path w="571" h="1167">
                <a:moveTo>
                  <a:pt x="1290" y="3497"/>
                </a:moveTo>
                <a:cubicBezTo>
                  <a:pt x="1282" y="3582"/>
                  <a:pt x="1265" y="3660"/>
                  <a:pt x="1265" y="3746"/>
                </a:cubicBezTo>
                <a:cubicBezTo>
                  <a:pt x="1265" y="3839"/>
                  <a:pt x="1227" y="3926"/>
                  <a:pt x="1215" y="4018"/>
                </a:cubicBezTo>
                <a:cubicBezTo>
                  <a:pt x="1215" y="4070"/>
                  <a:pt x="1214" y="4088"/>
                  <a:pt x="1191" y="4118"/>
                </a:cubicBezTo>
                <a:cubicBezTo>
                  <a:pt x="1191" y="3965"/>
                  <a:pt x="1200" y="3817"/>
                  <a:pt x="1215" y="3671"/>
                </a:cubicBezTo>
                <a:cubicBezTo>
                  <a:pt x="1227" y="3555"/>
                  <a:pt x="1226" y="3435"/>
                  <a:pt x="1240" y="3324"/>
                </a:cubicBezTo>
                <a:cubicBezTo>
                  <a:pt x="1251" y="3239"/>
                  <a:pt x="1238" y="3156"/>
                  <a:pt x="1265" y="3076"/>
                </a:cubicBezTo>
                <a:cubicBezTo>
                  <a:pt x="1289" y="3004"/>
                  <a:pt x="1329" y="2969"/>
                  <a:pt x="1389" y="2952"/>
                </a:cubicBezTo>
                <a:cubicBezTo>
                  <a:pt x="1448" y="3011"/>
                  <a:pt x="1454" y="3075"/>
                  <a:pt x="1488" y="3150"/>
                </a:cubicBezTo>
                <a:cubicBezTo>
                  <a:pt x="1526" y="3235"/>
                  <a:pt x="1535" y="3314"/>
                  <a:pt x="1563" y="3398"/>
                </a:cubicBezTo>
                <a:cubicBezTo>
                  <a:pt x="1594" y="3490"/>
                  <a:pt x="1587" y="3582"/>
                  <a:pt x="1612" y="3671"/>
                </a:cubicBezTo>
                <a:cubicBezTo>
                  <a:pt x="1626" y="3720"/>
                  <a:pt x="1661" y="3803"/>
                  <a:pt x="1687" y="3845"/>
                </a:cubicBezTo>
                <a:cubicBezTo>
                  <a:pt x="1706" y="3877"/>
                  <a:pt x="1751" y="3945"/>
                  <a:pt x="1712" y="3845"/>
                </a:cubicBezTo>
              </a:path>
              <a:path w="571" h="1167">
                <a:moveTo>
                  <a:pt x="1166" y="3671"/>
                </a:moveTo>
                <a:cubicBezTo>
                  <a:pt x="1228" y="3621"/>
                  <a:pt x="1291" y="3603"/>
                  <a:pt x="1364" y="3572"/>
                </a:cubicBezTo>
                <a:cubicBezTo>
                  <a:pt x="1433" y="3542"/>
                  <a:pt x="1522" y="3551"/>
                  <a:pt x="1588" y="3522"/>
                </a:cubicBezTo>
                <a:cubicBezTo>
                  <a:pt x="1616" y="3493"/>
                  <a:pt x="1629" y="3485"/>
                  <a:pt x="1662" y="34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Ink 22"/>
          <p:cNvSpPr/>
          <p:nvPr/>
        </p:nvSpPr>
        <p:spPr>
          <a:xfrm>
            <a:off x="3133800" y="2751120"/>
            <a:ext cx="250920" cy="303120"/>
          </a:xfrm>
          <a:custGeom>
            <a:avLst/>
            <a:gdLst/>
            <a:ahLst/>
            <a:rect l="l" t="t" r="r" b="b"/>
            <a:pathLst>
              <a:path w="696" h="844">
                <a:moveTo>
                  <a:pt x="8855" y="7863"/>
                </a:moveTo>
                <a:cubicBezTo>
                  <a:pt x="8855" y="8028"/>
                  <a:pt x="8855" y="8194"/>
                  <a:pt x="8855" y="8359"/>
                </a:cubicBezTo>
                <a:cubicBezTo>
                  <a:pt x="8889" y="8314"/>
                  <a:pt x="8902" y="8270"/>
                  <a:pt x="8905" y="8210"/>
                </a:cubicBezTo>
                <a:cubicBezTo>
                  <a:pt x="8911" y="8067"/>
                  <a:pt x="8904" y="7917"/>
                  <a:pt x="8930" y="7789"/>
                </a:cubicBezTo>
                <a:cubicBezTo>
                  <a:pt x="8939" y="7745"/>
                  <a:pt x="8942" y="7657"/>
                  <a:pt x="9004" y="7640"/>
                </a:cubicBezTo>
                <a:cubicBezTo>
                  <a:pt x="9060" y="7624"/>
                  <a:pt x="9121" y="7639"/>
                  <a:pt x="9153" y="7689"/>
                </a:cubicBezTo>
                <a:cubicBezTo>
                  <a:pt x="9201" y="7763"/>
                  <a:pt x="9233" y="7832"/>
                  <a:pt x="9203" y="7913"/>
                </a:cubicBezTo>
                <a:cubicBezTo>
                  <a:pt x="9179" y="7978"/>
                  <a:pt x="9178" y="8013"/>
                  <a:pt x="9128" y="8062"/>
                </a:cubicBezTo>
                <a:cubicBezTo>
                  <a:pt x="9103" y="8086"/>
                  <a:pt x="9079" y="8111"/>
                  <a:pt x="9054" y="8136"/>
                </a:cubicBezTo>
                <a:cubicBezTo>
                  <a:pt x="9110" y="8091"/>
                  <a:pt x="9159" y="8079"/>
                  <a:pt x="9227" y="8111"/>
                </a:cubicBezTo>
                <a:cubicBezTo>
                  <a:pt x="9290" y="8141"/>
                  <a:pt x="9310" y="8186"/>
                  <a:pt x="9351" y="8235"/>
                </a:cubicBezTo>
                <a:cubicBezTo>
                  <a:pt x="9402" y="8297"/>
                  <a:pt x="9429" y="8356"/>
                  <a:pt x="9376" y="8409"/>
                </a:cubicBezTo>
                <a:cubicBezTo>
                  <a:pt x="9315" y="8470"/>
                  <a:pt x="9248" y="8518"/>
                  <a:pt x="9153" y="8483"/>
                </a:cubicBezTo>
                <a:cubicBezTo>
                  <a:pt x="9040" y="8441"/>
                  <a:pt x="8921" y="8444"/>
                  <a:pt x="8806" y="8409"/>
                </a:cubicBezTo>
                <a:cubicBezTo>
                  <a:pt x="8773" y="8392"/>
                  <a:pt x="8739" y="8376"/>
                  <a:pt x="8706" y="83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Ink 23"/>
          <p:cNvSpPr/>
          <p:nvPr/>
        </p:nvSpPr>
        <p:spPr>
          <a:xfrm>
            <a:off x="268200" y="2143080"/>
            <a:ext cx="527040" cy="330120"/>
          </a:xfrm>
          <a:custGeom>
            <a:avLst/>
            <a:gdLst/>
            <a:ahLst/>
            <a:rect l="l" t="t" r="r" b="b"/>
            <a:pathLst>
              <a:path w="1465" h="919">
                <a:moveTo>
                  <a:pt x="744" y="6127"/>
                </a:moveTo>
                <a:cubicBezTo>
                  <a:pt x="744" y="6217"/>
                  <a:pt x="756" y="6291"/>
                  <a:pt x="769" y="6375"/>
                </a:cubicBezTo>
                <a:cubicBezTo>
                  <a:pt x="780" y="6447"/>
                  <a:pt x="785" y="6529"/>
                  <a:pt x="794" y="6598"/>
                </a:cubicBezTo>
                <a:cubicBezTo>
                  <a:pt x="805" y="6680"/>
                  <a:pt x="809" y="6804"/>
                  <a:pt x="769" y="6871"/>
                </a:cubicBezTo>
              </a:path>
              <a:path w="1465" h="919">
                <a:moveTo>
                  <a:pt x="992" y="6251"/>
                </a:moveTo>
                <a:cubicBezTo>
                  <a:pt x="1022" y="6192"/>
                  <a:pt x="1043" y="6119"/>
                  <a:pt x="1116" y="6102"/>
                </a:cubicBezTo>
                <a:cubicBezTo>
                  <a:pt x="1154" y="6093"/>
                  <a:pt x="1226" y="6062"/>
                  <a:pt x="1240" y="6127"/>
                </a:cubicBezTo>
                <a:cubicBezTo>
                  <a:pt x="1255" y="6197"/>
                  <a:pt x="1202" y="6266"/>
                  <a:pt x="1191" y="6325"/>
                </a:cubicBezTo>
                <a:cubicBezTo>
                  <a:pt x="1179" y="6394"/>
                  <a:pt x="1159" y="6441"/>
                  <a:pt x="1116" y="6499"/>
                </a:cubicBezTo>
                <a:cubicBezTo>
                  <a:pt x="1070" y="6560"/>
                  <a:pt x="1028" y="6629"/>
                  <a:pt x="992" y="6697"/>
                </a:cubicBezTo>
                <a:cubicBezTo>
                  <a:pt x="967" y="6747"/>
                  <a:pt x="959" y="6763"/>
                  <a:pt x="943" y="6796"/>
                </a:cubicBezTo>
                <a:cubicBezTo>
                  <a:pt x="993" y="6746"/>
                  <a:pt x="1019" y="6701"/>
                  <a:pt x="1091" y="6697"/>
                </a:cubicBezTo>
                <a:cubicBezTo>
                  <a:pt x="1157" y="6693"/>
                  <a:pt x="1172" y="6729"/>
                  <a:pt x="1215" y="6772"/>
                </a:cubicBezTo>
                <a:cubicBezTo>
                  <a:pt x="1244" y="6800"/>
                  <a:pt x="1257" y="6808"/>
                  <a:pt x="1290" y="6796"/>
                </a:cubicBezTo>
              </a:path>
              <a:path w="1465" h="919">
                <a:moveTo>
                  <a:pt x="1463" y="6672"/>
                </a:moveTo>
                <a:lnTo>
                  <a:pt x="1463" y="6672"/>
                </a:lnTo>
              </a:path>
              <a:path w="1465" h="919">
                <a:moveTo>
                  <a:pt x="1588" y="6152"/>
                </a:moveTo>
                <a:cubicBezTo>
                  <a:pt x="1659" y="6058"/>
                  <a:pt x="1679" y="6040"/>
                  <a:pt x="1761" y="5978"/>
                </a:cubicBezTo>
                <a:cubicBezTo>
                  <a:pt x="1812" y="5939"/>
                  <a:pt x="1877" y="5942"/>
                  <a:pt x="1935" y="5978"/>
                </a:cubicBezTo>
                <a:cubicBezTo>
                  <a:pt x="1996" y="6016"/>
                  <a:pt x="1984" y="6092"/>
                  <a:pt x="1984" y="6152"/>
                </a:cubicBezTo>
                <a:cubicBezTo>
                  <a:pt x="1984" y="6215"/>
                  <a:pt x="1960" y="6296"/>
                  <a:pt x="1935" y="6350"/>
                </a:cubicBezTo>
                <a:cubicBezTo>
                  <a:pt x="1905" y="6413"/>
                  <a:pt x="1868" y="6464"/>
                  <a:pt x="1836" y="6524"/>
                </a:cubicBezTo>
                <a:cubicBezTo>
                  <a:pt x="1808" y="6576"/>
                  <a:pt x="1794" y="6632"/>
                  <a:pt x="1761" y="6672"/>
                </a:cubicBezTo>
                <a:cubicBezTo>
                  <a:pt x="1744" y="6693"/>
                  <a:pt x="1682" y="6802"/>
                  <a:pt x="1736" y="6747"/>
                </a:cubicBezTo>
                <a:cubicBezTo>
                  <a:pt x="1778" y="6704"/>
                  <a:pt x="1876" y="6764"/>
                  <a:pt x="1935" y="6772"/>
                </a:cubicBezTo>
                <a:cubicBezTo>
                  <a:pt x="1998" y="6781"/>
                  <a:pt x="2079" y="6781"/>
                  <a:pt x="2133" y="6747"/>
                </a:cubicBezTo>
                <a:cubicBezTo>
                  <a:pt x="2163" y="6717"/>
                  <a:pt x="2177" y="6706"/>
                  <a:pt x="2208" y="66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Ink 24"/>
          <p:cNvSpPr/>
          <p:nvPr/>
        </p:nvSpPr>
        <p:spPr>
          <a:xfrm>
            <a:off x="1197000" y="2446200"/>
            <a:ext cx="392040" cy="285840"/>
          </a:xfrm>
          <a:custGeom>
            <a:avLst/>
            <a:gdLst/>
            <a:ahLst/>
            <a:rect l="l" t="t" r="r" b="b"/>
            <a:pathLst>
              <a:path w="1092" h="795">
                <a:moveTo>
                  <a:pt x="3324" y="6970"/>
                </a:moveTo>
                <a:cubicBezTo>
                  <a:pt x="3324" y="7185"/>
                  <a:pt x="3324" y="7780"/>
                  <a:pt x="3324" y="7565"/>
                </a:cubicBezTo>
              </a:path>
              <a:path w="1092" h="795">
                <a:moveTo>
                  <a:pt x="3522" y="7045"/>
                </a:moveTo>
                <a:cubicBezTo>
                  <a:pt x="3545" y="7005"/>
                  <a:pt x="3597" y="6935"/>
                  <a:pt x="3646" y="6945"/>
                </a:cubicBezTo>
                <a:cubicBezTo>
                  <a:pt x="3665" y="6949"/>
                  <a:pt x="3707" y="7006"/>
                  <a:pt x="3721" y="7020"/>
                </a:cubicBezTo>
                <a:cubicBezTo>
                  <a:pt x="3679" y="7072"/>
                  <a:pt x="3651" y="7136"/>
                  <a:pt x="3621" y="7193"/>
                </a:cubicBezTo>
                <a:cubicBezTo>
                  <a:pt x="3576" y="7277"/>
                  <a:pt x="3521" y="7318"/>
                  <a:pt x="3473" y="7392"/>
                </a:cubicBezTo>
                <a:cubicBezTo>
                  <a:pt x="3455" y="7420"/>
                  <a:pt x="3394" y="7545"/>
                  <a:pt x="3448" y="7491"/>
                </a:cubicBezTo>
                <a:cubicBezTo>
                  <a:pt x="3492" y="7447"/>
                  <a:pt x="3529" y="7422"/>
                  <a:pt x="3597" y="7441"/>
                </a:cubicBezTo>
                <a:cubicBezTo>
                  <a:pt x="3670" y="7462"/>
                  <a:pt x="3745" y="7499"/>
                  <a:pt x="3820" y="7516"/>
                </a:cubicBezTo>
                <a:cubicBezTo>
                  <a:pt x="3862" y="7516"/>
                  <a:pt x="3878" y="7524"/>
                  <a:pt x="3870" y="7491"/>
                </a:cubicBezTo>
              </a:path>
              <a:path w="1092" h="795">
                <a:moveTo>
                  <a:pt x="4018" y="6921"/>
                </a:moveTo>
                <a:cubicBezTo>
                  <a:pt x="3993" y="6990"/>
                  <a:pt x="4013" y="7051"/>
                  <a:pt x="3994" y="7119"/>
                </a:cubicBezTo>
                <a:cubicBezTo>
                  <a:pt x="3973" y="7195"/>
                  <a:pt x="3994" y="7258"/>
                  <a:pt x="3994" y="7342"/>
                </a:cubicBezTo>
                <a:cubicBezTo>
                  <a:pt x="3994" y="7397"/>
                  <a:pt x="4020" y="7435"/>
                  <a:pt x="4068" y="7466"/>
                </a:cubicBezTo>
                <a:cubicBezTo>
                  <a:pt x="4085" y="7474"/>
                  <a:pt x="4101" y="7483"/>
                  <a:pt x="4118" y="7491"/>
                </a:cubicBezTo>
                <a:cubicBezTo>
                  <a:pt x="4177" y="7430"/>
                  <a:pt x="4189" y="7405"/>
                  <a:pt x="4192" y="7317"/>
                </a:cubicBezTo>
                <a:cubicBezTo>
                  <a:pt x="4196" y="7225"/>
                  <a:pt x="4181" y="7153"/>
                  <a:pt x="4167" y="7069"/>
                </a:cubicBezTo>
                <a:cubicBezTo>
                  <a:pt x="4156" y="7004"/>
                  <a:pt x="4141" y="6992"/>
                  <a:pt x="4093" y="6945"/>
                </a:cubicBezTo>
                <a:cubicBezTo>
                  <a:pt x="4068" y="6920"/>
                  <a:pt x="4043" y="6896"/>
                  <a:pt x="4018" y="6871"/>
                </a:cubicBezTo>
              </a:path>
              <a:path w="1092" h="795">
                <a:moveTo>
                  <a:pt x="4390" y="6821"/>
                </a:moveTo>
                <a:cubicBezTo>
                  <a:pt x="4366" y="6846"/>
                  <a:pt x="4358" y="6855"/>
                  <a:pt x="4341" y="6871"/>
                </a:cubicBezTo>
                <a:cubicBezTo>
                  <a:pt x="4398" y="6894"/>
                  <a:pt x="4466" y="6845"/>
                  <a:pt x="4390" y="6796"/>
                </a:cubicBezTo>
                <a:cubicBezTo>
                  <a:pt x="4382" y="6796"/>
                  <a:pt x="4374" y="6796"/>
                  <a:pt x="4366" y="67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Ink 25"/>
          <p:cNvSpPr/>
          <p:nvPr/>
        </p:nvSpPr>
        <p:spPr>
          <a:xfrm>
            <a:off x="1795320" y="1677960"/>
            <a:ext cx="258840" cy="233280"/>
          </a:xfrm>
          <a:custGeom>
            <a:avLst/>
            <a:gdLst/>
            <a:ahLst/>
            <a:rect l="l" t="t" r="r" b="b"/>
            <a:pathLst>
              <a:path w="720" h="646">
                <a:moveTo>
                  <a:pt x="5035" y="4787"/>
                </a:moveTo>
                <a:cubicBezTo>
                  <a:pt x="5035" y="4876"/>
                  <a:pt x="5021" y="4950"/>
                  <a:pt x="5011" y="5035"/>
                </a:cubicBezTo>
                <a:cubicBezTo>
                  <a:pt x="5008" y="5061"/>
                  <a:pt x="5035" y="5309"/>
                  <a:pt x="4986" y="5308"/>
                </a:cubicBezTo>
                <a:cubicBezTo>
                  <a:pt x="4986" y="5300"/>
                  <a:pt x="4986" y="5291"/>
                  <a:pt x="4986" y="5283"/>
                </a:cubicBezTo>
              </a:path>
              <a:path w="720" h="646">
                <a:moveTo>
                  <a:pt x="5383" y="4688"/>
                </a:moveTo>
                <a:cubicBezTo>
                  <a:pt x="5492" y="4688"/>
                  <a:pt x="5576" y="4671"/>
                  <a:pt x="5680" y="4663"/>
                </a:cubicBezTo>
                <a:cubicBezTo>
                  <a:pt x="5688" y="4663"/>
                  <a:pt x="5697" y="4663"/>
                  <a:pt x="5705" y="4663"/>
                </a:cubicBezTo>
              </a:path>
              <a:path w="720" h="646">
                <a:moveTo>
                  <a:pt x="5333" y="4713"/>
                </a:moveTo>
                <a:cubicBezTo>
                  <a:pt x="5333" y="4796"/>
                  <a:pt x="5333" y="4878"/>
                  <a:pt x="5333" y="4961"/>
                </a:cubicBezTo>
                <a:cubicBezTo>
                  <a:pt x="5370" y="4924"/>
                  <a:pt x="5421" y="4842"/>
                  <a:pt x="5482" y="4862"/>
                </a:cubicBezTo>
                <a:cubicBezTo>
                  <a:pt x="5551" y="4885"/>
                  <a:pt x="5561" y="4901"/>
                  <a:pt x="5606" y="4961"/>
                </a:cubicBezTo>
                <a:cubicBezTo>
                  <a:pt x="5653" y="5023"/>
                  <a:pt x="5660" y="5013"/>
                  <a:pt x="5631" y="5085"/>
                </a:cubicBezTo>
                <a:cubicBezTo>
                  <a:pt x="5595" y="5174"/>
                  <a:pt x="5584" y="5205"/>
                  <a:pt x="5482" y="5209"/>
                </a:cubicBezTo>
                <a:cubicBezTo>
                  <a:pt x="5421" y="5212"/>
                  <a:pt x="5342" y="5191"/>
                  <a:pt x="5333" y="52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Ink 26"/>
          <p:cNvSpPr/>
          <p:nvPr/>
        </p:nvSpPr>
        <p:spPr>
          <a:xfrm>
            <a:off x="4224240" y="1544760"/>
            <a:ext cx="633600" cy="1652400"/>
          </a:xfrm>
          <a:custGeom>
            <a:avLst/>
            <a:gdLst/>
            <a:ahLst/>
            <a:rect l="l" t="t" r="r" b="b"/>
            <a:pathLst>
              <a:path w="1762" h="4590">
                <a:moveTo>
                  <a:pt x="12179" y="4911"/>
                </a:moveTo>
                <a:cubicBezTo>
                  <a:pt x="12152" y="5023"/>
                  <a:pt x="12097" y="5148"/>
                  <a:pt x="12080" y="5259"/>
                </a:cubicBezTo>
                <a:cubicBezTo>
                  <a:pt x="12069" y="5329"/>
                  <a:pt x="12042" y="5397"/>
                  <a:pt x="12030" y="5457"/>
                </a:cubicBezTo>
                <a:cubicBezTo>
                  <a:pt x="12030" y="5502"/>
                  <a:pt x="12034" y="5515"/>
                  <a:pt x="12005" y="5531"/>
                </a:cubicBezTo>
                <a:cubicBezTo>
                  <a:pt x="12016" y="5445"/>
                  <a:pt x="12064" y="5370"/>
                  <a:pt x="12080" y="5283"/>
                </a:cubicBezTo>
                <a:cubicBezTo>
                  <a:pt x="12096" y="5198"/>
                  <a:pt x="12124" y="5118"/>
                  <a:pt x="12154" y="5035"/>
                </a:cubicBezTo>
                <a:cubicBezTo>
                  <a:pt x="12198" y="4914"/>
                  <a:pt x="12235" y="4806"/>
                  <a:pt x="12278" y="4688"/>
                </a:cubicBezTo>
                <a:cubicBezTo>
                  <a:pt x="12306" y="4612"/>
                  <a:pt x="12342" y="4538"/>
                  <a:pt x="12378" y="4465"/>
                </a:cubicBezTo>
                <a:cubicBezTo>
                  <a:pt x="12404" y="4412"/>
                  <a:pt x="12437" y="4360"/>
                  <a:pt x="12477" y="4316"/>
                </a:cubicBezTo>
                <a:cubicBezTo>
                  <a:pt x="12485" y="4308"/>
                  <a:pt x="12494" y="4299"/>
                  <a:pt x="12502" y="4291"/>
                </a:cubicBezTo>
                <a:cubicBezTo>
                  <a:pt x="12527" y="4360"/>
                  <a:pt x="12507" y="4422"/>
                  <a:pt x="12526" y="4490"/>
                </a:cubicBezTo>
                <a:cubicBezTo>
                  <a:pt x="12556" y="4595"/>
                  <a:pt x="12551" y="4706"/>
                  <a:pt x="12576" y="4812"/>
                </a:cubicBezTo>
                <a:cubicBezTo>
                  <a:pt x="12599" y="4911"/>
                  <a:pt x="12605" y="5012"/>
                  <a:pt x="12626" y="5110"/>
                </a:cubicBezTo>
                <a:cubicBezTo>
                  <a:pt x="12647" y="5209"/>
                  <a:pt x="12642" y="5310"/>
                  <a:pt x="12675" y="5407"/>
                </a:cubicBezTo>
                <a:cubicBezTo>
                  <a:pt x="12703" y="5464"/>
                  <a:pt x="12714" y="5487"/>
                  <a:pt x="12725" y="5531"/>
                </a:cubicBezTo>
              </a:path>
              <a:path w="1762" h="4590">
                <a:moveTo>
                  <a:pt x="12080" y="5035"/>
                </a:moveTo>
                <a:cubicBezTo>
                  <a:pt x="12209" y="5035"/>
                  <a:pt x="12327" y="5024"/>
                  <a:pt x="12452" y="5011"/>
                </a:cubicBezTo>
                <a:cubicBezTo>
                  <a:pt x="12477" y="5011"/>
                  <a:pt x="12501" y="5011"/>
                  <a:pt x="12526" y="5011"/>
                </a:cubicBezTo>
              </a:path>
              <a:path w="1762" h="4590">
                <a:moveTo>
                  <a:pt x="13072" y="4986"/>
                </a:moveTo>
                <a:cubicBezTo>
                  <a:pt x="13174" y="4977"/>
                  <a:pt x="13266" y="4961"/>
                  <a:pt x="13370" y="4961"/>
                </a:cubicBezTo>
                <a:cubicBezTo>
                  <a:pt x="13428" y="4961"/>
                  <a:pt x="13453" y="4961"/>
                  <a:pt x="13494" y="4961"/>
                </a:cubicBezTo>
              </a:path>
              <a:path w="1762" h="4590">
                <a:moveTo>
                  <a:pt x="13072" y="5135"/>
                </a:moveTo>
                <a:cubicBezTo>
                  <a:pt x="13201" y="5135"/>
                  <a:pt x="13330" y="5133"/>
                  <a:pt x="13444" y="5110"/>
                </a:cubicBezTo>
                <a:cubicBezTo>
                  <a:pt x="13461" y="5110"/>
                  <a:pt x="13477" y="5110"/>
                  <a:pt x="13494" y="5110"/>
                </a:cubicBezTo>
              </a:path>
              <a:path w="1762" h="4590">
                <a:moveTo>
                  <a:pt x="12204" y="6226"/>
                </a:moveTo>
                <a:cubicBezTo>
                  <a:pt x="12204" y="6364"/>
                  <a:pt x="12194" y="6490"/>
                  <a:pt x="12179" y="6623"/>
                </a:cubicBezTo>
                <a:cubicBezTo>
                  <a:pt x="12168" y="6721"/>
                  <a:pt x="12164" y="6824"/>
                  <a:pt x="12154" y="6921"/>
                </a:cubicBezTo>
                <a:cubicBezTo>
                  <a:pt x="12148" y="6984"/>
                  <a:pt x="12184" y="7084"/>
                  <a:pt x="12105" y="7045"/>
                </a:cubicBezTo>
              </a:path>
              <a:path w="1762" h="4590">
                <a:moveTo>
                  <a:pt x="11956" y="6325"/>
                </a:moveTo>
                <a:cubicBezTo>
                  <a:pt x="11968" y="6240"/>
                  <a:pt x="12005" y="6244"/>
                  <a:pt x="12080" y="6201"/>
                </a:cubicBezTo>
                <a:cubicBezTo>
                  <a:pt x="12153" y="6159"/>
                  <a:pt x="12316" y="6156"/>
                  <a:pt x="12402" y="6176"/>
                </a:cubicBezTo>
                <a:cubicBezTo>
                  <a:pt x="12468" y="6191"/>
                  <a:pt x="12550" y="6246"/>
                  <a:pt x="12526" y="6325"/>
                </a:cubicBezTo>
                <a:cubicBezTo>
                  <a:pt x="12509" y="6382"/>
                  <a:pt x="12450" y="6445"/>
                  <a:pt x="12402" y="6474"/>
                </a:cubicBezTo>
                <a:cubicBezTo>
                  <a:pt x="12362" y="6498"/>
                  <a:pt x="12275" y="6537"/>
                  <a:pt x="12229" y="6548"/>
                </a:cubicBezTo>
                <a:cubicBezTo>
                  <a:pt x="12136" y="6569"/>
                  <a:pt x="12150" y="6575"/>
                  <a:pt x="12229" y="6548"/>
                </a:cubicBezTo>
                <a:cubicBezTo>
                  <a:pt x="12293" y="6526"/>
                  <a:pt x="12380" y="6535"/>
                  <a:pt x="12452" y="6573"/>
                </a:cubicBezTo>
                <a:cubicBezTo>
                  <a:pt x="12493" y="6595"/>
                  <a:pt x="12529" y="6660"/>
                  <a:pt x="12551" y="6697"/>
                </a:cubicBezTo>
                <a:cubicBezTo>
                  <a:pt x="12588" y="6759"/>
                  <a:pt x="12624" y="6811"/>
                  <a:pt x="12576" y="6871"/>
                </a:cubicBezTo>
                <a:cubicBezTo>
                  <a:pt x="12536" y="6921"/>
                  <a:pt x="12508" y="6961"/>
                  <a:pt x="12452" y="6995"/>
                </a:cubicBezTo>
                <a:cubicBezTo>
                  <a:pt x="12379" y="7039"/>
                  <a:pt x="12289" y="7059"/>
                  <a:pt x="12204" y="7045"/>
                </a:cubicBezTo>
                <a:cubicBezTo>
                  <a:pt x="12107" y="7029"/>
                  <a:pt x="12091" y="7006"/>
                  <a:pt x="12030" y="6945"/>
                </a:cubicBezTo>
              </a:path>
              <a:path w="1762" h="4590">
                <a:moveTo>
                  <a:pt x="12923" y="6499"/>
                </a:moveTo>
                <a:cubicBezTo>
                  <a:pt x="13040" y="6499"/>
                  <a:pt x="13138" y="6499"/>
                  <a:pt x="13246" y="6474"/>
                </a:cubicBezTo>
                <a:cubicBezTo>
                  <a:pt x="13254" y="6474"/>
                  <a:pt x="13263" y="6474"/>
                  <a:pt x="13271" y="6474"/>
                </a:cubicBezTo>
              </a:path>
              <a:path w="1762" h="4590">
                <a:moveTo>
                  <a:pt x="12973" y="6648"/>
                </a:moveTo>
                <a:cubicBezTo>
                  <a:pt x="13070" y="6664"/>
                  <a:pt x="13162" y="6696"/>
                  <a:pt x="13246" y="6648"/>
                </a:cubicBezTo>
              </a:path>
              <a:path w="1762" h="4590">
                <a:moveTo>
                  <a:pt x="12452" y="8012"/>
                </a:moveTo>
                <a:cubicBezTo>
                  <a:pt x="12452" y="7941"/>
                  <a:pt x="12463" y="7877"/>
                  <a:pt x="12427" y="7813"/>
                </a:cubicBezTo>
                <a:cubicBezTo>
                  <a:pt x="12391" y="7748"/>
                  <a:pt x="12287" y="7610"/>
                  <a:pt x="12204" y="7590"/>
                </a:cubicBezTo>
                <a:cubicBezTo>
                  <a:pt x="12119" y="7570"/>
                  <a:pt x="11992" y="7609"/>
                  <a:pt x="11931" y="7665"/>
                </a:cubicBezTo>
                <a:cubicBezTo>
                  <a:pt x="11877" y="7715"/>
                  <a:pt x="11865" y="7827"/>
                  <a:pt x="11832" y="7888"/>
                </a:cubicBezTo>
                <a:cubicBezTo>
                  <a:pt x="11772" y="7999"/>
                  <a:pt x="11737" y="8080"/>
                  <a:pt x="11733" y="8210"/>
                </a:cubicBezTo>
                <a:cubicBezTo>
                  <a:pt x="11730" y="8323"/>
                  <a:pt x="11721" y="8450"/>
                  <a:pt x="11757" y="8558"/>
                </a:cubicBezTo>
                <a:cubicBezTo>
                  <a:pt x="11781" y="8631"/>
                  <a:pt x="11928" y="8762"/>
                  <a:pt x="11981" y="8806"/>
                </a:cubicBezTo>
                <a:cubicBezTo>
                  <a:pt x="12074" y="8883"/>
                  <a:pt x="12140" y="8880"/>
                  <a:pt x="12254" y="8880"/>
                </a:cubicBezTo>
                <a:cubicBezTo>
                  <a:pt x="12351" y="8880"/>
                  <a:pt x="12422" y="8871"/>
                  <a:pt x="12477" y="8806"/>
                </a:cubicBezTo>
              </a:path>
              <a:path w="1762" h="4590">
                <a:moveTo>
                  <a:pt x="12725" y="8285"/>
                </a:moveTo>
                <a:cubicBezTo>
                  <a:pt x="12839" y="8268"/>
                  <a:pt x="12869" y="8237"/>
                  <a:pt x="12948" y="8285"/>
                </a:cubicBezTo>
              </a:path>
              <a:path w="1762" h="4590">
                <a:moveTo>
                  <a:pt x="12700" y="8409"/>
                </a:moveTo>
                <a:cubicBezTo>
                  <a:pt x="12799" y="8409"/>
                  <a:pt x="12899" y="8409"/>
                  <a:pt x="12998" y="84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Ink 27"/>
          <p:cNvSpPr/>
          <p:nvPr/>
        </p:nvSpPr>
        <p:spPr>
          <a:xfrm>
            <a:off x="6554880" y="1598760"/>
            <a:ext cx="322200" cy="231480"/>
          </a:xfrm>
          <a:custGeom>
            <a:avLst/>
            <a:gdLst/>
            <a:ahLst/>
            <a:rect l="l" t="t" r="r" b="b"/>
            <a:pathLst>
              <a:path w="894" h="646">
                <a:moveTo>
                  <a:pt x="18604" y="4738"/>
                </a:moveTo>
                <a:cubicBezTo>
                  <a:pt x="18597" y="4672"/>
                  <a:pt x="18594" y="4589"/>
                  <a:pt x="18554" y="4539"/>
                </a:cubicBezTo>
                <a:cubicBezTo>
                  <a:pt x="18533" y="4512"/>
                  <a:pt x="18466" y="4430"/>
                  <a:pt x="18430" y="4440"/>
                </a:cubicBezTo>
                <a:cubicBezTo>
                  <a:pt x="18394" y="4450"/>
                  <a:pt x="18323" y="4503"/>
                  <a:pt x="18306" y="4539"/>
                </a:cubicBezTo>
                <a:cubicBezTo>
                  <a:pt x="18258" y="4640"/>
                  <a:pt x="18211" y="4752"/>
                  <a:pt x="18207" y="4862"/>
                </a:cubicBezTo>
                <a:cubicBezTo>
                  <a:pt x="18204" y="4947"/>
                  <a:pt x="18198" y="4978"/>
                  <a:pt x="18256" y="5035"/>
                </a:cubicBezTo>
                <a:cubicBezTo>
                  <a:pt x="18321" y="5100"/>
                  <a:pt x="18336" y="5073"/>
                  <a:pt x="18430" y="5011"/>
                </a:cubicBezTo>
                <a:cubicBezTo>
                  <a:pt x="18439" y="5005"/>
                  <a:pt x="18501" y="4901"/>
                  <a:pt x="18504" y="4887"/>
                </a:cubicBezTo>
                <a:cubicBezTo>
                  <a:pt x="18514" y="4837"/>
                  <a:pt x="18504" y="4765"/>
                  <a:pt x="18504" y="4713"/>
                </a:cubicBezTo>
                <a:cubicBezTo>
                  <a:pt x="18504" y="4752"/>
                  <a:pt x="18502" y="4888"/>
                  <a:pt x="18529" y="4911"/>
                </a:cubicBezTo>
                <a:cubicBezTo>
                  <a:pt x="18590" y="4964"/>
                  <a:pt x="18654" y="4986"/>
                  <a:pt x="18728" y="4986"/>
                </a:cubicBezTo>
              </a:path>
              <a:path w="894" h="646">
                <a:moveTo>
                  <a:pt x="18852" y="4614"/>
                </a:moveTo>
                <a:cubicBezTo>
                  <a:pt x="18935" y="4614"/>
                  <a:pt x="19017" y="4614"/>
                  <a:pt x="19100" y="4614"/>
                </a:cubicBezTo>
              </a:path>
              <a:path w="894" h="646">
                <a:moveTo>
                  <a:pt x="18876" y="4738"/>
                </a:moveTo>
                <a:cubicBezTo>
                  <a:pt x="18943" y="4738"/>
                  <a:pt x="18988" y="4725"/>
                  <a:pt x="19050" y="471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Ink 28"/>
          <p:cNvSpPr/>
          <p:nvPr/>
        </p:nvSpPr>
        <p:spPr>
          <a:xfrm>
            <a:off x="6438960" y="2098800"/>
            <a:ext cx="1062000" cy="446040"/>
          </a:xfrm>
          <a:custGeom>
            <a:avLst/>
            <a:gdLst/>
            <a:ahLst/>
            <a:rect l="l" t="t" r="r" b="b"/>
            <a:pathLst>
              <a:path w="2953" h="1241">
                <a:moveTo>
                  <a:pt x="17934" y="6127"/>
                </a:moveTo>
                <a:cubicBezTo>
                  <a:pt x="17934" y="6287"/>
                  <a:pt x="17939" y="6446"/>
                  <a:pt x="17959" y="6598"/>
                </a:cubicBezTo>
                <a:cubicBezTo>
                  <a:pt x="17970" y="6682"/>
                  <a:pt x="17959" y="7026"/>
                  <a:pt x="17959" y="6945"/>
                </a:cubicBezTo>
                <a:cubicBezTo>
                  <a:pt x="17959" y="6870"/>
                  <a:pt x="17960" y="6791"/>
                  <a:pt x="17983" y="6722"/>
                </a:cubicBezTo>
                <a:cubicBezTo>
                  <a:pt x="18006" y="6654"/>
                  <a:pt x="18047" y="6579"/>
                  <a:pt x="18132" y="6598"/>
                </a:cubicBezTo>
                <a:cubicBezTo>
                  <a:pt x="18196" y="6612"/>
                  <a:pt x="18319" y="6674"/>
                  <a:pt x="18331" y="6747"/>
                </a:cubicBezTo>
                <a:cubicBezTo>
                  <a:pt x="18342" y="6815"/>
                  <a:pt x="18345" y="6924"/>
                  <a:pt x="18281" y="6970"/>
                </a:cubicBezTo>
                <a:cubicBezTo>
                  <a:pt x="18251" y="6991"/>
                  <a:pt x="18139" y="7065"/>
                  <a:pt x="18107" y="7069"/>
                </a:cubicBezTo>
                <a:cubicBezTo>
                  <a:pt x="17993" y="7084"/>
                  <a:pt x="17894" y="7096"/>
                  <a:pt x="17909" y="6995"/>
                </a:cubicBezTo>
              </a:path>
              <a:path w="2953" h="1241">
                <a:moveTo>
                  <a:pt x="18604" y="6623"/>
                </a:moveTo>
                <a:cubicBezTo>
                  <a:pt x="18692" y="6607"/>
                  <a:pt x="18743" y="6598"/>
                  <a:pt x="18827" y="6598"/>
                </a:cubicBezTo>
              </a:path>
              <a:path w="2953" h="1241">
                <a:moveTo>
                  <a:pt x="18579" y="6747"/>
                </a:moveTo>
                <a:cubicBezTo>
                  <a:pt x="18669" y="6747"/>
                  <a:pt x="18743" y="6735"/>
                  <a:pt x="18827" y="6722"/>
                </a:cubicBezTo>
                <a:cubicBezTo>
                  <a:pt x="18868" y="6722"/>
                  <a:pt x="18876" y="6722"/>
                  <a:pt x="18901" y="6722"/>
                </a:cubicBezTo>
              </a:path>
              <a:path w="2953" h="1241">
                <a:moveTo>
                  <a:pt x="19298" y="5953"/>
                </a:moveTo>
                <a:cubicBezTo>
                  <a:pt x="19298" y="6075"/>
                  <a:pt x="19288" y="6186"/>
                  <a:pt x="19273" y="6300"/>
                </a:cubicBezTo>
                <a:cubicBezTo>
                  <a:pt x="19259" y="6408"/>
                  <a:pt x="19265" y="6519"/>
                  <a:pt x="19248" y="6623"/>
                </a:cubicBezTo>
                <a:cubicBezTo>
                  <a:pt x="19235" y="6702"/>
                  <a:pt x="19233" y="6795"/>
                  <a:pt x="19224" y="6871"/>
                </a:cubicBezTo>
                <a:cubicBezTo>
                  <a:pt x="19219" y="6914"/>
                  <a:pt x="19222" y="6987"/>
                  <a:pt x="19199" y="6921"/>
                </a:cubicBezTo>
              </a:path>
              <a:path w="2953" h="1241">
                <a:moveTo>
                  <a:pt x="19447" y="6028"/>
                </a:moveTo>
                <a:cubicBezTo>
                  <a:pt x="19482" y="5963"/>
                  <a:pt x="19512" y="5874"/>
                  <a:pt x="19596" y="5854"/>
                </a:cubicBezTo>
                <a:cubicBezTo>
                  <a:pt x="19678" y="5834"/>
                  <a:pt x="19728" y="5904"/>
                  <a:pt x="19769" y="5953"/>
                </a:cubicBezTo>
                <a:cubicBezTo>
                  <a:pt x="19812" y="6004"/>
                  <a:pt x="19840" y="6007"/>
                  <a:pt x="19844" y="6077"/>
                </a:cubicBezTo>
                <a:cubicBezTo>
                  <a:pt x="19849" y="6160"/>
                  <a:pt x="19889" y="6237"/>
                  <a:pt x="19869" y="6325"/>
                </a:cubicBezTo>
                <a:cubicBezTo>
                  <a:pt x="19847" y="6420"/>
                  <a:pt x="19814" y="6498"/>
                  <a:pt x="19769" y="6573"/>
                </a:cubicBezTo>
                <a:cubicBezTo>
                  <a:pt x="19732" y="6634"/>
                  <a:pt x="19692" y="6694"/>
                  <a:pt x="19645" y="6747"/>
                </a:cubicBezTo>
                <a:cubicBezTo>
                  <a:pt x="19621" y="6774"/>
                  <a:pt x="19561" y="6849"/>
                  <a:pt x="19521" y="6846"/>
                </a:cubicBezTo>
                <a:cubicBezTo>
                  <a:pt x="19456" y="6841"/>
                  <a:pt x="19473" y="6751"/>
                  <a:pt x="19496" y="6722"/>
                </a:cubicBezTo>
                <a:cubicBezTo>
                  <a:pt x="19541" y="6665"/>
                  <a:pt x="19580" y="6657"/>
                  <a:pt x="19645" y="6697"/>
                </a:cubicBezTo>
                <a:cubicBezTo>
                  <a:pt x="19687" y="6723"/>
                  <a:pt x="19731" y="6808"/>
                  <a:pt x="19769" y="6846"/>
                </a:cubicBezTo>
                <a:cubicBezTo>
                  <a:pt x="19794" y="6871"/>
                  <a:pt x="19819" y="6896"/>
                  <a:pt x="19844" y="6921"/>
                </a:cubicBezTo>
              </a:path>
              <a:path w="2953" h="1241">
                <a:moveTo>
                  <a:pt x="20067" y="6846"/>
                </a:moveTo>
                <a:cubicBezTo>
                  <a:pt x="20059" y="6838"/>
                  <a:pt x="20050" y="6829"/>
                  <a:pt x="20042" y="6821"/>
                </a:cubicBezTo>
              </a:path>
              <a:path w="2953" h="1241">
                <a:moveTo>
                  <a:pt x="20414" y="6176"/>
                </a:moveTo>
                <a:cubicBezTo>
                  <a:pt x="20423" y="6106"/>
                  <a:pt x="20453" y="6045"/>
                  <a:pt x="20464" y="5978"/>
                </a:cubicBezTo>
                <a:cubicBezTo>
                  <a:pt x="20477" y="5903"/>
                  <a:pt x="20492" y="5892"/>
                  <a:pt x="20563" y="5854"/>
                </a:cubicBezTo>
                <a:cubicBezTo>
                  <a:pt x="20641" y="5812"/>
                  <a:pt x="20729" y="5871"/>
                  <a:pt x="20762" y="5953"/>
                </a:cubicBezTo>
                <a:cubicBezTo>
                  <a:pt x="20790" y="6024"/>
                  <a:pt x="20786" y="6124"/>
                  <a:pt x="20786" y="6201"/>
                </a:cubicBezTo>
                <a:cubicBezTo>
                  <a:pt x="20786" y="6313"/>
                  <a:pt x="20756" y="6398"/>
                  <a:pt x="20712" y="6499"/>
                </a:cubicBezTo>
                <a:cubicBezTo>
                  <a:pt x="20687" y="6558"/>
                  <a:pt x="20651" y="6621"/>
                  <a:pt x="20613" y="6672"/>
                </a:cubicBezTo>
                <a:cubicBezTo>
                  <a:pt x="20572" y="6726"/>
                  <a:pt x="20512" y="6775"/>
                  <a:pt x="20439" y="6747"/>
                </a:cubicBezTo>
                <a:cubicBezTo>
                  <a:pt x="20372" y="6721"/>
                  <a:pt x="20404" y="6664"/>
                  <a:pt x="20414" y="6623"/>
                </a:cubicBezTo>
                <a:cubicBezTo>
                  <a:pt x="20468" y="6676"/>
                  <a:pt x="20526" y="6682"/>
                  <a:pt x="20588" y="6722"/>
                </a:cubicBezTo>
                <a:cubicBezTo>
                  <a:pt x="20661" y="6769"/>
                  <a:pt x="20715" y="6746"/>
                  <a:pt x="20786" y="6772"/>
                </a:cubicBezTo>
                <a:cubicBezTo>
                  <a:pt x="20830" y="6788"/>
                  <a:pt x="20822" y="6801"/>
                  <a:pt x="20836" y="67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Ink 29"/>
          <p:cNvSpPr/>
          <p:nvPr/>
        </p:nvSpPr>
        <p:spPr>
          <a:xfrm>
            <a:off x="6402240" y="3062160"/>
            <a:ext cx="376560" cy="268560"/>
          </a:xfrm>
          <a:custGeom>
            <a:avLst/>
            <a:gdLst/>
            <a:ahLst/>
            <a:rect l="l" t="t" r="r" b="b"/>
            <a:pathLst>
              <a:path w="1043" h="745">
                <a:moveTo>
                  <a:pt x="18132" y="8508"/>
                </a:moveTo>
                <a:cubicBezTo>
                  <a:pt x="18161" y="8594"/>
                  <a:pt x="18144" y="8626"/>
                  <a:pt x="18132" y="8706"/>
                </a:cubicBezTo>
                <a:cubicBezTo>
                  <a:pt x="18095" y="8641"/>
                  <a:pt x="18082" y="8591"/>
                  <a:pt x="18008" y="8582"/>
                </a:cubicBezTo>
                <a:cubicBezTo>
                  <a:pt x="17924" y="8572"/>
                  <a:pt x="17918" y="8653"/>
                  <a:pt x="17884" y="8706"/>
                </a:cubicBezTo>
                <a:cubicBezTo>
                  <a:pt x="17845" y="8766"/>
                  <a:pt x="17797" y="8781"/>
                  <a:pt x="17785" y="8855"/>
                </a:cubicBezTo>
                <a:cubicBezTo>
                  <a:pt x="17774" y="8921"/>
                  <a:pt x="17783" y="9024"/>
                  <a:pt x="17810" y="9079"/>
                </a:cubicBezTo>
                <a:cubicBezTo>
                  <a:pt x="17827" y="9114"/>
                  <a:pt x="17923" y="9204"/>
                  <a:pt x="17959" y="9227"/>
                </a:cubicBezTo>
                <a:cubicBezTo>
                  <a:pt x="18006" y="9257"/>
                  <a:pt x="18141" y="9272"/>
                  <a:pt x="18182" y="9227"/>
                </a:cubicBezTo>
                <a:cubicBezTo>
                  <a:pt x="18225" y="9181"/>
                  <a:pt x="18214" y="9166"/>
                  <a:pt x="18281" y="9153"/>
                </a:cubicBezTo>
              </a:path>
              <a:path w="1043" h="745">
                <a:moveTo>
                  <a:pt x="18405" y="8781"/>
                </a:moveTo>
                <a:cubicBezTo>
                  <a:pt x="18504" y="8781"/>
                  <a:pt x="18604" y="8781"/>
                  <a:pt x="18703" y="8781"/>
                </a:cubicBezTo>
              </a:path>
              <a:path w="1043" h="745">
                <a:moveTo>
                  <a:pt x="18455" y="8880"/>
                </a:moveTo>
                <a:cubicBezTo>
                  <a:pt x="18573" y="8920"/>
                  <a:pt x="18633" y="8930"/>
                  <a:pt x="18752" y="8930"/>
                </a:cubicBezTo>
                <a:cubicBezTo>
                  <a:pt x="18794" y="8930"/>
                  <a:pt x="18802" y="8930"/>
                  <a:pt x="18827" y="89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Ink 30"/>
          <p:cNvSpPr/>
          <p:nvPr/>
        </p:nvSpPr>
        <p:spPr>
          <a:xfrm>
            <a:off x="7045200" y="2990880"/>
            <a:ext cx="322560" cy="384120"/>
          </a:xfrm>
          <a:custGeom>
            <a:avLst/>
            <a:gdLst/>
            <a:ahLst/>
            <a:rect l="l" t="t" r="r" b="b"/>
            <a:pathLst>
              <a:path w="894" h="1067">
                <a:moveTo>
                  <a:pt x="19596" y="8409"/>
                </a:moveTo>
                <a:cubicBezTo>
                  <a:pt x="19596" y="8515"/>
                  <a:pt x="19575" y="8603"/>
                  <a:pt x="19571" y="8706"/>
                </a:cubicBezTo>
                <a:cubicBezTo>
                  <a:pt x="19564" y="8904"/>
                  <a:pt x="19571" y="9104"/>
                  <a:pt x="19571" y="9302"/>
                </a:cubicBezTo>
              </a:path>
              <a:path w="894" h="1067">
                <a:moveTo>
                  <a:pt x="20017" y="8334"/>
                </a:moveTo>
                <a:cubicBezTo>
                  <a:pt x="20122" y="8334"/>
                  <a:pt x="20224" y="8339"/>
                  <a:pt x="20315" y="8310"/>
                </a:cubicBezTo>
                <a:cubicBezTo>
                  <a:pt x="20323" y="8310"/>
                  <a:pt x="20332" y="8310"/>
                  <a:pt x="20340" y="8310"/>
                </a:cubicBezTo>
              </a:path>
              <a:path w="894" h="1067">
                <a:moveTo>
                  <a:pt x="19918" y="8310"/>
                </a:moveTo>
                <a:cubicBezTo>
                  <a:pt x="19891" y="8382"/>
                  <a:pt x="19834" y="8506"/>
                  <a:pt x="19819" y="8582"/>
                </a:cubicBezTo>
                <a:cubicBezTo>
                  <a:pt x="19807" y="8642"/>
                  <a:pt x="19819" y="8720"/>
                  <a:pt x="19819" y="8781"/>
                </a:cubicBezTo>
                <a:cubicBezTo>
                  <a:pt x="19888" y="8761"/>
                  <a:pt x="19908" y="8716"/>
                  <a:pt x="19968" y="8657"/>
                </a:cubicBezTo>
                <a:cubicBezTo>
                  <a:pt x="20025" y="8600"/>
                  <a:pt x="20078" y="8646"/>
                  <a:pt x="20141" y="8657"/>
                </a:cubicBezTo>
                <a:cubicBezTo>
                  <a:pt x="20236" y="8673"/>
                  <a:pt x="20233" y="8716"/>
                  <a:pt x="20290" y="8781"/>
                </a:cubicBezTo>
                <a:cubicBezTo>
                  <a:pt x="20337" y="8835"/>
                  <a:pt x="20425" y="8926"/>
                  <a:pt x="20439" y="9004"/>
                </a:cubicBezTo>
                <a:cubicBezTo>
                  <a:pt x="20455" y="9094"/>
                  <a:pt x="20445" y="9149"/>
                  <a:pt x="20439" y="9227"/>
                </a:cubicBezTo>
                <a:cubicBezTo>
                  <a:pt x="20434" y="9291"/>
                  <a:pt x="20397" y="9351"/>
                  <a:pt x="20315" y="9376"/>
                </a:cubicBezTo>
                <a:cubicBezTo>
                  <a:pt x="20217" y="9406"/>
                  <a:pt x="20139" y="9371"/>
                  <a:pt x="20067" y="9327"/>
                </a:cubicBezTo>
                <a:cubicBezTo>
                  <a:pt x="20019" y="9303"/>
                  <a:pt x="20005" y="9295"/>
                  <a:pt x="19968" y="93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Ink 31"/>
          <p:cNvSpPr/>
          <p:nvPr/>
        </p:nvSpPr>
        <p:spPr>
          <a:xfrm>
            <a:off x="1697040" y="4411800"/>
            <a:ext cx="1581120" cy="1276200"/>
          </a:xfrm>
          <a:custGeom>
            <a:avLst/>
            <a:gdLst/>
            <a:ahLst/>
            <a:rect l="l" t="t" r="r" b="b"/>
            <a:pathLst>
              <a:path w="4391" h="3548">
                <a:moveTo>
                  <a:pt x="6424" y="13791"/>
                </a:moveTo>
                <a:cubicBezTo>
                  <a:pt x="6748" y="13791"/>
                  <a:pt x="7072" y="13789"/>
                  <a:pt x="7392" y="13767"/>
                </a:cubicBezTo>
                <a:cubicBezTo>
                  <a:pt x="7565" y="13755"/>
                  <a:pt x="7741" y="13766"/>
                  <a:pt x="7913" y="13742"/>
                </a:cubicBezTo>
                <a:cubicBezTo>
                  <a:pt x="8053" y="13722"/>
                  <a:pt x="8195" y="13713"/>
                  <a:pt x="8334" y="13692"/>
                </a:cubicBezTo>
                <a:cubicBezTo>
                  <a:pt x="8469" y="13672"/>
                  <a:pt x="8602" y="13615"/>
                  <a:pt x="8731" y="13593"/>
                </a:cubicBezTo>
                <a:cubicBezTo>
                  <a:pt x="8794" y="13582"/>
                  <a:pt x="8967" y="13528"/>
                  <a:pt x="8905" y="13543"/>
                </a:cubicBezTo>
                <a:cubicBezTo>
                  <a:pt x="8877" y="13571"/>
                  <a:pt x="8863" y="13580"/>
                  <a:pt x="8830" y="13568"/>
                </a:cubicBezTo>
              </a:path>
              <a:path w="4391" h="3548">
                <a:moveTo>
                  <a:pt x="7020" y="12799"/>
                </a:moveTo>
                <a:cubicBezTo>
                  <a:pt x="7105" y="12788"/>
                  <a:pt x="7185" y="12753"/>
                  <a:pt x="7268" y="12725"/>
                </a:cubicBezTo>
                <a:cubicBezTo>
                  <a:pt x="7425" y="12672"/>
                  <a:pt x="7555" y="12672"/>
                  <a:pt x="7714" y="12650"/>
                </a:cubicBezTo>
                <a:cubicBezTo>
                  <a:pt x="7997" y="12612"/>
                  <a:pt x="8279" y="12537"/>
                  <a:pt x="8558" y="12477"/>
                </a:cubicBezTo>
                <a:cubicBezTo>
                  <a:pt x="8676" y="12452"/>
                  <a:pt x="8792" y="12421"/>
                  <a:pt x="8905" y="12378"/>
                </a:cubicBezTo>
                <a:cubicBezTo>
                  <a:pt x="8960" y="12357"/>
                  <a:pt x="9069" y="12321"/>
                  <a:pt x="9103" y="12254"/>
                </a:cubicBezTo>
                <a:cubicBezTo>
                  <a:pt x="9081" y="12276"/>
                  <a:pt x="9076" y="12284"/>
                  <a:pt x="9054" y="12278"/>
                </a:cubicBezTo>
              </a:path>
              <a:path w="4391" h="3548">
                <a:moveTo>
                  <a:pt x="4762" y="15180"/>
                </a:moveTo>
                <a:cubicBezTo>
                  <a:pt x="4870" y="15180"/>
                  <a:pt x="4977" y="15180"/>
                  <a:pt x="5085" y="15180"/>
                </a:cubicBezTo>
              </a:path>
              <a:path w="4391" h="3548">
                <a:moveTo>
                  <a:pt x="4713" y="15379"/>
                </a:moveTo>
                <a:cubicBezTo>
                  <a:pt x="4843" y="15379"/>
                  <a:pt x="4966" y="15394"/>
                  <a:pt x="5085" y="15354"/>
                </a:cubicBezTo>
              </a:path>
              <a:path w="4391" h="3548">
                <a:moveTo>
                  <a:pt x="5383" y="14709"/>
                </a:moveTo>
                <a:cubicBezTo>
                  <a:pt x="5349" y="14851"/>
                  <a:pt x="5313" y="14986"/>
                  <a:pt x="5308" y="15131"/>
                </a:cubicBezTo>
                <a:cubicBezTo>
                  <a:pt x="5304" y="15243"/>
                  <a:pt x="5287" y="15344"/>
                  <a:pt x="5283" y="15453"/>
                </a:cubicBezTo>
                <a:cubicBezTo>
                  <a:pt x="5280" y="15535"/>
                  <a:pt x="5283" y="15619"/>
                  <a:pt x="5283" y="15701"/>
                </a:cubicBezTo>
                <a:cubicBezTo>
                  <a:pt x="5292" y="15632"/>
                  <a:pt x="5304" y="15567"/>
                  <a:pt x="5333" y="15503"/>
                </a:cubicBezTo>
                <a:cubicBezTo>
                  <a:pt x="5354" y="15455"/>
                  <a:pt x="5420" y="15401"/>
                  <a:pt x="5432" y="15354"/>
                </a:cubicBezTo>
                <a:cubicBezTo>
                  <a:pt x="5452" y="15280"/>
                  <a:pt x="5455" y="15270"/>
                  <a:pt x="5531" y="15230"/>
                </a:cubicBezTo>
                <a:cubicBezTo>
                  <a:pt x="5609" y="15188"/>
                  <a:pt x="5665" y="15236"/>
                  <a:pt x="5705" y="15304"/>
                </a:cubicBezTo>
                <a:cubicBezTo>
                  <a:pt x="5744" y="15371"/>
                  <a:pt x="5789" y="15476"/>
                  <a:pt x="5804" y="15553"/>
                </a:cubicBezTo>
                <a:cubicBezTo>
                  <a:pt x="5817" y="15621"/>
                  <a:pt x="5808" y="15731"/>
                  <a:pt x="5755" y="15776"/>
                </a:cubicBezTo>
                <a:cubicBezTo>
                  <a:pt x="5677" y="15843"/>
                  <a:pt x="5607" y="15767"/>
                  <a:pt x="5531" y="15751"/>
                </a:cubicBezTo>
                <a:cubicBezTo>
                  <a:pt x="5464" y="15737"/>
                  <a:pt x="5416" y="15720"/>
                  <a:pt x="5358" y="15677"/>
                </a:cubicBezTo>
                <a:cubicBezTo>
                  <a:pt x="5335" y="15654"/>
                  <a:pt x="5331" y="15646"/>
                  <a:pt x="5308" y="156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Ink 32"/>
          <p:cNvSpPr/>
          <p:nvPr/>
        </p:nvSpPr>
        <p:spPr>
          <a:xfrm>
            <a:off x="839880" y="1741320"/>
            <a:ext cx="276120" cy="223920"/>
          </a:xfrm>
          <a:custGeom>
            <a:avLst/>
            <a:gdLst/>
            <a:ahLst/>
            <a:rect l="l" t="t" r="r" b="b"/>
            <a:pathLst>
              <a:path w="770" h="621">
                <a:moveTo>
                  <a:pt x="2332" y="4961"/>
                </a:moveTo>
                <a:cubicBezTo>
                  <a:pt x="2332" y="5041"/>
                  <a:pt x="2350" y="5108"/>
                  <a:pt x="2356" y="5184"/>
                </a:cubicBezTo>
                <a:cubicBezTo>
                  <a:pt x="2364" y="5282"/>
                  <a:pt x="2381" y="5361"/>
                  <a:pt x="2381" y="5457"/>
                </a:cubicBezTo>
                <a:cubicBezTo>
                  <a:pt x="2381" y="5449"/>
                  <a:pt x="2381" y="5440"/>
                  <a:pt x="2381" y="5432"/>
                </a:cubicBezTo>
              </a:path>
              <a:path w="770" h="621">
                <a:moveTo>
                  <a:pt x="2580" y="4936"/>
                </a:moveTo>
                <a:cubicBezTo>
                  <a:pt x="2669" y="4914"/>
                  <a:pt x="2755" y="4899"/>
                  <a:pt x="2828" y="4862"/>
                </a:cubicBezTo>
                <a:cubicBezTo>
                  <a:pt x="2844" y="4854"/>
                  <a:pt x="2861" y="4845"/>
                  <a:pt x="2877" y="4837"/>
                </a:cubicBezTo>
              </a:path>
              <a:path w="770" h="621">
                <a:moveTo>
                  <a:pt x="2530" y="4862"/>
                </a:moveTo>
                <a:cubicBezTo>
                  <a:pt x="2514" y="4952"/>
                  <a:pt x="2490" y="5050"/>
                  <a:pt x="2530" y="5135"/>
                </a:cubicBezTo>
                <a:cubicBezTo>
                  <a:pt x="2555" y="5159"/>
                  <a:pt x="2564" y="5167"/>
                  <a:pt x="2580" y="5184"/>
                </a:cubicBezTo>
                <a:cubicBezTo>
                  <a:pt x="2599" y="5146"/>
                  <a:pt x="2630" y="5049"/>
                  <a:pt x="2679" y="5035"/>
                </a:cubicBezTo>
                <a:cubicBezTo>
                  <a:pt x="2747" y="5016"/>
                  <a:pt x="2804" y="5110"/>
                  <a:pt x="2828" y="5159"/>
                </a:cubicBezTo>
                <a:cubicBezTo>
                  <a:pt x="2862" y="5230"/>
                  <a:pt x="2877" y="5311"/>
                  <a:pt x="2803" y="5358"/>
                </a:cubicBezTo>
                <a:cubicBezTo>
                  <a:pt x="2737" y="5400"/>
                  <a:pt x="2693" y="5420"/>
                  <a:pt x="2629" y="5383"/>
                </a:cubicBezTo>
              </a:path>
              <a:path w="770" h="621">
                <a:moveTo>
                  <a:pt x="2952" y="5011"/>
                </a:moveTo>
                <a:cubicBezTo>
                  <a:pt x="3014" y="5006"/>
                  <a:pt x="3126" y="5015"/>
                  <a:pt x="3101" y="4911"/>
                </a:cubicBezTo>
                <a:cubicBezTo>
                  <a:pt x="3077" y="4808"/>
                  <a:pt x="2983" y="4837"/>
                  <a:pt x="2902" y="48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Ink 33"/>
          <p:cNvSpPr/>
          <p:nvPr/>
        </p:nvSpPr>
        <p:spPr>
          <a:xfrm>
            <a:off x="561960" y="1554120"/>
            <a:ext cx="2527200" cy="1320840"/>
          </a:xfrm>
          <a:custGeom>
            <a:avLst/>
            <a:gdLst/>
            <a:ahLst/>
            <a:rect l="l" t="t" r="r" b="b"/>
            <a:pathLst>
              <a:path w="7020" h="3672">
                <a:moveTo>
                  <a:pt x="3200" y="7863"/>
                </a:moveTo>
                <a:cubicBezTo>
                  <a:pt x="3267" y="7855"/>
                  <a:pt x="3325" y="7847"/>
                  <a:pt x="3398" y="7838"/>
                </a:cubicBezTo>
                <a:cubicBezTo>
                  <a:pt x="3479" y="7828"/>
                  <a:pt x="3568" y="7816"/>
                  <a:pt x="3646" y="7813"/>
                </a:cubicBezTo>
                <a:cubicBezTo>
                  <a:pt x="3781" y="7807"/>
                  <a:pt x="3917" y="7833"/>
                  <a:pt x="4043" y="7838"/>
                </a:cubicBezTo>
                <a:cubicBezTo>
                  <a:pt x="4293" y="7848"/>
                  <a:pt x="4542" y="7859"/>
                  <a:pt x="4787" y="7863"/>
                </a:cubicBezTo>
                <a:cubicBezTo>
                  <a:pt x="4929" y="7865"/>
                  <a:pt x="5067" y="7882"/>
                  <a:pt x="5209" y="7888"/>
                </a:cubicBezTo>
                <a:cubicBezTo>
                  <a:pt x="5344" y="7893"/>
                  <a:pt x="5472" y="7907"/>
                  <a:pt x="5606" y="7913"/>
                </a:cubicBezTo>
                <a:cubicBezTo>
                  <a:pt x="5952" y="7928"/>
                  <a:pt x="6304" y="7935"/>
                  <a:pt x="6648" y="7938"/>
                </a:cubicBezTo>
                <a:cubicBezTo>
                  <a:pt x="6971" y="7941"/>
                  <a:pt x="7297" y="7948"/>
                  <a:pt x="7615" y="7962"/>
                </a:cubicBezTo>
                <a:cubicBezTo>
                  <a:pt x="7804" y="7970"/>
                  <a:pt x="8005" y="7979"/>
                  <a:pt x="8186" y="7987"/>
                </a:cubicBezTo>
                <a:cubicBezTo>
                  <a:pt x="8317" y="7993"/>
                  <a:pt x="8450" y="7987"/>
                  <a:pt x="8582" y="7987"/>
                </a:cubicBezTo>
                <a:cubicBezTo>
                  <a:pt x="8533" y="7947"/>
                  <a:pt x="8478" y="7899"/>
                  <a:pt x="8434" y="7863"/>
                </a:cubicBezTo>
                <a:cubicBezTo>
                  <a:pt x="8354" y="7798"/>
                  <a:pt x="8267" y="7750"/>
                  <a:pt x="8186" y="7689"/>
                </a:cubicBezTo>
                <a:cubicBezTo>
                  <a:pt x="8038" y="7579"/>
                  <a:pt x="7916" y="7471"/>
                  <a:pt x="7764" y="7367"/>
                </a:cubicBezTo>
                <a:cubicBezTo>
                  <a:pt x="7640" y="7282"/>
                  <a:pt x="7518" y="7199"/>
                  <a:pt x="7392" y="7119"/>
                </a:cubicBezTo>
                <a:cubicBezTo>
                  <a:pt x="7256" y="7033"/>
                  <a:pt x="7126" y="6942"/>
                  <a:pt x="6995" y="6846"/>
                </a:cubicBezTo>
                <a:cubicBezTo>
                  <a:pt x="6860" y="6747"/>
                  <a:pt x="6719" y="6657"/>
                  <a:pt x="6573" y="6573"/>
                </a:cubicBezTo>
                <a:cubicBezTo>
                  <a:pt x="6418" y="6484"/>
                  <a:pt x="6242" y="6397"/>
                  <a:pt x="6102" y="6300"/>
                </a:cubicBezTo>
                <a:cubicBezTo>
                  <a:pt x="5915" y="6171"/>
                  <a:pt x="5735" y="6041"/>
                  <a:pt x="5531" y="5928"/>
                </a:cubicBezTo>
                <a:cubicBezTo>
                  <a:pt x="5328" y="5815"/>
                  <a:pt x="5117" y="5687"/>
                  <a:pt x="4911" y="5581"/>
                </a:cubicBezTo>
                <a:cubicBezTo>
                  <a:pt x="4694" y="5469"/>
                  <a:pt x="4461" y="5390"/>
                  <a:pt x="4242" y="5283"/>
                </a:cubicBezTo>
                <a:cubicBezTo>
                  <a:pt x="4036" y="5182"/>
                  <a:pt x="3830" y="5095"/>
                  <a:pt x="3621" y="5011"/>
                </a:cubicBezTo>
                <a:cubicBezTo>
                  <a:pt x="3415" y="4928"/>
                  <a:pt x="3212" y="4858"/>
                  <a:pt x="3001" y="4787"/>
                </a:cubicBezTo>
                <a:cubicBezTo>
                  <a:pt x="2763" y="4708"/>
                  <a:pt x="2523" y="4616"/>
                  <a:pt x="2282" y="4539"/>
                </a:cubicBezTo>
                <a:cubicBezTo>
                  <a:pt x="2175" y="4505"/>
                  <a:pt x="2068" y="4472"/>
                  <a:pt x="1960" y="4440"/>
                </a:cubicBezTo>
                <a:cubicBezTo>
                  <a:pt x="1887" y="4418"/>
                  <a:pt x="1808" y="4413"/>
                  <a:pt x="1736" y="4390"/>
                </a:cubicBezTo>
                <a:cubicBezTo>
                  <a:pt x="1675" y="4370"/>
                  <a:pt x="1618" y="4336"/>
                  <a:pt x="1563" y="4316"/>
                </a:cubicBezTo>
                <a:cubicBezTo>
                  <a:pt x="1579" y="4361"/>
                  <a:pt x="1590" y="4447"/>
                  <a:pt x="1612" y="4490"/>
                </a:cubicBezTo>
                <a:cubicBezTo>
                  <a:pt x="1640" y="4544"/>
                  <a:pt x="1680" y="4588"/>
                  <a:pt x="1712" y="4638"/>
                </a:cubicBezTo>
                <a:cubicBezTo>
                  <a:pt x="1720" y="4646"/>
                  <a:pt x="1728" y="4655"/>
                  <a:pt x="1736" y="46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e6e3aa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Solve this triangle:</a:t>
            </a:r>
            <a:br>
              <a:rPr sz="4000"/>
            </a:b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A = 24</a:t>
            </a:r>
            <a:r>
              <a:rPr b="1" lang="en-US" sz="4000" spc="-1" strike="noStrike">
                <a:solidFill>
                  <a:srgbClr val="e6e3aa"/>
                </a:solidFill>
                <a:latin typeface="Symbol"/>
                <a:ea typeface="Symbol"/>
              </a:rPr>
              <a:t></a:t>
            </a: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, c = 3 and a = 7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48" name="Ink 5"/>
          <p:cNvSpPr/>
          <p:nvPr/>
        </p:nvSpPr>
        <p:spPr>
          <a:xfrm>
            <a:off x="4581360" y="1625760"/>
            <a:ext cx="571680" cy="1643040"/>
          </a:xfrm>
          <a:custGeom>
            <a:avLst/>
            <a:gdLst/>
            <a:ahLst/>
            <a:rect l="l" t="t" r="r" b="b"/>
            <a:pathLst>
              <a:path w="1588" h="4566">
                <a:moveTo>
                  <a:pt x="13146" y="5011"/>
                </a:moveTo>
                <a:cubicBezTo>
                  <a:pt x="13119" y="5086"/>
                  <a:pt x="13105" y="5158"/>
                  <a:pt x="13072" y="5234"/>
                </a:cubicBezTo>
                <a:cubicBezTo>
                  <a:pt x="13026" y="5341"/>
                  <a:pt x="13037" y="5480"/>
                  <a:pt x="12973" y="5581"/>
                </a:cubicBezTo>
                <a:cubicBezTo>
                  <a:pt x="12922" y="5661"/>
                  <a:pt x="12884" y="5736"/>
                  <a:pt x="12849" y="5829"/>
                </a:cubicBezTo>
                <a:cubicBezTo>
                  <a:pt x="12832" y="5875"/>
                  <a:pt x="12840" y="5857"/>
                  <a:pt x="12824" y="5904"/>
                </a:cubicBezTo>
                <a:cubicBezTo>
                  <a:pt x="12833" y="5810"/>
                  <a:pt x="12846" y="5718"/>
                  <a:pt x="12874" y="5631"/>
                </a:cubicBezTo>
                <a:cubicBezTo>
                  <a:pt x="12908" y="5526"/>
                  <a:pt x="12966" y="5437"/>
                  <a:pt x="12998" y="5333"/>
                </a:cubicBezTo>
                <a:cubicBezTo>
                  <a:pt x="13043" y="5188"/>
                  <a:pt x="13080" y="5049"/>
                  <a:pt x="13146" y="4911"/>
                </a:cubicBezTo>
                <a:cubicBezTo>
                  <a:pt x="13189" y="4822"/>
                  <a:pt x="13209" y="4749"/>
                  <a:pt x="13246" y="4663"/>
                </a:cubicBezTo>
                <a:cubicBezTo>
                  <a:pt x="13273" y="4600"/>
                  <a:pt x="13323" y="4561"/>
                  <a:pt x="13370" y="4514"/>
                </a:cubicBezTo>
                <a:cubicBezTo>
                  <a:pt x="13419" y="4575"/>
                  <a:pt x="13441" y="4633"/>
                  <a:pt x="13444" y="4713"/>
                </a:cubicBezTo>
                <a:cubicBezTo>
                  <a:pt x="13448" y="4806"/>
                  <a:pt x="13467" y="4896"/>
                  <a:pt x="13494" y="4986"/>
                </a:cubicBezTo>
                <a:cubicBezTo>
                  <a:pt x="13521" y="5077"/>
                  <a:pt x="13554" y="5188"/>
                  <a:pt x="13568" y="5283"/>
                </a:cubicBezTo>
                <a:cubicBezTo>
                  <a:pt x="13586" y="5406"/>
                  <a:pt x="13617" y="5510"/>
                  <a:pt x="13643" y="5631"/>
                </a:cubicBezTo>
                <a:cubicBezTo>
                  <a:pt x="13658" y="5700"/>
                  <a:pt x="13674" y="5766"/>
                  <a:pt x="13717" y="5829"/>
                </a:cubicBezTo>
                <a:cubicBezTo>
                  <a:pt x="13742" y="5854"/>
                  <a:pt x="13750" y="5862"/>
                  <a:pt x="13717" y="5829"/>
                </a:cubicBezTo>
              </a:path>
              <a:path w="1588" h="4566">
                <a:moveTo>
                  <a:pt x="12898" y="5407"/>
                </a:moveTo>
                <a:cubicBezTo>
                  <a:pt x="12984" y="5400"/>
                  <a:pt x="13065" y="5379"/>
                  <a:pt x="13146" y="5358"/>
                </a:cubicBezTo>
                <a:cubicBezTo>
                  <a:pt x="13239" y="5334"/>
                  <a:pt x="13326" y="5332"/>
                  <a:pt x="13419" y="5308"/>
                </a:cubicBezTo>
              </a:path>
              <a:path w="1588" h="4566">
                <a:moveTo>
                  <a:pt x="13990" y="5283"/>
                </a:moveTo>
                <a:cubicBezTo>
                  <a:pt x="14060" y="5275"/>
                  <a:pt x="14115" y="5259"/>
                  <a:pt x="14188" y="5259"/>
                </a:cubicBezTo>
                <a:cubicBezTo>
                  <a:pt x="14254" y="5259"/>
                  <a:pt x="14271" y="5259"/>
                  <a:pt x="14312" y="5259"/>
                </a:cubicBezTo>
              </a:path>
              <a:path w="1588" h="4566">
                <a:moveTo>
                  <a:pt x="14015" y="5407"/>
                </a:moveTo>
                <a:cubicBezTo>
                  <a:pt x="14114" y="5429"/>
                  <a:pt x="14161" y="5432"/>
                  <a:pt x="14263" y="5432"/>
                </a:cubicBezTo>
              </a:path>
              <a:path w="1588" h="4566">
                <a:moveTo>
                  <a:pt x="13171" y="6474"/>
                </a:moveTo>
                <a:cubicBezTo>
                  <a:pt x="13171" y="6563"/>
                  <a:pt x="13156" y="6640"/>
                  <a:pt x="13146" y="6722"/>
                </a:cubicBezTo>
                <a:cubicBezTo>
                  <a:pt x="13134" y="6819"/>
                  <a:pt x="13132" y="6924"/>
                  <a:pt x="13122" y="7020"/>
                </a:cubicBezTo>
                <a:cubicBezTo>
                  <a:pt x="13106" y="7169"/>
                  <a:pt x="13150" y="7326"/>
                  <a:pt x="13097" y="7466"/>
                </a:cubicBezTo>
                <a:cubicBezTo>
                  <a:pt x="13090" y="7387"/>
                  <a:pt x="13072" y="7324"/>
                  <a:pt x="13072" y="7243"/>
                </a:cubicBezTo>
                <a:cubicBezTo>
                  <a:pt x="13072" y="7044"/>
                  <a:pt x="13032" y="6785"/>
                  <a:pt x="13097" y="6598"/>
                </a:cubicBezTo>
                <a:cubicBezTo>
                  <a:pt x="13115" y="6547"/>
                  <a:pt x="13161" y="6488"/>
                  <a:pt x="13196" y="6449"/>
                </a:cubicBezTo>
                <a:cubicBezTo>
                  <a:pt x="13231" y="6410"/>
                  <a:pt x="13262" y="6364"/>
                  <a:pt x="13320" y="6375"/>
                </a:cubicBezTo>
                <a:cubicBezTo>
                  <a:pt x="13392" y="6388"/>
                  <a:pt x="13453" y="6449"/>
                  <a:pt x="13444" y="6524"/>
                </a:cubicBezTo>
                <a:cubicBezTo>
                  <a:pt x="13436" y="6591"/>
                  <a:pt x="13403" y="6698"/>
                  <a:pt x="13345" y="6747"/>
                </a:cubicBezTo>
                <a:cubicBezTo>
                  <a:pt x="13304" y="6782"/>
                  <a:pt x="13261" y="6806"/>
                  <a:pt x="13221" y="6846"/>
                </a:cubicBezTo>
                <a:cubicBezTo>
                  <a:pt x="13150" y="6917"/>
                  <a:pt x="13261" y="6799"/>
                  <a:pt x="13271" y="6796"/>
                </a:cubicBezTo>
                <a:cubicBezTo>
                  <a:pt x="13339" y="6776"/>
                  <a:pt x="13378" y="6775"/>
                  <a:pt x="13444" y="6821"/>
                </a:cubicBezTo>
                <a:cubicBezTo>
                  <a:pt x="13497" y="6858"/>
                  <a:pt x="13544" y="6962"/>
                  <a:pt x="13568" y="7020"/>
                </a:cubicBezTo>
                <a:cubicBezTo>
                  <a:pt x="13609" y="7117"/>
                  <a:pt x="13580" y="7228"/>
                  <a:pt x="13494" y="7293"/>
                </a:cubicBezTo>
                <a:cubicBezTo>
                  <a:pt x="13407" y="7359"/>
                  <a:pt x="13383" y="7376"/>
                  <a:pt x="13271" y="7417"/>
                </a:cubicBezTo>
                <a:cubicBezTo>
                  <a:pt x="13198" y="7444"/>
                  <a:pt x="13102" y="7457"/>
                  <a:pt x="13022" y="7441"/>
                </a:cubicBezTo>
                <a:cubicBezTo>
                  <a:pt x="12944" y="7416"/>
                  <a:pt x="12917" y="7404"/>
                  <a:pt x="12898" y="7342"/>
                </a:cubicBezTo>
              </a:path>
              <a:path w="1588" h="4566">
                <a:moveTo>
                  <a:pt x="13990" y="6846"/>
                </a:moveTo>
                <a:cubicBezTo>
                  <a:pt x="14040" y="6846"/>
                  <a:pt x="14089" y="6846"/>
                  <a:pt x="14139" y="6846"/>
                </a:cubicBezTo>
              </a:path>
              <a:path w="1588" h="4566">
                <a:moveTo>
                  <a:pt x="13841" y="6970"/>
                </a:moveTo>
                <a:cubicBezTo>
                  <a:pt x="13969" y="6965"/>
                  <a:pt x="14047" y="6958"/>
                  <a:pt x="14163" y="6945"/>
                </a:cubicBezTo>
              </a:path>
              <a:path w="1588" h="4566">
                <a:moveTo>
                  <a:pt x="13345" y="7987"/>
                </a:moveTo>
                <a:cubicBezTo>
                  <a:pt x="13345" y="8083"/>
                  <a:pt x="13355" y="8148"/>
                  <a:pt x="13370" y="8235"/>
                </a:cubicBezTo>
                <a:cubicBezTo>
                  <a:pt x="13370" y="8252"/>
                  <a:pt x="13370" y="8268"/>
                  <a:pt x="13370" y="8285"/>
                </a:cubicBezTo>
                <a:cubicBezTo>
                  <a:pt x="13360" y="8217"/>
                  <a:pt x="13330" y="8196"/>
                  <a:pt x="13295" y="8136"/>
                </a:cubicBezTo>
                <a:cubicBezTo>
                  <a:pt x="13254" y="8067"/>
                  <a:pt x="13231" y="8021"/>
                  <a:pt x="13146" y="8012"/>
                </a:cubicBezTo>
                <a:cubicBezTo>
                  <a:pt x="13065" y="8003"/>
                  <a:pt x="13040" y="8027"/>
                  <a:pt x="12973" y="8062"/>
                </a:cubicBezTo>
                <a:cubicBezTo>
                  <a:pt x="12906" y="8097"/>
                  <a:pt x="12862" y="8167"/>
                  <a:pt x="12824" y="8235"/>
                </a:cubicBezTo>
                <a:cubicBezTo>
                  <a:pt x="12783" y="8308"/>
                  <a:pt x="12737" y="8400"/>
                  <a:pt x="12725" y="8483"/>
                </a:cubicBezTo>
                <a:cubicBezTo>
                  <a:pt x="12707" y="8605"/>
                  <a:pt x="12730" y="8702"/>
                  <a:pt x="12774" y="8806"/>
                </a:cubicBezTo>
                <a:cubicBezTo>
                  <a:pt x="12807" y="8883"/>
                  <a:pt x="12851" y="8953"/>
                  <a:pt x="12923" y="9004"/>
                </a:cubicBezTo>
                <a:cubicBezTo>
                  <a:pt x="12962" y="9032"/>
                  <a:pt x="13129" y="9095"/>
                  <a:pt x="13171" y="9079"/>
                </a:cubicBezTo>
                <a:cubicBezTo>
                  <a:pt x="13223" y="9027"/>
                  <a:pt x="13242" y="9010"/>
                  <a:pt x="13295" y="9004"/>
                </a:cubicBezTo>
              </a:path>
              <a:path w="1588" h="4566">
                <a:moveTo>
                  <a:pt x="13940" y="8483"/>
                </a:moveTo>
                <a:cubicBezTo>
                  <a:pt x="14013" y="8447"/>
                  <a:pt x="14018" y="8430"/>
                  <a:pt x="14064" y="8434"/>
                </a:cubicBezTo>
              </a:path>
              <a:path w="1588" h="4566">
                <a:moveTo>
                  <a:pt x="13791" y="8632"/>
                </a:moveTo>
                <a:cubicBezTo>
                  <a:pt x="13886" y="8656"/>
                  <a:pt x="13965" y="8657"/>
                  <a:pt x="14064" y="86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Ink 6"/>
          <p:cNvSpPr/>
          <p:nvPr/>
        </p:nvSpPr>
        <p:spPr>
          <a:xfrm>
            <a:off x="7348680" y="2170080"/>
            <a:ext cx="528480" cy="374760"/>
          </a:xfrm>
          <a:custGeom>
            <a:avLst/>
            <a:gdLst/>
            <a:ahLst/>
            <a:rect l="l" t="t" r="r" b="b"/>
            <a:pathLst>
              <a:path w="1465" h="1042">
                <a:moveTo>
                  <a:pt x="20811" y="6424"/>
                </a:moveTo>
                <a:cubicBezTo>
                  <a:pt x="20875" y="6456"/>
                  <a:pt x="20882" y="6393"/>
                  <a:pt x="20886" y="6325"/>
                </a:cubicBezTo>
                <a:cubicBezTo>
                  <a:pt x="20890" y="6246"/>
                  <a:pt x="20889" y="6176"/>
                  <a:pt x="20861" y="6102"/>
                </a:cubicBezTo>
                <a:cubicBezTo>
                  <a:pt x="20825" y="6007"/>
                  <a:pt x="20763" y="6026"/>
                  <a:pt x="20687" y="6052"/>
                </a:cubicBezTo>
                <a:cubicBezTo>
                  <a:pt x="20612" y="6078"/>
                  <a:pt x="20477" y="6133"/>
                  <a:pt x="20439" y="6201"/>
                </a:cubicBezTo>
                <a:cubicBezTo>
                  <a:pt x="20417" y="6240"/>
                  <a:pt x="20394" y="6360"/>
                  <a:pt x="20439" y="6400"/>
                </a:cubicBezTo>
                <a:cubicBezTo>
                  <a:pt x="20501" y="6455"/>
                  <a:pt x="20643" y="6453"/>
                  <a:pt x="20712" y="6424"/>
                </a:cubicBezTo>
                <a:cubicBezTo>
                  <a:pt x="20747" y="6409"/>
                  <a:pt x="20803" y="6334"/>
                  <a:pt x="20811" y="6300"/>
                </a:cubicBezTo>
                <a:cubicBezTo>
                  <a:pt x="20823" y="6250"/>
                  <a:pt x="20829" y="6228"/>
                  <a:pt x="20836" y="6176"/>
                </a:cubicBezTo>
                <a:cubicBezTo>
                  <a:pt x="20783" y="6229"/>
                  <a:pt x="20786" y="6249"/>
                  <a:pt x="20786" y="6325"/>
                </a:cubicBezTo>
                <a:cubicBezTo>
                  <a:pt x="20786" y="6413"/>
                  <a:pt x="20765" y="6487"/>
                  <a:pt x="20762" y="6573"/>
                </a:cubicBezTo>
                <a:cubicBezTo>
                  <a:pt x="20758" y="6680"/>
                  <a:pt x="20782" y="6766"/>
                  <a:pt x="20786" y="6871"/>
                </a:cubicBezTo>
                <a:cubicBezTo>
                  <a:pt x="20787" y="6907"/>
                  <a:pt x="20786" y="7090"/>
                  <a:pt x="20786" y="7045"/>
                </a:cubicBezTo>
              </a:path>
              <a:path w="1465" h="1042">
                <a:moveTo>
                  <a:pt x="21010" y="6871"/>
                </a:moveTo>
                <a:cubicBezTo>
                  <a:pt x="21042" y="6904"/>
                  <a:pt x="21041" y="6931"/>
                  <a:pt x="21059" y="6896"/>
                </a:cubicBezTo>
              </a:path>
              <a:path w="1465" h="1042">
                <a:moveTo>
                  <a:pt x="21406" y="6052"/>
                </a:moveTo>
                <a:cubicBezTo>
                  <a:pt x="21406" y="6173"/>
                  <a:pt x="21371" y="6252"/>
                  <a:pt x="21357" y="6375"/>
                </a:cubicBezTo>
                <a:cubicBezTo>
                  <a:pt x="21343" y="6495"/>
                  <a:pt x="21366" y="6607"/>
                  <a:pt x="21382" y="6722"/>
                </a:cubicBezTo>
                <a:cubicBezTo>
                  <a:pt x="21397" y="6824"/>
                  <a:pt x="21427" y="6835"/>
                  <a:pt x="21506" y="6896"/>
                </a:cubicBezTo>
                <a:cubicBezTo>
                  <a:pt x="21567" y="6944"/>
                  <a:pt x="21601" y="6945"/>
                  <a:pt x="21679" y="6945"/>
                </a:cubicBezTo>
                <a:cubicBezTo>
                  <a:pt x="21755" y="6945"/>
                  <a:pt x="21856" y="6850"/>
                  <a:pt x="21878" y="6772"/>
                </a:cubicBezTo>
                <a:cubicBezTo>
                  <a:pt x="21896" y="6709"/>
                  <a:pt x="21885" y="6614"/>
                  <a:pt x="21828" y="6573"/>
                </a:cubicBezTo>
                <a:cubicBezTo>
                  <a:pt x="21762" y="6525"/>
                  <a:pt x="21708" y="6549"/>
                  <a:pt x="21654" y="6598"/>
                </a:cubicBezTo>
                <a:cubicBezTo>
                  <a:pt x="21587" y="6659"/>
                  <a:pt x="21599" y="6721"/>
                  <a:pt x="21630" y="6796"/>
                </a:cubicBezTo>
                <a:cubicBezTo>
                  <a:pt x="21656" y="6860"/>
                  <a:pt x="21706" y="6897"/>
                  <a:pt x="21754" y="694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Ink 7"/>
          <p:cNvSpPr/>
          <p:nvPr/>
        </p:nvSpPr>
        <p:spPr>
          <a:xfrm>
            <a:off x="6777000" y="1660680"/>
            <a:ext cx="384120" cy="285480"/>
          </a:xfrm>
          <a:custGeom>
            <a:avLst/>
            <a:gdLst/>
            <a:ahLst/>
            <a:rect l="l" t="t" r="r" b="b"/>
            <a:pathLst>
              <a:path w="1067" h="794">
                <a:moveTo>
                  <a:pt x="19273" y="4713"/>
                </a:moveTo>
                <a:cubicBezTo>
                  <a:pt x="19273" y="4781"/>
                  <a:pt x="19265" y="4832"/>
                  <a:pt x="19298" y="4887"/>
                </a:cubicBezTo>
                <a:cubicBezTo>
                  <a:pt x="19289" y="4823"/>
                  <a:pt x="19282" y="4749"/>
                  <a:pt x="19248" y="4688"/>
                </a:cubicBezTo>
                <a:cubicBezTo>
                  <a:pt x="19212" y="4623"/>
                  <a:pt x="19161" y="4615"/>
                  <a:pt x="19100" y="4638"/>
                </a:cubicBezTo>
                <a:cubicBezTo>
                  <a:pt x="18990" y="4681"/>
                  <a:pt x="18957" y="4734"/>
                  <a:pt x="18901" y="4837"/>
                </a:cubicBezTo>
                <a:cubicBezTo>
                  <a:pt x="18858" y="4915"/>
                  <a:pt x="18839" y="4998"/>
                  <a:pt x="18827" y="5085"/>
                </a:cubicBezTo>
                <a:cubicBezTo>
                  <a:pt x="18816" y="5162"/>
                  <a:pt x="18822" y="5239"/>
                  <a:pt x="18852" y="5308"/>
                </a:cubicBezTo>
                <a:cubicBezTo>
                  <a:pt x="18884" y="5382"/>
                  <a:pt x="18936" y="5466"/>
                  <a:pt x="19025" y="5383"/>
                </a:cubicBezTo>
                <a:cubicBezTo>
                  <a:pt x="19065" y="5346"/>
                  <a:pt x="19137" y="5238"/>
                  <a:pt x="19149" y="5184"/>
                </a:cubicBezTo>
                <a:cubicBezTo>
                  <a:pt x="19162" y="5127"/>
                  <a:pt x="19191" y="5070"/>
                  <a:pt x="19199" y="5011"/>
                </a:cubicBezTo>
                <a:cubicBezTo>
                  <a:pt x="19199" y="4945"/>
                  <a:pt x="19199" y="4928"/>
                  <a:pt x="19199" y="4887"/>
                </a:cubicBezTo>
                <a:cubicBezTo>
                  <a:pt x="19179" y="4926"/>
                  <a:pt x="19199" y="4971"/>
                  <a:pt x="19199" y="5035"/>
                </a:cubicBezTo>
                <a:cubicBezTo>
                  <a:pt x="19199" y="5086"/>
                  <a:pt x="19220" y="5163"/>
                  <a:pt x="19248" y="5209"/>
                </a:cubicBezTo>
                <a:cubicBezTo>
                  <a:pt x="19274" y="5251"/>
                  <a:pt x="19322" y="5292"/>
                  <a:pt x="19372" y="5283"/>
                </a:cubicBezTo>
                <a:cubicBezTo>
                  <a:pt x="19397" y="5275"/>
                  <a:pt x="19422" y="5267"/>
                  <a:pt x="19447" y="5259"/>
                </a:cubicBezTo>
              </a:path>
              <a:path w="1067" h="794">
                <a:moveTo>
                  <a:pt x="19621" y="4887"/>
                </a:moveTo>
                <a:cubicBezTo>
                  <a:pt x="19676" y="4859"/>
                  <a:pt x="19751" y="4840"/>
                  <a:pt x="19819" y="4837"/>
                </a:cubicBezTo>
                <a:cubicBezTo>
                  <a:pt x="19844" y="4837"/>
                  <a:pt x="19868" y="4837"/>
                  <a:pt x="19893" y="4837"/>
                </a:cubicBezTo>
              </a:path>
              <a:path w="1067" h="794">
                <a:moveTo>
                  <a:pt x="19670" y="5060"/>
                </a:moveTo>
                <a:cubicBezTo>
                  <a:pt x="19736" y="5060"/>
                  <a:pt x="19803" y="5060"/>
                  <a:pt x="19869" y="50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Ink 8"/>
          <p:cNvSpPr/>
          <p:nvPr/>
        </p:nvSpPr>
        <p:spPr>
          <a:xfrm>
            <a:off x="6804000" y="2205000"/>
            <a:ext cx="357120" cy="312840"/>
          </a:xfrm>
          <a:custGeom>
            <a:avLst/>
            <a:gdLst/>
            <a:ahLst/>
            <a:rect l="l" t="t" r="r" b="b"/>
            <a:pathLst>
              <a:path w="993" h="869">
                <a:moveTo>
                  <a:pt x="18901" y="6127"/>
                </a:moveTo>
                <a:cubicBezTo>
                  <a:pt x="18920" y="6231"/>
                  <a:pt x="18913" y="6322"/>
                  <a:pt x="18926" y="6424"/>
                </a:cubicBezTo>
                <a:cubicBezTo>
                  <a:pt x="18940" y="6530"/>
                  <a:pt x="18936" y="6643"/>
                  <a:pt x="18951" y="6747"/>
                </a:cubicBezTo>
                <a:cubicBezTo>
                  <a:pt x="18968" y="6860"/>
                  <a:pt x="18976" y="6989"/>
                  <a:pt x="18976" y="6821"/>
                </a:cubicBezTo>
                <a:cubicBezTo>
                  <a:pt x="18976" y="6750"/>
                  <a:pt x="18978" y="6685"/>
                  <a:pt x="19000" y="6623"/>
                </a:cubicBezTo>
                <a:cubicBezTo>
                  <a:pt x="19012" y="6588"/>
                  <a:pt x="19060" y="6439"/>
                  <a:pt x="19100" y="6424"/>
                </a:cubicBezTo>
                <a:cubicBezTo>
                  <a:pt x="19153" y="6404"/>
                  <a:pt x="19241" y="6455"/>
                  <a:pt x="19273" y="6499"/>
                </a:cubicBezTo>
                <a:cubicBezTo>
                  <a:pt x="19312" y="6553"/>
                  <a:pt x="19387" y="6679"/>
                  <a:pt x="19372" y="6747"/>
                </a:cubicBezTo>
                <a:cubicBezTo>
                  <a:pt x="19352" y="6837"/>
                  <a:pt x="19287" y="6920"/>
                  <a:pt x="19199" y="6945"/>
                </a:cubicBezTo>
                <a:cubicBezTo>
                  <a:pt x="19129" y="6965"/>
                  <a:pt x="19046" y="6950"/>
                  <a:pt x="18976" y="6970"/>
                </a:cubicBezTo>
                <a:cubicBezTo>
                  <a:pt x="18913" y="6987"/>
                  <a:pt x="18917" y="7009"/>
                  <a:pt x="18901" y="6945"/>
                </a:cubicBezTo>
              </a:path>
              <a:path w="993" h="869">
                <a:moveTo>
                  <a:pt x="19769" y="6424"/>
                </a:moveTo>
                <a:cubicBezTo>
                  <a:pt x="19843" y="6406"/>
                  <a:pt x="19850" y="6398"/>
                  <a:pt x="19893" y="6400"/>
                </a:cubicBezTo>
              </a:path>
              <a:path w="993" h="869">
                <a:moveTo>
                  <a:pt x="19596" y="6598"/>
                </a:moveTo>
                <a:cubicBezTo>
                  <a:pt x="19687" y="6598"/>
                  <a:pt x="19778" y="6598"/>
                  <a:pt x="19869" y="65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Ink 9"/>
          <p:cNvSpPr/>
          <p:nvPr/>
        </p:nvSpPr>
        <p:spPr>
          <a:xfrm>
            <a:off x="7296120" y="2894040"/>
            <a:ext cx="276120" cy="428760"/>
          </a:xfrm>
          <a:custGeom>
            <a:avLst/>
            <a:gdLst/>
            <a:ahLst/>
            <a:rect l="l" t="t" r="r" b="b"/>
            <a:pathLst>
              <a:path w="770" h="1191">
                <a:moveTo>
                  <a:pt x="20464" y="8136"/>
                </a:moveTo>
                <a:cubicBezTo>
                  <a:pt x="20433" y="8074"/>
                  <a:pt x="20518" y="8052"/>
                  <a:pt x="20588" y="8037"/>
                </a:cubicBezTo>
                <a:cubicBezTo>
                  <a:pt x="20648" y="8024"/>
                  <a:pt x="20734" y="8031"/>
                  <a:pt x="20786" y="8062"/>
                </a:cubicBezTo>
                <a:cubicBezTo>
                  <a:pt x="20857" y="8105"/>
                  <a:pt x="20842" y="8198"/>
                  <a:pt x="20811" y="8260"/>
                </a:cubicBezTo>
                <a:cubicBezTo>
                  <a:pt x="20790" y="8301"/>
                  <a:pt x="20744" y="8317"/>
                  <a:pt x="20712" y="8334"/>
                </a:cubicBezTo>
                <a:cubicBezTo>
                  <a:pt x="20635" y="8375"/>
                  <a:pt x="20648" y="8392"/>
                  <a:pt x="20563" y="8409"/>
                </a:cubicBezTo>
                <a:cubicBezTo>
                  <a:pt x="20646" y="8409"/>
                  <a:pt x="20732" y="8399"/>
                  <a:pt x="20811" y="8434"/>
                </a:cubicBezTo>
                <a:cubicBezTo>
                  <a:pt x="20889" y="8469"/>
                  <a:pt x="20940" y="8510"/>
                  <a:pt x="20985" y="8582"/>
                </a:cubicBezTo>
                <a:cubicBezTo>
                  <a:pt x="21020" y="8638"/>
                  <a:pt x="21031" y="8716"/>
                  <a:pt x="21034" y="8781"/>
                </a:cubicBezTo>
                <a:cubicBezTo>
                  <a:pt x="21037" y="8859"/>
                  <a:pt x="21046" y="8934"/>
                  <a:pt x="21010" y="9004"/>
                </a:cubicBezTo>
                <a:cubicBezTo>
                  <a:pt x="20963" y="9095"/>
                  <a:pt x="20891" y="9121"/>
                  <a:pt x="20811" y="9153"/>
                </a:cubicBezTo>
                <a:cubicBezTo>
                  <a:pt x="20742" y="9180"/>
                  <a:pt x="20689" y="9178"/>
                  <a:pt x="20613" y="9178"/>
                </a:cubicBezTo>
                <a:cubicBezTo>
                  <a:pt x="20492" y="9178"/>
                  <a:pt x="20423" y="9194"/>
                  <a:pt x="20340" y="9227"/>
                </a:cubicBezTo>
                <a:cubicBezTo>
                  <a:pt x="20278" y="9251"/>
                  <a:pt x="20287" y="9193"/>
                  <a:pt x="20265" y="91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Ink 10"/>
          <p:cNvSpPr/>
          <p:nvPr/>
        </p:nvSpPr>
        <p:spPr>
          <a:xfrm>
            <a:off x="6643800" y="2901960"/>
            <a:ext cx="374400" cy="349200"/>
          </a:xfrm>
          <a:custGeom>
            <a:avLst/>
            <a:gdLst/>
            <a:ahLst/>
            <a:rect l="l" t="t" r="r" b="b"/>
            <a:pathLst>
              <a:path w="1042" h="968">
                <a:moveTo>
                  <a:pt x="18752" y="8186"/>
                </a:moveTo>
                <a:cubicBezTo>
                  <a:pt x="18802" y="8245"/>
                  <a:pt x="18793" y="8235"/>
                  <a:pt x="18876" y="8235"/>
                </a:cubicBezTo>
                <a:cubicBezTo>
                  <a:pt x="18856" y="8179"/>
                  <a:pt x="18857" y="8121"/>
                  <a:pt x="18802" y="8086"/>
                </a:cubicBezTo>
                <a:cubicBezTo>
                  <a:pt x="18733" y="8043"/>
                  <a:pt x="18703" y="8060"/>
                  <a:pt x="18653" y="8111"/>
                </a:cubicBezTo>
                <a:cubicBezTo>
                  <a:pt x="18582" y="8183"/>
                  <a:pt x="18548" y="8222"/>
                  <a:pt x="18504" y="8310"/>
                </a:cubicBezTo>
                <a:cubicBezTo>
                  <a:pt x="18458" y="8400"/>
                  <a:pt x="18455" y="8456"/>
                  <a:pt x="18455" y="8558"/>
                </a:cubicBezTo>
                <a:cubicBezTo>
                  <a:pt x="18455" y="8679"/>
                  <a:pt x="18457" y="8774"/>
                  <a:pt x="18529" y="8880"/>
                </a:cubicBezTo>
                <a:cubicBezTo>
                  <a:pt x="18574" y="8947"/>
                  <a:pt x="18679" y="8996"/>
                  <a:pt x="18752" y="9004"/>
                </a:cubicBezTo>
                <a:cubicBezTo>
                  <a:pt x="18832" y="9013"/>
                  <a:pt x="18875" y="9019"/>
                  <a:pt x="18951" y="9004"/>
                </a:cubicBezTo>
              </a:path>
              <a:path w="1042" h="968">
                <a:moveTo>
                  <a:pt x="19273" y="8558"/>
                </a:moveTo>
                <a:cubicBezTo>
                  <a:pt x="19381" y="8499"/>
                  <a:pt x="19400" y="8485"/>
                  <a:pt x="19496" y="8558"/>
                </a:cubicBezTo>
              </a:path>
              <a:path w="1042" h="968">
                <a:moveTo>
                  <a:pt x="19273" y="8657"/>
                </a:moveTo>
                <a:cubicBezTo>
                  <a:pt x="19425" y="8690"/>
                  <a:pt x="19383" y="8728"/>
                  <a:pt x="19496" y="86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Ink 11"/>
          <p:cNvSpPr/>
          <p:nvPr/>
        </p:nvSpPr>
        <p:spPr>
          <a:xfrm>
            <a:off x="7313760" y="1562040"/>
            <a:ext cx="250560" cy="420840"/>
          </a:xfrm>
          <a:custGeom>
            <a:avLst/>
            <a:gdLst/>
            <a:ahLst/>
            <a:rect l="l" t="t" r="r" b="b"/>
            <a:pathLst>
              <a:path w="696" h="1167">
                <a:moveTo>
                  <a:pt x="20315" y="4490"/>
                </a:moveTo>
                <a:cubicBezTo>
                  <a:pt x="20315" y="4534"/>
                  <a:pt x="20312" y="4548"/>
                  <a:pt x="20340" y="4564"/>
                </a:cubicBezTo>
                <a:cubicBezTo>
                  <a:pt x="20377" y="4518"/>
                  <a:pt x="20413" y="4454"/>
                  <a:pt x="20389" y="4390"/>
                </a:cubicBezTo>
                <a:cubicBezTo>
                  <a:pt x="20365" y="4366"/>
                  <a:pt x="20357" y="4358"/>
                  <a:pt x="20389" y="4341"/>
                </a:cubicBezTo>
                <a:cubicBezTo>
                  <a:pt x="20525" y="4341"/>
                  <a:pt x="20665" y="4343"/>
                  <a:pt x="20786" y="4366"/>
                </a:cubicBezTo>
                <a:cubicBezTo>
                  <a:pt x="20867" y="4381"/>
                  <a:pt x="20939" y="4349"/>
                  <a:pt x="21010" y="4390"/>
                </a:cubicBezTo>
                <a:cubicBezTo>
                  <a:pt x="20986" y="4461"/>
                  <a:pt x="20978" y="4522"/>
                  <a:pt x="20960" y="4589"/>
                </a:cubicBezTo>
                <a:cubicBezTo>
                  <a:pt x="20933" y="4688"/>
                  <a:pt x="20895" y="4791"/>
                  <a:pt x="20861" y="4887"/>
                </a:cubicBezTo>
                <a:cubicBezTo>
                  <a:pt x="20822" y="4995"/>
                  <a:pt x="20778" y="5096"/>
                  <a:pt x="20762" y="5209"/>
                </a:cubicBezTo>
                <a:cubicBezTo>
                  <a:pt x="20752" y="5285"/>
                  <a:pt x="20741" y="5356"/>
                  <a:pt x="20737" y="5432"/>
                </a:cubicBezTo>
                <a:cubicBezTo>
                  <a:pt x="20737" y="5477"/>
                  <a:pt x="20740" y="5490"/>
                  <a:pt x="20712" y="55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Ink 12"/>
          <p:cNvSpPr/>
          <p:nvPr/>
        </p:nvSpPr>
        <p:spPr>
          <a:xfrm>
            <a:off x="5241960" y="1554120"/>
            <a:ext cx="642960" cy="1633680"/>
          </a:xfrm>
          <a:custGeom>
            <a:avLst/>
            <a:gdLst/>
            <a:ahLst/>
            <a:rect l="l" t="t" r="r" b="b"/>
            <a:pathLst>
              <a:path w="1787" h="4540">
                <a:moveTo>
                  <a:pt x="14635" y="4638"/>
                </a:moveTo>
                <a:cubicBezTo>
                  <a:pt x="14656" y="4596"/>
                  <a:pt x="14683" y="4509"/>
                  <a:pt x="14734" y="4490"/>
                </a:cubicBezTo>
                <a:cubicBezTo>
                  <a:pt x="14821" y="4458"/>
                  <a:pt x="14906" y="4453"/>
                  <a:pt x="14982" y="4490"/>
                </a:cubicBezTo>
                <a:cubicBezTo>
                  <a:pt x="15049" y="4523"/>
                  <a:pt x="15078" y="4557"/>
                  <a:pt x="15056" y="4638"/>
                </a:cubicBezTo>
                <a:cubicBezTo>
                  <a:pt x="15029" y="4737"/>
                  <a:pt x="14979" y="4801"/>
                  <a:pt x="14932" y="4887"/>
                </a:cubicBezTo>
                <a:cubicBezTo>
                  <a:pt x="14874" y="4993"/>
                  <a:pt x="14822" y="5082"/>
                  <a:pt x="14759" y="5184"/>
                </a:cubicBezTo>
                <a:cubicBezTo>
                  <a:pt x="14697" y="5285"/>
                  <a:pt x="14674" y="5383"/>
                  <a:pt x="14585" y="5457"/>
                </a:cubicBezTo>
                <a:cubicBezTo>
                  <a:pt x="14577" y="5465"/>
                  <a:pt x="14568" y="5474"/>
                  <a:pt x="14560" y="5482"/>
                </a:cubicBezTo>
                <a:cubicBezTo>
                  <a:pt x="14608" y="5506"/>
                  <a:pt x="14660" y="5461"/>
                  <a:pt x="14734" y="5457"/>
                </a:cubicBezTo>
                <a:cubicBezTo>
                  <a:pt x="14840" y="5451"/>
                  <a:pt x="15111" y="5499"/>
                  <a:pt x="15156" y="5432"/>
                </a:cubicBezTo>
              </a:path>
              <a:path w="1787" h="4540">
                <a:moveTo>
                  <a:pt x="15429" y="4614"/>
                </a:moveTo>
                <a:cubicBezTo>
                  <a:pt x="15482" y="4595"/>
                  <a:pt x="15444" y="4659"/>
                  <a:pt x="15429" y="4713"/>
                </a:cubicBezTo>
                <a:cubicBezTo>
                  <a:pt x="15419" y="4750"/>
                  <a:pt x="15364" y="4886"/>
                  <a:pt x="15429" y="4911"/>
                </a:cubicBezTo>
                <a:cubicBezTo>
                  <a:pt x="15497" y="4937"/>
                  <a:pt x="15508" y="4915"/>
                  <a:pt x="15577" y="4911"/>
                </a:cubicBezTo>
                <a:cubicBezTo>
                  <a:pt x="15654" y="4906"/>
                  <a:pt x="15692" y="4864"/>
                  <a:pt x="15751" y="4812"/>
                </a:cubicBezTo>
              </a:path>
              <a:path w="1787" h="4540">
                <a:moveTo>
                  <a:pt x="15801" y="4390"/>
                </a:moveTo>
                <a:cubicBezTo>
                  <a:pt x="15742" y="4449"/>
                  <a:pt x="15772" y="4465"/>
                  <a:pt x="15751" y="4539"/>
                </a:cubicBezTo>
                <a:cubicBezTo>
                  <a:pt x="15730" y="4615"/>
                  <a:pt x="15742" y="4685"/>
                  <a:pt x="15726" y="4762"/>
                </a:cubicBezTo>
                <a:cubicBezTo>
                  <a:pt x="15704" y="4865"/>
                  <a:pt x="15701" y="4953"/>
                  <a:pt x="15701" y="5060"/>
                </a:cubicBezTo>
                <a:cubicBezTo>
                  <a:pt x="15701" y="5140"/>
                  <a:pt x="15685" y="5210"/>
                  <a:pt x="15677" y="5283"/>
                </a:cubicBezTo>
                <a:cubicBezTo>
                  <a:pt x="15677" y="5361"/>
                  <a:pt x="15693" y="5379"/>
                  <a:pt x="15652" y="5407"/>
                </a:cubicBezTo>
                <a:cubicBezTo>
                  <a:pt x="15660" y="5352"/>
                  <a:pt x="15669" y="5338"/>
                  <a:pt x="15677" y="5283"/>
                </a:cubicBezTo>
              </a:path>
              <a:path w="1787" h="4540">
                <a:moveTo>
                  <a:pt x="16049" y="4366"/>
                </a:moveTo>
                <a:cubicBezTo>
                  <a:pt x="16075" y="4411"/>
                  <a:pt x="16054" y="4520"/>
                  <a:pt x="16123" y="4539"/>
                </a:cubicBezTo>
                <a:cubicBezTo>
                  <a:pt x="16216" y="4565"/>
                  <a:pt x="16233" y="4451"/>
                  <a:pt x="16222" y="4390"/>
                </a:cubicBezTo>
                <a:cubicBezTo>
                  <a:pt x="16208" y="4310"/>
                  <a:pt x="16133" y="4316"/>
                  <a:pt x="16073" y="4316"/>
                </a:cubicBezTo>
                <a:cubicBezTo>
                  <a:pt x="16065" y="4316"/>
                  <a:pt x="16057" y="4316"/>
                  <a:pt x="16049" y="4316"/>
                </a:cubicBezTo>
              </a:path>
              <a:path w="1787" h="4540">
                <a:moveTo>
                  <a:pt x="14784" y="7764"/>
                </a:moveTo>
                <a:cubicBezTo>
                  <a:pt x="14841" y="7822"/>
                  <a:pt x="14833" y="7856"/>
                  <a:pt x="14833" y="7938"/>
                </a:cubicBezTo>
                <a:cubicBezTo>
                  <a:pt x="14833" y="8027"/>
                  <a:pt x="14820" y="8100"/>
                  <a:pt x="14808" y="8186"/>
                </a:cubicBezTo>
                <a:cubicBezTo>
                  <a:pt x="14797" y="8263"/>
                  <a:pt x="14795" y="8333"/>
                  <a:pt x="14784" y="8409"/>
                </a:cubicBezTo>
                <a:cubicBezTo>
                  <a:pt x="14767" y="8523"/>
                  <a:pt x="14759" y="8618"/>
                  <a:pt x="14759" y="8731"/>
                </a:cubicBezTo>
                <a:cubicBezTo>
                  <a:pt x="14759" y="8779"/>
                  <a:pt x="14736" y="8939"/>
                  <a:pt x="14759" y="8806"/>
                </a:cubicBezTo>
              </a:path>
              <a:path w="1787" h="4540">
                <a:moveTo>
                  <a:pt x="15156" y="7813"/>
                </a:moveTo>
                <a:cubicBezTo>
                  <a:pt x="15156" y="7927"/>
                  <a:pt x="15147" y="8026"/>
                  <a:pt x="15131" y="8136"/>
                </a:cubicBezTo>
                <a:cubicBezTo>
                  <a:pt x="15121" y="8209"/>
                  <a:pt x="15109" y="8287"/>
                  <a:pt x="15106" y="8359"/>
                </a:cubicBezTo>
                <a:cubicBezTo>
                  <a:pt x="15102" y="8463"/>
                  <a:pt x="15109" y="8610"/>
                  <a:pt x="15156" y="8706"/>
                </a:cubicBezTo>
                <a:cubicBezTo>
                  <a:pt x="15203" y="8801"/>
                  <a:pt x="15292" y="8781"/>
                  <a:pt x="15379" y="8781"/>
                </a:cubicBezTo>
                <a:cubicBezTo>
                  <a:pt x="15474" y="8781"/>
                  <a:pt x="15498" y="8697"/>
                  <a:pt x="15553" y="8632"/>
                </a:cubicBezTo>
                <a:cubicBezTo>
                  <a:pt x="15612" y="8562"/>
                  <a:pt x="15637" y="8500"/>
                  <a:pt x="15652" y="8409"/>
                </a:cubicBezTo>
                <a:cubicBezTo>
                  <a:pt x="15677" y="8261"/>
                  <a:pt x="15683" y="8198"/>
                  <a:pt x="15627" y="8062"/>
                </a:cubicBezTo>
                <a:cubicBezTo>
                  <a:pt x="15592" y="7978"/>
                  <a:pt x="15550" y="7913"/>
                  <a:pt x="15503" y="7838"/>
                </a:cubicBezTo>
                <a:cubicBezTo>
                  <a:pt x="15468" y="7783"/>
                  <a:pt x="15399" y="7726"/>
                  <a:pt x="15329" y="7714"/>
                </a:cubicBezTo>
                <a:cubicBezTo>
                  <a:pt x="15243" y="7699"/>
                  <a:pt x="15166" y="7701"/>
                  <a:pt x="15156" y="7789"/>
                </a:cubicBezTo>
                <a:cubicBezTo>
                  <a:pt x="15156" y="7805"/>
                  <a:pt x="15156" y="7822"/>
                  <a:pt x="15156" y="7838"/>
                </a:cubicBezTo>
              </a:path>
              <a:path w="1787" h="4540">
                <a:moveTo>
                  <a:pt x="15751" y="7615"/>
                </a:moveTo>
                <a:cubicBezTo>
                  <a:pt x="15733" y="7687"/>
                  <a:pt x="15727" y="7679"/>
                  <a:pt x="15776" y="7739"/>
                </a:cubicBezTo>
                <a:cubicBezTo>
                  <a:pt x="15819" y="7717"/>
                  <a:pt x="15928" y="7683"/>
                  <a:pt x="15925" y="7615"/>
                </a:cubicBezTo>
                <a:cubicBezTo>
                  <a:pt x="15922" y="7554"/>
                  <a:pt x="15862" y="7480"/>
                  <a:pt x="15801" y="7466"/>
                </a:cubicBezTo>
                <a:cubicBezTo>
                  <a:pt x="15749" y="7466"/>
                  <a:pt x="15731" y="7465"/>
                  <a:pt x="15701" y="7441"/>
                </a:cubicBezTo>
              </a:path>
              <a:path w="1787" h="4540">
                <a:moveTo>
                  <a:pt x="14734" y="6152"/>
                </a:moveTo>
                <a:cubicBezTo>
                  <a:pt x="14734" y="6417"/>
                  <a:pt x="14743" y="6689"/>
                  <a:pt x="14709" y="6945"/>
                </a:cubicBezTo>
                <a:cubicBezTo>
                  <a:pt x="14699" y="7020"/>
                  <a:pt x="14718" y="7052"/>
                  <a:pt x="14684" y="7119"/>
                </a:cubicBezTo>
              </a:path>
              <a:path w="1787" h="4540">
                <a:moveTo>
                  <a:pt x="14982" y="6226"/>
                </a:moveTo>
                <a:cubicBezTo>
                  <a:pt x="15022" y="6305"/>
                  <a:pt x="14994" y="6342"/>
                  <a:pt x="14957" y="6424"/>
                </a:cubicBezTo>
                <a:cubicBezTo>
                  <a:pt x="14937" y="6468"/>
                  <a:pt x="14897" y="6551"/>
                  <a:pt x="14908" y="6598"/>
                </a:cubicBezTo>
                <a:cubicBezTo>
                  <a:pt x="14934" y="6714"/>
                  <a:pt x="15038" y="6657"/>
                  <a:pt x="15106" y="6648"/>
                </a:cubicBezTo>
                <a:cubicBezTo>
                  <a:pt x="15198" y="6636"/>
                  <a:pt x="15255" y="6632"/>
                  <a:pt x="15329" y="6573"/>
                </a:cubicBezTo>
              </a:path>
              <a:path w="1787" h="4540">
                <a:moveTo>
                  <a:pt x="15304" y="6028"/>
                </a:moveTo>
                <a:cubicBezTo>
                  <a:pt x="15284" y="6126"/>
                  <a:pt x="15280" y="6201"/>
                  <a:pt x="15280" y="6300"/>
                </a:cubicBezTo>
                <a:cubicBezTo>
                  <a:pt x="15280" y="6401"/>
                  <a:pt x="15304" y="6494"/>
                  <a:pt x="15304" y="6598"/>
                </a:cubicBezTo>
                <a:cubicBezTo>
                  <a:pt x="15304" y="6684"/>
                  <a:pt x="15310" y="6811"/>
                  <a:pt x="15329" y="6896"/>
                </a:cubicBezTo>
                <a:cubicBezTo>
                  <a:pt x="15345" y="6966"/>
                  <a:pt x="15354" y="7018"/>
                  <a:pt x="15354" y="7094"/>
                </a:cubicBezTo>
              </a:path>
              <a:path w="1787" h="4540">
                <a:moveTo>
                  <a:pt x="15677" y="6003"/>
                </a:moveTo>
                <a:cubicBezTo>
                  <a:pt x="15677" y="6109"/>
                  <a:pt x="15664" y="6198"/>
                  <a:pt x="15652" y="6300"/>
                </a:cubicBezTo>
                <a:cubicBezTo>
                  <a:pt x="15642" y="6389"/>
                  <a:pt x="15631" y="6485"/>
                  <a:pt x="15627" y="6573"/>
                </a:cubicBezTo>
                <a:cubicBezTo>
                  <a:pt x="15623" y="6671"/>
                  <a:pt x="15631" y="6777"/>
                  <a:pt x="15652" y="6871"/>
                </a:cubicBezTo>
                <a:cubicBezTo>
                  <a:pt x="15667" y="6940"/>
                  <a:pt x="15698" y="7026"/>
                  <a:pt x="15776" y="7045"/>
                </a:cubicBezTo>
                <a:cubicBezTo>
                  <a:pt x="15838" y="7060"/>
                  <a:pt x="15907" y="7008"/>
                  <a:pt x="15949" y="6970"/>
                </a:cubicBezTo>
                <a:cubicBezTo>
                  <a:pt x="16000" y="6924"/>
                  <a:pt x="16020" y="6861"/>
                  <a:pt x="16024" y="6796"/>
                </a:cubicBezTo>
                <a:cubicBezTo>
                  <a:pt x="16027" y="6734"/>
                  <a:pt x="16010" y="6643"/>
                  <a:pt x="15974" y="6598"/>
                </a:cubicBezTo>
                <a:cubicBezTo>
                  <a:pt x="15949" y="6573"/>
                  <a:pt x="15941" y="6565"/>
                  <a:pt x="15925" y="6548"/>
                </a:cubicBezTo>
                <a:cubicBezTo>
                  <a:pt x="15834" y="6600"/>
                  <a:pt x="15829" y="6640"/>
                  <a:pt x="15825" y="6747"/>
                </a:cubicBezTo>
                <a:cubicBezTo>
                  <a:pt x="15823" y="6805"/>
                  <a:pt x="15807" y="6891"/>
                  <a:pt x="15875" y="6921"/>
                </a:cubicBezTo>
                <a:cubicBezTo>
                  <a:pt x="15883" y="6921"/>
                  <a:pt x="15892" y="6921"/>
                  <a:pt x="15900" y="6921"/>
                </a:cubicBezTo>
              </a:path>
              <a:path w="1787" h="4540">
                <a:moveTo>
                  <a:pt x="16123" y="6102"/>
                </a:moveTo>
                <a:cubicBezTo>
                  <a:pt x="16117" y="6147"/>
                  <a:pt x="16071" y="6256"/>
                  <a:pt x="16148" y="6276"/>
                </a:cubicBezTo>
                <a:cubicBezTo>
                  <a:pt x="16214" y="6294"/>
                  <a:pt x="16272" y="6238"/>
                  <a:pt x="16321" y="6201"/>
                </a:cubicBezTo>
                <a:cubicBezTo>
                  <a:pt x="16392" y="6147"/>
                  <a:pt x="16322" y="6081"/>
                  <a:pt x="16272" y="6052"/>
                </a:cubicBezTo>
                <a:cubicBezTo>
                  <a:pt x="16198" y="6017"/>
                  <a:pt x="16158" y="5999"/>
                  <a:pt x="16098" y="59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Ink 13"/>
          <p:cNvSpPr/>
          <p:nvPr/>
        </p:nvSpPr>
        <p:spPr>
          <a:xfrm>
            <a:off x="633240" y="3160800"/>
            <a:ext cx="2305080" cy="903240"/>
          </a:xfrm>
          <a:custGeom>
            <a:avLst/>
            <a:gdLst/>
            <a:ahLst/>
            <a:rect l="l" t="t" r="r" b="b"/>
            <a:pathLst>
              <a:path w="6401" h="2506">
                <a:moveTo>
                  <a:pt x="2307" y="9376"/>
                </a:moveTo>
                <a:cubicBezTo>
                  <a:pt x="2307" y="9401"/>
                  <a:pt x="2307" y="9426"/>
                  <a:pt x="2307" y="9451"/>
                </a:cubicBezTo>
                <a:cubicBezTo>
                  <a:pt x="2280" y="9390"/>
                  <a:pt x="2239" y="9349"/>
                  <a:pt x="2183" y="9327"/>
                </a:cubicBezTo>
                <a:cubicBezTo>
                  <a:pt x="2114" y="9300"/>
                  <a:pt x="2057" y="9356"/>
                  <a:pt x="2009" y="9376"/>
                </a:cubicBezTo>
                <a:cubicBezTo>
                  <a:pt x="1944" y="9403"/>
                  <a:pt x="1914" y="9447"/>
                  <a:pt x="1960" y="9500"/>
                </a:cubicBezTo>
                <a:cubicBezTo>
                  <a:pt x="2009" y="9556"/>
                  <a:pt x="2046" y="9575"/>
                  <a:pt x="2108" y="9599"/>
                </a:cubicBezTo>
                <a:cubicBezTo>
                  <a:pt x="2158" y="9618"/>
                  <a:pt x="2253" y="9657"/>
                  <a:pt x="2282" y="9699"/>
                </a:cubicBezTo>
                <a:cubicBezTo>
                  <a:pt x="2326" y="9761"/>
                  <a:pt x="2373" y="9835"/>
                  <a:pt x="2282" y="9897"/>
                </a:cubicBezTo>
                <a:cubicBezTo>
                  <a:pt x="2214" y="9943"/>
                  <a:pt x="2058" y="9887"/>
                  <a:pt x="2009" y="9847"/>
                </a:cubicBezTo>
                <a:cubicBezTo>
                  <a:pt x="1965" y="9811"/>
                  <a:pt x="1979" y="9793"/>
                  <a:pt x="2009" y="9773"/>
                </a:cubicBezTo>
              </a:path>
              <a:path w="6401" h="2506">
                <a:moveTo>
                  <a:pt x="2679" y="9599"/>
                </a:moveTo>
                <a:cubicBezTo>
                  <a:pt x="2672" y="9677"/>
                  <a:pt x="2654" y="9745"/>
                  <a:pt x="2654" y="9823"/>
                </a:cubicBezTo>
                <a:cubicBezTo>
                  <a:pt x="2654" y="9889"/>
                  <a:pt x="2654" y="9922"/>
                  <a:pt x="2654" y="9847"/>
                </a:cubicBezTo>
              </a:path>
              <a:path w="6401" h="2506">
                <a:moveTo>
                  <a:pt x="2704" y="9227"/>
                </a:moveTo>
                <a:cubicBezTo>
                  <a:pt x="2712" y="9211"/>
                  <a:pt x="2721" y="9194"/>
                  <a:pt x="2729" y="9178"/>
                </a:cubicBezTo>
              </a:path>
              <a:path w="6401" h="2506">
                <a:moveTo>
                  <a:pt x="2927" y="9599"/>
                </a:moveTo>
                <a:cubicBezTo>
                  <a:pt x="2909" y="9707"/>
                  <a:pt x="2901" y="9714"/>
                  <a:pt x="2902" y="9773"/>
                </a:cubicBezTo>
                <a:cubicBezTo>
                  <a:pt x="2902" y="9675"/>
                  <a:pt x="2912" y="9591"/>
                  <a:pt x="2952" y="9500"/>
                </a:cubicBezTo>
                <a:cubicBezTo>
                  <a:pt x="2979" y="9439"/>
                  <a:pt x="3013" y="9349"/>
                  <a:pt x="3101" y="9376"/>
                </a:cubicBezTo>
                <a:cubicBezTo>
                  <a:pt x="3132" y="9386"/>
                  <a:pt x="3217" y="9468"/>
                  <a:pt x="3225" y="9500"/>
                </a:cubicBezTo>
                <a:cubicBezTo>
                  <a:pt x="3241" y="9565"/>
                  <a:pt x="3249" y="9629"/>
                  <a:pt x="3249" y="9699"/>
                </a:cubicBezTo>
                <a:cubicBezTo>
                  <a:pt x="3249" y="9766"/>
                  <a:pt x="3254" y="9779"/>
                  <a:pt x="3249" y="9847"/>
                </a:cubicBezTo>
                <a:cubicBezTo>
                  <a:pt x="3249" y="9864"/>
                  <a:pt x="3249" y="9880"/>
                  <a:pt x="3249" y="9897"/>
                </a:cubicBezTo>
              </a:path>
              <a:path w="6401" h="2506">
                <a:moveTo>
                  <a:pt x="3423" y="9252"/>
                </a:moveTo>
                <a:cubicBezTo>
                  <a:pt x="3565" y="9216"/>
                  <a:pt x="3599" y="9212"/>
                  <a:pt x="3721" y="9302"/>
                </a:cubicBezTo>
                <a:cubicBezTo>
                  <a:pt x="3790" y="9353"/>
                  <a:pt x="3715" y="9423"/>
                  <a:pt x="3696" y="9451"/>
                </a:cubicBezTo>
                <a:cubicBezTo>
                  <a:pt x="3671" y="9486"/>
                  <a:pt x="3608" y="9579"/>
                  <a:pt x="3597" y="9599"/>
                </a:cubicBezTo>
                <a:cubicBezTo>
                  <a:pt x="3559" y="9671"/>
                  <a:pt x="3546" y="9681"/>
                  <a:pt x="3497" y="9748"/>
                </a:cubicBezTo>
                <a:cubicBezTo>
                  <a:pt x="3469" y="9777"/>
                  <a:pt x="3461" y="9790"/>
                  <a:pt x="3473" y="9823"/>
                </a:cubicBezTo>
                <a:cubicBezTo>
                  <a:pt x="3585" y="9850"/>
                  <a:pt x="3660" y="9844"/>
                  <a:pt x="3770" y="9823"/>
                </a:cubicBezTo>
                <a:cubicBezTo>
                  <a:pt x="3778" y="9823"/>
                  <a:pt x="3787" y="9823"/>
                  <a:pt x="3795" y="9823"/>
                </a:cubicBezTo>
              </a:path>
              <a:path w="6401" h="2506">
                <a:moveTo>
                  <a:pt x="3994" y="9302"/>
                </a:moveTo>
                <a:cubicBezTo>
                  <a:pt x="3994" y="9368"/>
                  <a:pt x="3997" y="9420"/>
                  <a:pt x="4018" y="9475"/>
                </a:cubicBezTo>
                <a:cubicBezTo>
                  <a:pt x="4070" y="9611"/>
                  <a:pt x="4098" y="9629"/>
                  <a:pt x="4192" y="9525"/>
                </a:cubicBezTo>
              </a:path>
              <a:path w="6401" h="2506">
                <a:moveTo>
                  <a:pt x="4242" y="9227"/>
                </a:moveTo>
                <a:cubicBezTo>
                  <a:pt x="4275" y="9261"/>
                  <a:pt x="4266" y="9333"/>
                  <a:pt x="4266" y="9401"/>
                </a:cubicBezTo>
                <a:cubicBezTo>
                  <a:pt x="4266" y="9522"/>
                  <a:pt x="4262" y="9631"/>
                  <a:pt x="4242" y="9748"/>
                </a:cubicBezTo>
                <a:cubicBezTo>
                  <a:pt x="4236" y="9782"/>
                  <a:pt x="4253" y="9979"/>
                  <a:pt x="4266" y="9971"/>
                </a:cubicBezTo>
                <a:cubicBezTo>
                  <a:pt x="4274" y="9946"/>
                  <a:pt x="4283" y="9922"/>
                  <a:pt x="4291" y="9897"/>
                </a:cubicBezTo>
              </a:path>
              <a:path w="6401" h="2506">
                <a:moveTo>
                  <a:pt x="4490" y="9153"/>
                </a:moveTo>
                <a:cubicBezTo>
                  <a:pt x="4490" y="9229"/>
                  <a:pt x="4483" y="9247"/>
                  <a:pt x="4564" y="9252"/>
                </a:cubicBezTo>
                <a:cubicBezTo>
                  <a:pt x="4626" y="9256"/>
                  <a:pt x="4691" y="9229"/>
                  <a:pt x="4663" y="9153"/>
                </a:cubicBezTo>
                <a:cubicBezTo>
                  <a:pt x="4626" y="9053"/>
                  <a:pt x="4575" y="9079"/>
                  <a:pt x="4490" y="9079"/>
                </a:cubicBezTo>
              </a:path>
              <a:path w="6401" h="2506">
                <a:moveTo>
                  <a:pt x="1786" y="9971"/>
                </a:moveTo>
                <a:cubicBezTo>
                  <a:pt x="1894" y="9971"/>
                  <a:pt x="1951" y="9971"/>
                  <a:pt x="2059" y="9971"/>
                </a:cubicBezTo>
                <a:cubicBezTo>
                  <a:pt x="2584" y="9971"/>
                  <a:pt x="3107" y="9971"/>
                  <a:pt x="3621" y="9922"/>
                </a:cubicBezTo>
                <a:cubicBezTo>
                  <a:pt x="3755" y="9909"/>
                  <a:pt x="3909" y="9903"/>
                  <a:pt x="4043" y="9897"/>
                </a:cubicBezTo>
                <a:cubicBezTo>
                  <a:pt x="4093" y="9895"/>
                  <a:pt x="4092" y="9897"/>
                  <a:pt x="4142" y="9897"/>
                </a:cubicBezTo>
              </a:path>
              <a:path w="6401" h="2506">
                <a:moveTo>
                  <a:pt x="2828" y="10269"/>
                </a:moveTo>
                <a:cubicBezTo>
                  <a:pt x="2927" y="10351"/>
                  <a:pt x="2929" y="10344"/>
                  <a:pt x="3051" y="10344"/>
                </a:cubicBezTo>
                <a:cubicBezTo>
                  <a:pt x="3134" y="10344"/>
                  <a:pt x="3216" y="10344"/>
                  <a:pt x="3299" y="10344"/>
                </a:cubicBezTo>
                <a:cubicBezTo>
                  <a:pt x="3279" y="10394"/>
                  <a:pt x="3232" y="10470"/>
                  <a:pt x="3225" y="10517"/>
                </a:cubicBezTo>
                <a:cubicBezTo>
                  <a:pt x="3211" y="10614"/>
                  <a:pt x="3204" y="10719"/>
                  <a:pt x="3200" y="10815"/>
                </a:cubicBezTo>
                <a:cubicBezTo>
                  <a:pt x="3197" y="10897"/>
                  <a:pt x="3167" y="10935"/>
                  <a:pt x="3150" y="11013"/>
                </a:cubicBezTo>
                <a:cubicBezTo>
                  <a:pt x="3103" y="11236"/>
                  <a:pt x="3093" y="11157"/>
                  <a:pt x="3175" y="11137"/>
                </a:cubicBezTo>
              </a:path>
              <a:path w="6401" h="2506">
                <a:moveTo>
                  <a:pt x="4589" y="9971"/>
                </a:moveTo>
                <a:cubicBezTo>
                  <a:pt x="4687" y="9929"/>
                  <a:pt x="4738" y="9904"/>
                  <a:pt x="4837" y="9897"/>
                </a:cubicBezTo>
                <a:cubicBezTo>
                  <a:pt x="4845" y="9897"/>
                  <a:pt x="4854" y="9897"/>
                  <a:pt x="4862" y="9897"/>
                </a:cubicBezTo>
              </a:path>
              <a:path w="6401" h="2506">
                <a:moveTo>
                  <a:pt x="4663" y="10046"/>
                </a:moveTo>
                <a:cubicBezTo>
                  <a:pt x="4741" y="10185"/>
                  <a:pt x="4822" y="10111"/>
                  <a:pt x="4961" y="10046"/>
                </a:cubicBezTo>
              </a:path>
              <a:path w="6401" h="2506">
                <a:moveTo>
                  <a:pt x="5953" y="9401"/>
                </a:moveTo>
                <a:cubicBezTo>
                  <a:pt x="5912" y="9376"/>
                  <a:pt x="5832" y="9299"/>
                  <a:pt x="5779" y="9327"/>
                </a:cubicBezTo>
                <a:cubicBezTo>
                  <a:pt x="5747" y="9344"/>
                  <a:pt x="5692" y="9373"/>
                  <a:pt x="5655" y="9401"/>
                </a:cubicBezTo>
                <a:cubicBezTo>
                  <a:pt x="5668" y="9489"/>
                  <a:pt x="5711" y="9494"/>
                  <a:pt x="5779" y="9550"/>
                </a:cubicBezTo>
                <a:cubicBezTo>
                  <a:pt x="5825" y="9588"/>
                  <a:pt x="5898" y="9638"/>
                  <a:pt x="5928" y="9674"/>
                </a:cubicBezTo>
                <a:cubicBezTo>
                  <a:pt x="6000" y="9760"/>
                  <a:pt x="5986" y="9729"/>
                  <a:pt x="6028" y="9823"/>
                </a:cubicBezTo>
                <a:cubicBezTo>
                  <a:pt x="5925" y="9872"/>
                  <a:pt x="5909" y="9861"/>
                  <a:pt x="5829" y="9847"/>
                </a:cubicBezTo>
                <a:cubicBezTo>
                  <a:pt x="5765" y="9836"/>
                  <a:pt x="5696" y="9830"/>
                  <a:pt x="5631" y="9823"/>
                </a:cubicBezTo>
              </a:path>
              <a:path w="6401" h="2506">
                <a:moveTo>
                  <a:pt x="6276" y="9599"/>
                </a:moveTo>
                <a:cubicBezTo>
                  <a:pt x="6261" y="9667"/>
                  <a:pt x="6228" y="9775"/>
                  <a:pt x="6251" y="9847"/>
                </a:cubicBezTo>
                <a:cubicBezTo>
                  <a:pt x="6279" y="9902"/>
                  <a:pt x="6287" y="9913"/>
                  <a:pt x="6276" y="9823"/>
                </a:cubicBezTo>
              </a:path>
              <a:path w="6401" h="2506">
                <a:moveTo>
                  <a:pt x="6276" y="9227"/>
                </a:moveTo>
                <a:cubicBezTo>
                  <a:pt x="6295" y="9170"/>
                  <a:pt x="6285" y="9145"/>
                  <a:pt x="6325" y="9153"/>
                </a:cubicBezTo>
              </a:path>
              <a:path w="6401" h="2506">
                <a:moveTo>
                  <a:pt x="6474" y="9674"/>
                </a:moveTo>
                <a:cubicBezTo>
                  <a:pt x="6474" y="9759"/>
                  <a:pt x="6480" y="9779"/>
                  <a:pt x="6449" y="9823"/>
                </a:cubicBezTo>
                <a:cubicBezTo>
                  <a:pt x="6449" y="9705"/>
                  <a:pt x="6430" y="9600"/>
                  <a:pt x="6499" y="9500"/>
                </a:cubicBezTo>
                <a:cubicBezTo>
                  <a:pt x="6536" y="9447"/>
                  <a:pt x="6601" y="9374"/>
                  <a:pt x="6672" y="9401"/>
                </a:cubicBezTo>
                <a:cubicBezTo>
                  <a:pt x="6715" y="9417"/>
                  <a:pt x="6781" y="9479"/>
                  <a:pt x="6796" y="9525"/>
                </a:cubicBezTo>
                <a:cubicBezTo>
                  <a:pt x="6825" y="9612"/>
                  <a:pt x="6821" y="9684"/>
                  <a:pt x="6821" y="9773"/>
                </a:cubicBezTo>
                <a:cubicBezTo>
                  <a:pt x="6821" y="9822"/>
                  <a:pt x="6824" y="9980"/>
                  <a:pt x="6846" y="9847"/>
                </a:cubicBezTo>
              </a:path>
              <a:path w="6401" h="2506">
                <a:moveTo>
                  <a:pt x="7739" y="8954"/>
                </a:moveTo>
                <a:cubicBezTo>
                  <a:pt x="7739" y="8979"/>
                  <a:pt x="7739" y="9004"/>
                  <a:pt x="7739" y="9029"/>
                </a:cubicBezTo>
                <a:cubicBezTo>
                  <a:pt x="7739" y="8957"/>
                  <a:pt x="7737" y="8913"/>
                  <a:pt x="7714" y="8855"/>
                </a:cubicBezTo>
                <a:cubicBezTo>
                  <a:pt x="7692" y="8800"/>
                  <a:pt x="7622" y="8717"/>
                  <a:pt x="7541" y="8781"/>
                </a:cubicBezTo>
                <a:cubicBezTo>
                  <a:pt x="7472" y="8835"/>
                  <a:pt x="7423" y="8919"/>
                  <a:pt x="7392" y="9004"/>
                </a:cubicBezTo>
                <a:cubicBezTo>
                  <a:pt x="7364" y="9080"/>
                  <a:pt x="7327" y="9148"/>
                  <a:pt x="7317" y="9227"/>
                </a:cubicBezTo>
                <a:cubicBezTo>
                  <a:pt x="7308" y="9301"/>
                  <a:pt x="7306" y="9385"/>
                  <a:pt x="7342" y="9451"/>
                </a:cubicBezTo>
                <a:cubicBezTo>
                  <a:pt x="7405" y="9567"/>
                  <a:pt x="7413" y="9604"/>
                  <a:pt x="7541" y="9624"/>
                </a:cubicBezTo>
                <a:cubicBezTo>
                  <a:pt x="7633" y="9639"/>
                  <a:pt x="7688" y="9674"/>
                  <a:pt x="7789" y="9674"/>
                </a:cubicBezTo>
                <a:cubicBezTo>
                  <a:pt x="7899" y="9674"/>
                  <a:pt x="7926" y="9653"/>
                  <a:pt x="8012" y="9624"/>
                </a:cubicBezTo>
                <a:cubicBezTo>
                  <a:pt x="8062" y="9607"/>
                  <a:pt x="8108" y="9619"/>
                  <a:pt x="8161" y="9599"/>
                </a:cubicBezTo>
              </a:path>
              <a:path w="6401" h="2506">
                <a:moveTo>
                  <a:pt x="5606" y="10120"/>
                </a:moveTo>
                <a:cubicBezTo>
                  <a:pt x="6105" y="10120"/>
                  <a:pt x="6609" y="10134"/>
                  <a:pt x="7094" y="10071"/>
                </a:cubicBezTo>
                <a:cubicBezTo>
                  <a:pt x="7320" y="10042"/>
                  <a:pt x="7554" y="10072"/>
                  <a:pt x="7764" y="10120"/>
                </a:cubicBezTo>
                <a:cubicBezTo>
                  <a:pt x="7786" y="10125"/>
                  <a:pt x="8009" y="10138"/>
                  <a:pt x="7987" y="10071"/>
                </a:cubicBezTo>
                <a:cubicBezTo>
                  <a:pt x="7971" y="10071"/>
                  <a:pt x="7954" y="10071"/>
                  <a:pt x="7938" y="10071"/>
                </a:cubicBezTo>
              </a:path>
              <a:path w="6401" h="2506">
                <a:moveTo>
                  <a:pt x="6747" y="10492"/>
                </a:moveTo>
                <a:cubicBezTo>
                  <a:pt x="6815" y="10527"/>
                  <a:pt x="6806" y="10464"/>
                  <a:pt x="6896" y="10443"/>
                </a:cubicBezTo>
                <a:cubicBezTo>
                  <a:pt x="6945" y="10431"/>
                  <a:pt x="7065" y="10479"/>
                  <a:pt x="7094" y="10517"/>
                </a:cubicBezTo>
                <a:cubicBezTo>
                  <a:pt x="7160" y="10603"/>
                  <a:pt x="7099" y="10653"/>
                  <a:pt x="7045" y="10716"/>
                </a:cubicBezTo>
                <a:cubicBezTo>
                  <a:pt x="7011" y="10755"/>
                  <a:pt x="6946" y="10787"/>
                  <a:pt x="6896" y="10790"/>
                </a:cubicBezTo>
                <a:cubicBezTo>
                  <a:pt x="6851" y="10790"/>
                  <a:pt x="6838" y="10787"/>
                  <a:pt x="6821" y="10815"/>
                </a:cubicBezTo>
                <a:cubicBezTo>
                  <a:pt x="6873" y="10752"/>
                  <a:pt x="6896" y="10750"/>
                  <a:pt x="6970" y="10790"/>
                </a:cubicBezTo>
                <a:cubicBezTo>
                  <a:pt x="7026" y="10820"/>
                  <a:pt x="7147" y="10899"/>
                  <a:pt x="7169" y="10964"/>
                </a:cubicBezTo>
                <a:cubicBezTo>
                  <a:pt x="7186" y="11013"/>
                  <a:pt x="7208" y="11107"/>
                  <a:pt x="7193" y="11162"/>
                </a:cubicBezTo>
                <a:cubicBezTo>
                  <a:pt x="7171" y="11245"/>
                  <a:pt x="7130" y="11239"/>
                  <a:pt x="7069" y="11261"/>
                </a:cubicBezTo>
                <a:cubicBezTo>
                  <a:pt x="6996" y="11287"/>
                  <a:pt x="6901" y="11257"/>
                  <a:pt x="6821" y="11212"/>
                </a:cubicBezTo>
                <a:cubicBezTo>
                  <a:pt x="6781" y="11189"/>
                  <a:pt x="6732" y="11143"/>
                  <a:pt x="6697" y="11112"/>
                </a:cubicBezTo>
                <a:cubicBezTo>
                  <a:pt x="6661" y="11078"/>
                  <a:pt x="6649" y="11056"/>
                  <a:pt x="6648" y="11013"/>
                </a:cubicBezTo>
              </a:path>
              <a:path w="6401" h="2506">
                <a:moveTo>
                  <a:pt x="4638" y="9674"/>
                </a:moveTo>
                <a:cubicBezTo>
                  <a:pt x="4679" y="9703"/>
                  <a:pt x="4736" y="9734"/>
                  <a:pt x="4762" y="9773"/>
                </a:cubicBezTo>
                <a:cubicBezTo>
                  <a:pt x="4795" y="9823"/>
                  <a:pt x="4941" y="9927"/>
                  <a:pt x="5011" y="9971"/>
                </a:cubicBezTo>
                <a:cubicBezTo>
                  <a:pt x="5104" y="10029"/>
                  <a:pt x="5218" y="10082"/>
                  <a:pt x="5308" y="10145"/>
                </a:cubicBezTo>
                <a:cubicBezTo>
                  <a:pt x="5413" y="10218"/>
                  <a:pt x="5499" y="10305"/>
                  <a:pt x="5606" y="10368"/>
                </a:cubicBezTo>
                <a:cubicBezTo>
                  <a:pt x="5689" y="10417"/>
                  <a:pt x="5749" y="10439"/>
                  <a:pt x="5829" y="10492"/>
                </a:cubicBezTo>
                <a:cubicBezTo>
                  <a:pt x="5871" y="10520"/>
                  <a:pt x="5879" y="10506"/>
                  <a:pt x="5928" y="10492"/>
                </a:cubicBezTo>
              </a:path>
              <a:path w="6401" h="2506">
                <a:moveTo>
                  <a:pt x="5556" y="9550"/>
                </a:moveTo>
                <a:cubicBezTo>
                  <a:pt x="5449" y="9658"/>
                  <a:pt x="5400" y="9691"/>
                  <a:pt x="5283" y="9773"/>
                </a:cubicBezTo>
                <a:cubicBezTo>
                  <a:pt x="5192" y="9837"/>
                  <a:pt x="5125" y="9913"/>
                  <a:pt x="5035" y="9971"/>
                </a:cubicBezTo>
                <a:cubicBezTo>
                  <a:pt x="4947" y="10027"/>
                  <a:pt x="4867" y="10084"/>
                  <a:pt x="4787" y="10145"/>
                </a:cubicBezTo>
                <a:cubicBezTo>
                  <a:pt x="4687" y="10222"/>
                  <a:pt x="4640" y="10348"/>
                  <a:pt x="4514" y="10418"/>
                </a:cubicBezTo>
                <a:cubicBezTo>
                  <a:pt x="4479" y="10418"/>
                  <a:pt x="4462" y="10423"/>
                  <a:pt x="4440" y="104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Ink 14"/>
          <p:cNvSpPr/>
          <p:nvPr/>
        </p:nvSpPr>
        <p:spPr>
          <a:xfrm>
            <a:off x="554040" y="4062240"/>
            <a:ext cx="2509920" cy="403560"/>
          </a:xfrm>
          <a:custGeom>
            <a:avLst/>
            <a:gdLst/>
            <a:ahLst/>
            <a:rect l="l" t="t" r="r" b="b"/>
            <a:pathLst>
              <a:path w="6971" h="1117">
                <a:moveTo>
                  <a:pt x="1637" y="11509"/>
                </a:moveTo>
                <a:cubicBezTo>
                  <a:pt x="1612" y="11534"/>
                  <a:pt x="1604" y="11542"/>
                  <a:pt x="1588" y="11559"/>
                </a:cubicBezTo>
                <a:cubicBezTo>
                  <a:pt x="1638" y="11507"/>
                  <a:pt x="1657" y="11513"/>
                  <a:pt x="1712" y="11485"/>
                </a:cubicBezTo>
                <a:cubicBezTo>
                  <a:pt x="1738" y="11472"/>
                  <a:pt x="1863" y="11446"/>
                  <a:pt x="1885" y="11485"/>
                </a:cubicBezTo>
                <a:cubicBezTo>
                  <a:pt x="1922" y="11551"/>
                  <a:pt x="1931" y="11700"/>
                  <a:pt x="1885" y="11757"/>
                </a:cubicBezTo>
                <a:cubicBezTo>
                  <a:pt x="1841" y="11811"/>
                  <a:pt x="1795" y="11848"/>
                  <a:pt x="1736" y="11881"/>
                </a:cubicBezTo>
                <a:cubicBezTo>
                  <a:pt x="1831" y="11892"/>
                  <a:pt x="1865" y="11897"/>
                  <a:pt x="1910" y="11981"/>
                </a:cubicBezTo>
                <a:cubicBezTo>
                  <a:pt x="1935" y="12027"/>
                  <a:pt x="1956" y="12126"/>
                  <a:pt x="1935" y="12179"/>
                </a:cubicBezTo>
                <a:cubicBezTo>
                  <a:pt x="1910" y="12243"/>
                  <a:pt x="1839" y="12251"/>
                  <a:pt x="1786" y="12254"/>
                </a:cubicBezTo>
                <a:cubicBezTo>
                  <a:pt x="1726" y="12257"/>
                  <a:pt x="1641" y="12213"/>
                  <a:pt x="1588" y="12179"/>
                </a:cubicBezTo>
                <a:cubicBezTo>
                  <a:pt x="1521" y="12136"/>
                  <a:pt x="1551" y="12085"/>
                  <a:pt x="1563" y="12030"/>
                </a:cubicBezTo>
              </a:path>
              <a:path w="6971" h="1117">
                <a:moveTo>
                  <a:pt x="2282" y="12005"/>
                </a:moveTo>
                <a:cubicBezTo>
                  <a:pt x="2282" y="12013"/>
                  <a:pt x="2282" y="12022"/>
                  <a:pt x="2282" y="12030"/>
                </a:cubicBezTo>
              </a:path>
              <a:path w="6971" h="1117">
                <a:moveTo>
                  <a:pt x="2828" y="11857"/>
                </a:moveTo>
                <a:cubicBezTo>
                  <a:pt x="2822" y="11817"/>
                  <a:pt x="2803" y="11726"/>
                  <a:pt x="2753" y="11708"/>
                </a:cubicBezTo>
                <a:cubicBezTo>
                  <a:pt x="2702" y="11690"/>
                  <a:pt x="2648" y="11716"/>
                  <a:pt x="2604" y="11733"/>
                </a:cubicBezTo>
                <a:cubicBezTo>
                  <a:pt x="2642" y="11807"/>
                  <a:pt x="2655" y="11842"/>
                  <a:pt x="2729" y="11881"/>
                </a:cubicBezTo>
                <a:cubicBezTo>
                  <a:pt x="2797" y="11917"/>
                  <a:pt x="2804" y="11974"/>
                  <a:pt x="2853" y="12030"/>
                </a:cubicBezTo>
                <a:cubicBezTo>
                  <a:pt x="2884" y="12065"/>
                  <a:pt x="2932" y="12158"/>
                  <a:pt x="2927" y="12204"/>
                </a:cubicBezTo>
                <a:cubicBezTo>
                  <a:pt x="2919" y="12221"/>
                  <a:pt x="2910" y="12237"/>
                  <a:pt x="2902" y="12254"/>
                </a:cubicBezTo>
                <a:cubicBezTo>
                  <a:pt x="2846" y="12270"/>
                  <a:pt x="2767" y="12256"/>
                  <a:pt x="2704" y="12229"/>
                </a:cubicBezTo>
                <a:cubicBezTo>
                  <a:pt x="2660" y="12210"/>
                  <a:pt x="2611" y="12126"/>
                  <a:pt x="2629" y="12080"/>
                </a:cubicBezTo>
                <a:cubicBezTo>
                  <a:pt x="2646" y="12055"/>
                  <a:pt x="2662" y="12030"/>
                  <a:pt x="2679" y="12005"/>
                </a:cubicBezTo>
              </a:path>
              <a:path w="6971" h="1117">
                <a:moveTo>
                  <a:pt x="3101" y="11857"/>
                </a:moveTo>
                <a:cubicBezTo>
                  <a:pt x="3109" y="11951"/>
                  <a:pt x="3125" y="12031"/>
                  <a:pt x="3125" y="12129"/>
                </a:cubicBezTo>
                <a:cubicBezTo>
                  <a:pt x="3125" y="12191"/>
                  <a:pt x="3134" y="12255"/>
                  <a:pt x="3150" y="12129"/>
                </a:cubicBezTo>
              </a:path>
              <a:path w="6971" h="1117">
                <a:moveTo>
                  <a:pt x="3125" y="11559"/>
                </a:moveTo>
                <a:cubicBezTo>
                  <a:pt x="3125" y="11517"/>
                  <a:pt x="3117" y="11501"/>
                  <a:pt x="3150" y="11509"/>
                </a:cubicBezTo>
              </a:path>
              <a:path w="6971" h="1117">
                <a:moveTo>
                  <a:pt x="3324" y="11906"/>
                </a:moveTo>
                <a:cubicBezTo>
                  <a:pt x="3324" y="11956"/>
                  <a:pt x="3324" y="12005"/>
                  <a:pt x="3324" y="12055"/>
                </a:cubicBezTo>
                <a:cubicBezTo>
                  <a:pt x="3324" y="11986"/>
                  <a:pt x="3319" y="11938"/>
                  <a:pt x="3349" y="11881"/>
                </a:cubicBezTo>
                <a:cubicBezTo>
                  <a:pt x="3390" y="11804"/>
                  <a:pt x="3407" y="11738"/>
                  <a:pt x="3497" y="11733"/>
                </a:cubicBezTo>
                <a:cubicBezTo>
                  <a:pt x="3584" y="11728"/>
                  <a:pt x="3595" y="11785"/>
                  <a:pt x="3621" y="11857"/>
                </a:cubicBezTo>
                <a:cubicBezTo>
                  <a:pt x="3649" y="11935"/>
                  <a:pt x="3646" y="11998"/>
                  <a:pt x="3646" y="12080"/>
                </a:cubicBezTo>
                <a:cubicBezTo>
                  <a:pt x="3646" y="12154"/>
                  <a:pt x="3646" y="12229"/>
                  <a:pt x="3646" y="12303"/>
                </a:cubicBezTo>
              </a:path>
              <a:path w="6971" h="1117">
                <a:moveTo>
                  <a:pt x="3795" y="11584"/>
                </a:moveTo>
                <a:cubicBezTo>
                  <a:pt x="3850" y="11575"/>
                  <a:pt x="3968" y="11544"/>
                  <a:pt x="3994" y="11633"/>
                </a:cubicBezTo>
                <a:cubicBezTo>
                  <a:pt x="4011" y="11693"/>
                  <a:pt x="3996" y="11804"/>
                  <a:pt x="3969" y="11857"/>
                </a:cubicBezTo>
                <a:cubicBezTo>
                  <a:pt x="3943" y="11908"/>
                  <a:pt x="3860" y="11978"/>
                  <a:pt x="3845" y="12030"/>
                </a:cubicBezTo>
                <a:cubicBezTo>
                  <a:pt x="3829" y="12087"/>
                  <a:pt x="3893" y="12142"/>
                  <a:pt x="3944" y="12154"/>
                </a:cubicBezTo>
                <a:cubicBezTo>
                  <a:pt x="4003" y="12154"/>
                  <a:pt x="4029" y="12151"/>
                  <a:pt x="4068" y="12129"/>
                </a:cubicBezTo>
              </a:path>
              <a:path w="6971" h="1117">
                <a:moveTo>
                  <a:pt x="4192" y="11609"/>
                </a:moveTo>
                <a:cubicBezTo>
                  <a:pt x="4192" y="11691"/>
                  <a:pt x="4178" y="11781"/>
                  <a:pt x="4217" y="11857"/>
                </a:cubicBezTo>
                <a:cubicBezTo>
                  <a:pt x="4235" y="11892"/>
                  <a:pt x="4309" y="11943"/>
                  <a:pt x="4341" y="11956"/>
                </a:cubicBezTo>
                <a:cubicBezTo>
                  <a:pt x="4349" y="11956"/>
                  <a:pt x="4358" y="11956"/>
                  <a:pt x="4366" y="11956"/>
                </a:cubicBezTo>
              </a:path>
              <a:path w="6971" h="1117">
                <a:moveTo>
                  <a:pt x="4465" y="11485"/>
                </a:moveTo>
                <a:cubicBezTo>
                  <a:pt x="4435" y="11534"/>
                  <a:pt x="4419" y="11595"/>
                  <a:pt x="4415" y="11658"/>
                </a:cubicBezTo>
                <a:cubicBezTo>
                  <a:pt x="4408" y="11779"/>
                  <a:pt x="4422" y="11892"/>
                  <a:pt x="4440" y="12005"/>
                </a:cubicBezTo>
                <a:cubicBezTo>
                  <a:pt x="4454" y="12091"/>
                  <a:pt x="4444" y="12149"/>
                  <a:pt x="4490" y="12229"/>
                </a:cubicBezTo>
              </a:path>
              <a:path w="6971" h="1117">
                <a:moveTo>
                  <a:pt x="4688" y="11906"/>
                </a:moveTo>
                <a:cubicBezTo>
                  <a:pt x="4804" y="11887"/>
                  <a:pt x="4820" y="11878"/>
                  <a:pt x="4887" y="11881"/>
                </a:cubicBezTo>
              </a:path>
              <a:path w="6971" h="1117">
                <a:moveTo>
                  <a:pt x="4738" y="12030"/>
                </a:moveTo>
                <a:cubicBezTo>
                  <a:pt x="4819" y="12052"/>
                  <a:pt x="4878" y="12055"/>
                  <a:pt x="4961" y="12055"/>
                </a:cubicBezTo>
                <a:cubicBezTo>
                  <a:pt x="4978" y="12055"/>
                  <a:pt x="4994" y="12055"/>
                  <a:pt x="5011" y="12055"/>
                </a:cubicBezTo>
              </a:path>
              <a:path w="6971" h="1117">
                <a:moveTo>
                  <a:pt x="5184" y="11509"/>
                </a:moveTo>
                <a:cubicBezTo>
                  <a:pt x="5267" y="11509"/>
                  <a:pt x="5331" y="11524"/>
                  <a:pt x="5407" y="11534"/>
                </a:cubicBezTo>
                <a:cubicBezTo>
                  <a:pt x="5465" y="11542"/>
                  <a:pt x="5731" y="11496"/>
                  <a:pt x="5755" y="11559"/>
                </a:cubicBezTo>
                <a:cubicBezTo>
                  <a:pt x="5785" y="11638"/>
                  <a:pt x="5741" y="11757"/>
                  <a:pt x="5730" y="11832"/>
                </a:cubicBezTo>
                <a:cubicBezTo>
                  <a:pt x="5704" y="12013"/>
                  <a:pt x="5730" y="12219"/>
                  <a:pt x="5730" y="12402"/>
                </a:cubicBezTo>
              </a:path>
              <a:path w="6971" h="1117">
                <a:moveTo>
                  <a:pt x="6102" y="12055"/>
                </a:moveTo>
                <a:cubicBezTo>
                  <a:pt x="6119" y="12038"/>
                  <a:pt x="6135" y="12022"/>
                  <a:pt x="6152" y="12005"/>
                </a:cubicBezTo>
              </a:path>
              <a:path w="6971" h="1117">
                <a:moveTo>
                  <a:pt x="6598" y="11733"/>
                </a:moveTo>
                <a:cubicBezTo>
                  <a:pt x="6623" y="11757"/>
                  <a:pt x="6631" y="11765"/>
                  <a:pt x="6648" y="11733"/>
                </a:cubicBezTo>
                <a:cubicBezTo>
                  <a:pt x="6599" y="11684"/>
                  <a:pt x="6571" y="11662"/>
                  <a:pt x="6499" y="11658"/>
                </a:cubicBezTo>
                <a:cubicBezTo>
                  <a:pt x="6449" y="11658"/>
                  <a:pt x="6433" y="11658"/>
                  <a:pt x="6400" y="11658"/>
                </a:cubicBezTo>
                <a:cubicBezTo>
                  <a:pt x="6400" y="11726"/>
                  <a:pt x="6388" y="11810"/>
                  <a:pt x="6449" y="11857"/>
                </a:cubicBezTo>
                <a:cubicBezTo>
                  <a:pt x="6514" y="11907"/>
                  <a:pt x="6546" y="11963"/>
                  <a:pt x="6598" y="12030"/>
                </a:cubicBezTo>
                <a:cubicBezTo>
                  <a:pt x="6640" y="12084"/>
                  <a:pt x="6658" y="12148"/>
                  <a:pt x="6697" y="12204"/>
                </a:cubicBezTo>
                <a:cubicBezTo>
                  <a:pt x="6730" y="12252"/>
                  <a:pt x="6742" y="12287"/>
                  <a:pt x="6722" y="12328"/>
                </a:cubicBezTo>
                <a:cubicBezTo>
                  <a:pt x="6631" y="12317"/>
                  <a:pt x="6621" y="12278"/>
                  <a:pt x="6548" y="12229"/>
                </a:cubicBezTo>
                <a:cubicBezTo>
                  <a:pt x="6476" y="12181"/>
                  <a:pt x="6460" y="12141"/>
                  <a:pt x="6449" y="12055"/>
                </a:cubicBezTo>
              </a:path>
              <a:path w="6971" h="1117">
                <a:moveTo>
                  <a:pt x="6995" y="11832"/>
                </a:moveTo>
                <a:cubicBezTo>
                  <a:pt x="7013" y="11931"/>
                  <a:pt x="7020" y="12007"/>
                  <a:pt x="7020" y="12105"/>
                </a:cubicBezTo>
                <a:cubicBezTo>
                  <a:pt x="7020" y="12149"/>
                  <a:pt x="7023" y="12169"/>
                  <a:pt x="6995" y="12129"/>
                </a:cubicBezTo>
              </a:path>
              <a:path w="6971" h="1117">
                <a:moveTo>
                  <a:pt x="7020" y="11559"/>
                </a:moveTo>
                <a:cubicBezTo>
                  <a:pt x="7045" y="11534"/>
                  <a:pt x="7053" y="11526"/>
                  <a:pt x="7069" y="11559"/>
                </a:cubicBezTo>
              </a:path>
              <a:path w="6971" h="1117">
                <a:moveTo>
                  <a:pt x="7268" y="12105"/>
                </a:moveTo>
                <a:cubicBezTo>
                  <a:pt x="7268" y="12031"/>
                  <a:pt x="7268" y="12005"/>
                  <a:pt x="7268" y="11931"/>
                </a:cubicBezTo>
                <a:cubicBezTo>
                  <a:pt x="7268" y="11821"/>
                  <a:pt x="7301" y="11733"/>
                  <a:pt x="7392" y="11708"/>
                </a:cubicBezTo>
                <a:cubicBezTo>
                  <a:pt x="7434" y="11771"/>
                  <a:pt x="7437" y="11844"/>
                  <a:pt x="7466" y="11906"/>
                </a:cubicBezTo>
                <a:cubicBezTo>
                  <a:pt x="7488" y="11954"/>
                  <a:pt x="7531" y="12007"/>
                  <a:pt x="7541" y="12055"/>
                </a:cubicBezTo>
                <a:cubicBezTo>
                  <a:pt x="7541" y="12107"/>
                  <a:pt x="7542" y="12125"/>
                  <a:pt x="7565" y="12154"/>
                </a:cubicBezTo>
              </a:path>
              <a:path w="6971" h="1117">
                <a:moveTo>
                  <a:pt x="8136" y="11435"/>
                </a:moveTo>
                <a:cubicBezTo>
                  <a:pt x="8153" y="11435"/>
                  <a:pt x="8169" y="11435"/>
                  <a:pt x="8186" y="11435"/>
                </a:cubicBezTo>
                <a:cubicBezTo>
                  <a:pt x="8181" y="11394"/>
                  <a:pt x="8169" y="11298"/>
                  <a:pt x="8111" y="11286"/>
                </a:cubicBezTo>
                <a:cubicBezTo>
                  <a:pt x="7969" y="11256"/>
                  <a:pt x="7931" y="11385"/>
                  <a:pt x="7888" y="11485"/>
                </a:cubicBezTo>
                <a:cubicBezTo>
                  <a:pt x="7861" y="11548"/>
                  <a:pt x="7807" y="11642"/>
                  <a:pt x="7813" y="11708"/>
                </a:cubicBezTo>
                <a:cubicBezTo>
                  <a:pt x="7820" y="11794"/>
                  <a:pt x="7888" y="11955"/>
                  <a:pt x="7938" y="12030"/>
                </a:cubicBezTo>
                <a:cubicBezTo>
                  <a:pt x="7987" y="12104"/>
                  <a:pt x="8090" y="12180"/>
                  <a:pt x="8161" y="12229"/>
                </a:cubicBezTo>
                <a:cubicBezTo>
                  <a:pt x="8227" y="12275"/>
                  <a:pt x="8283" y="12278"/>
                  <a:pt x="8359" y="12278"/>
                </a:cubicBezTo>
                <a:cubicBezTo>
                  <a:pt x="8403" y="12278"/>
                  <a:pt x="8491" y="12249"/>
                  <a:pt x="8508" y="12278"/>
                </a:cubicBezTo>
                <a:cubicBezTo>
                  <a:pt x="8508" y="12286"/>
                  <a:pt x="8508" y="12295"/>
                  <a:pt x="8508" y="123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Ink 15"/>
          <p:cNvSpPr/>
          <p:nvPr/>
        </p:nvSpPr>
        <p:spPr>
          <a:xfrm>
            <a:off x="874800" y="5303880"/>
            <a:ext cx="27000" cy="46080"/>
          </a:xfrm>
          <a:custGeom>
            <a:avLst/>
            <a:gdLst/>
            <a:ahLst/>
            <a:rect l="l" t="t" r="r" b="b"/>
            <a:pathLst>
              <a:path w="75" h="125">
                <a:moveTo>
                  <a:pt x="2480" y="14833"/>
                </a:moveTo>
                <a:cubicBezTo>
                  <a:pt x="2546" y="14767"/>
                  <a:pt x="2465" y="14849"/>
                  <a:pt x="2456" y="14858"/>
                </a:cubicBezTo>
                <a:cubicBezTo>
                  <a:pt x="2482" y="14836"/>
                  <a:pt x="2568" y="14703"/>
                  <a:pt x="2456" y="14734"/>
                </a:cubicBezTo>
                <a:cubicBezTo>
                  <a:pt x="2392" y="14752"/>
                  <a:pt x="2463" y="14811"/>
                  <a:pt x="2480" y="148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Ink 16"/>
          <p:cNvSpPr/>
          <p:nvPr/>
        </p:nvSpPr>
        <p:spPr>
          <a:xfrm>
            <a:off x="1044720" y="4946760"/>
            <a:ext cx="876240" cy="403200"/>
          </a:xfrm>
          <a:custGeom>
            <a:avLst/>
            <a:gdLst/>
            <a:ahLst/>
            <a:rect l="l" t="t" r="r" b="b"/>
            <a:pathLst>
              <a:path w="2432" h="1117">
                <a:moveTo>
                  <a:pt x="2902" y="13816"/>
                </a:moveTo>
                <a:cubicBezTo>
                  <a:pt x="2902" y="13970"/>
                  <a:pt x="2912" y="14110"/>
                  <a:pt x="2927" y="14263"/>
                </a:cubicBezTo>
                <a:cubicBezTo>
                  <a:pt x="2936" y="14356"/>
                  <a:pt x="2948" y="14445"/>
                  <a:pt x="2952" y="14536"/>
                </a:cubicBezTo>
                <a:cubicBezTo>
                  <a:pt x="2954" y="14593"/>
                  <a:pt x="2943" y="14881"/>
                  <a:pt x="2977" y="14833"/>
                </a:cubicBezTo>
                <a:cubicBezTo>
                  <a:pt x="2985" y="14817"/>
                  <a:pt x="2993" y="14800"/>
                  <a:pt x="3001" y="14784"/>
                </a:cubicBezTo>
              </a:path>
              <a:path w="2432" h="1117">
                <a:moveTo>
                  <a:pt x="3175" y="13940"/>
                </a:moveTo>
                <a:cubicBezTo>
                  <a:pt x="3208" y="13885"/>
                  <a:pt x="3216" y="13806"/>
                  <a:pt x="3225" y="13742"/>
                </a:cubicBezTo>
                <a:cubicBezTo>
                  <a:pt x="3301" y="13742"/>
                  <a:pt x="3404" y="13742"/>
                  <a:pt x="3473" y="13767"/>
                </a:cubicBezTo>
                <a:cubicBezTo>
                  <a:pt x="3556" y="13798"/>
                  <a:pt x="3537" y="13797"/>
                  <a:pt x="3572" y="13866"/>
                </a:cubicBezTo>
                <a:cubicBezTo>
                  <a:pt x="3612" y="13945"/>
                  <a:pt x="3576" y="14000"/>
                  <a:pt x="3572" y="14089"/>
                </a:cubicBezTo>
                <a:cubicBezTo>
                  <a:pt x="3560" y="14348"/>
                  <a:pt x="3528" y="15058"/>
                  <a:pt x="3597" y="14808"/>
                </a:cubicBezTo>
                <a:cubicBezTo>
                  <a:pt x="3597" y="14792"/>
                  <a:pt x="3597" y="14775"/>
                  <a:pt x="3597" y="14759"/>
                </a:cubicBezTo>
              </a:path>
              <a:path w="2432" h="1117">
                <a:moveTo>
                  <a:pt x="3820" y="13915"/>
                </a:moveTo>
                <a:cubicBezTo>
                  <a:pt x="3820" y="14010"/>
                  <a:pt x="3795" y="14163"/>
                  <a:pt x="3845" y="14238"/>
                </a:cubicBezTo>
                <a:cubicBezTo>
                  <a:pt x="3885" y="14298"/>
                  <a:pt x="3928" y="14288"/>
                  <a:pt x="3994" y="14288"/>
                </a:cubicBezTo>
                <a:cubicBezTo>
                  <a:pt x="4062" y="14288"/>
                  <a:pt x="4081" y="14291"/>
                  <a:pt x="4118" y="14263"/>
                </a:cubicBezTo>
              </a:path>
              <a:path w="2432" h="1117">
                <a:moveTo>
                  <a:pt x="4167" y="13841"/>
                </a:moveTo>
                <a:cubicBezTo>
                  <a:pt x="4157" y="13913"/>
                  <a:pt x="4142" y="13956"/>
                  <a:pt x="4142" y="14039"/>
                </a:cubicBezTo>
                <a:cubicBezTo>
                  <a:pt x="4142" y="14136"/>
                  <a:pt x="4128" y="14219"/>
                  <a:pt x="4118" y="14312"/>
                </a:cubicBezTo>
                <a:cubicBezTo>
                  <a:pt x="4111" y="14379"/>
                  <a:pt x="4094" y="14801"/>
                  <a:pt x="4142" y="14808"/>
                </a:cubicBezTo>
                <a:cubicBezTo>
                  <a:pt x="4150" y="14800"/>
                  <a:pt x="4159" y="14792"/>
                  <a:pt x="4167" y="14784"/>
                </a:cubicBezTo>
              </a:path>
              <a:path w="2432" h="1117">
                <a:moveTo>
                  <a:pt x="4415" y="13816"/>
                </a:moveTo>
                <a:cubicBezTo>
                  <a:pt x="4495" y="13786"/>
                  <a:pt x="4519" y="13788"/>
                  <a:pt x="4589" y="13841"/>
                </a:cubicBezTo>
                <a:cubicBezTo>
                  <a:pt x="4633" y="13874"/>
                  <a:pt x="4722" y="13900"/>
                  <a:pt x="4713" y="13965"/>
                </a:cubicBezTo>
                <a:cubicBezTo>
                  <a:pt x="4702" y="14049"/>
                  <a:pt x="4637" y="14040"/>
                  <a:pt x="4589" y="14064"/>
                </a:cubicBezTo>
                <a:cubicBezTo>
                  <a:pt x="4537" y="14090"/>
                  <a:pt x="4500" y="14105"/>
                  <a:pt x="4440" y="14114"/>
                </a:cubicBezTo>
                <a:cubicBezTo>
                  <a:pt x="4481" y="14155"/>
                  <a:pt x="4516" y="14168"/>
                  <a:pt x="4564" y="14188"/>
                </a:cubicBezTo>
                <a:cubicBezTo>
                  <a:pt x="4613" y="14208"/>
                  <a:pt x="4686" y="14232"/>
                  <a:pt x="4713" y="14288"/>
                </a:cubicBezTo>
                <a:cubicBezTo>
                  <a:pt x="4762" y="14391"/>
                  <a:pt x="4762" y="14472"/>
                  <a:pt x="4762" y="14585"/>
                </a:cubicBezTo>
                <a:cubicBezTo>
                  <a:pt x="4762" y="14657"/>
                  <a:pt x="4736" y="14686"/>
                  <a:pt x="4688" y="14734"/>
                </a:cubicBezTo>
                <a:cubicBezTo>
                  <a:pt x="4660" y="14762"/>
                  <a:pt x="4556" y="14797"/>
                  <a:pt x="4514" y="14784"/>
                </a:cubicBezTo>
                <a:cubicBezTo>
                  <a:pt x="4486" y="14775"/>
                  <a:pt x="4402" y="14751"/>
                  <a:pt x="4390" y="14709"/>
                </a:cubicBezTo>
                <a:cubicBezTo>
                  <a:pt x="4390" y="14693"/>
                  <a:pt x="4390" y="14676"/>
                  <a:pt x="4390" y="14660"/>
                </a:cubicBezTo>
              </a:path>
              <a:path w="2432" h="1117">
                <a:moveTo>
                  <a:pt x="5060" y="14213"/>
                </a:moveTo>
                <a:cubicBezTo>
                  <a:pt x="5141" y="14193"/>
                  <a:pt x="5198" y="14188"/>
                  <a:pt x="5283" y="14188"/>
                </a:cubicBezTo>
              </a:path>
              <a:path w="2432" h="1117">
                <a:moveTo>
                  <a:pt x="5085" y="14362"/>
                </a:moveTo>
                <a:cubicBezTo>
                  <a:pt x="5132" y="14390"/>
                  <a:pt x="5221" y="14425"/>
                  <a:pt x="5283" y="14412"/>
                </a:cubicBezTo>
                <a:cubicBezTo>
                  <a:pt x="5300" y="14404"/>
                  <a:pt x="5316" y="14395"/>
                  <a:pt x="5333" y="143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Ink 17"/>
          <p:cNvSpPr/>
          <p:nvPr/>
        </p:nvSpPr>
        <p:spPr>
          <a:xfrm>
            <a:off x="2054160" y="4911840"/>
            <a:ext cx="411120" cy="374400"/>
          </a:xfrm>
          <a:custGeom>
            <a:avLst/>
            <a:gdLst/>
            <a:ahLst/>
            <a:rect l="l" t="t" r="r" b="b"/>
            <a:pathLst>
              <a:path w="1142" h="1042">
                <a:moveTo>
                  <a:pt x="5928" y="14064"/>
                </a:moveTo>
                <a:cubicBezTo>
                  <a:pt x="5892" y="13999"/>
                  <a:pt x="5880" y="13968"/>
                  <a:pt x="5804" y="13965"/>
                </a:cubicBezTo>
                <a:cubicBezTo>
                  <a:pt x="5743" y="13965"/>
                  <a:pt x="5727" y="13956"/>
                  <a:pt x="5705" y="13990"/>
                </a:cubicBezTo>
                <a:cubicBezTo>
                  <a:pt x="5715" y="14067"/>
                  <a:pt x="5740" y="14079"/>
                  <a:pt x="5779" y="14139"/>
                </a:cubicBezTo>
                <a:cubicBezTo>
                  <a:pt x="5823" y="14208"/>
                  <a:pt x="5845" y="14253"/>
                  <a:pt x="5904" y="14312"/>
                </a:cubicBezTo>
                <a:cubicBezTo>
                  <a:pt x="5967" y="14376"/>
                  <a:pt x="6013" y="14446"/>
                  <a:pt x="6028" y="14536"/>
                </a:cubicBezTo>
                <a:cubicBezTo>
                  <a:pt x="6039" y="14603"/>
                  <a:pt x="6016" y="14704"/>
                  <a:pt x="5928" y="14684"/>
                </a:cubicBezTo>
                <a:cubicBezTo>
                  <a:pt x="5869" y="14671"/>
                  <a:pt x="5820" y="14627"/>
                  <a:pt x="5779" y="14585"/>
                </a:cubicBezTo>
                <a:cubicBezTo>
                  <a:pt x="5742" y="14547"/>
                  <a:pt x="5720" y="14507"/>
                  <a:pt x="5705" y="14461"/>
                </a:cubicBezTo>
              </a:path>
              <a:path w="1142" h="1042">
                <a:moveTo>
                  <a:pt x="6276" y="14238"/>
                </a:moveTo>
                <a:cubicBezTo>
                  <a:pt x="6276" y="14304"/>
                  <a:pt x="6298" y="14480"/>
                  <a:pt x="6251" y="14511"/>
                </a:cubicBezTo>
              </a:path>
              <a:path w="1142" h="1042">
                <a:moveTo>
                  <a:pt x="6251" y="13667"/>
                </a:moveTo>
                <a:cubicBezTo>
                  <a:pt x="6276" y="13659"/>
                  <a:pt x="6300" y="13651"/>
                  <a:pt x="6325" y="13643"/>
                </a:cubicBezTo>
              </a:path>
              <a:path w="1142" h="1042">
                <a:moveTo>
                  <a:pt x="6449" y="14114"/>
                </a:moveTo>
                <a:cubicBezTo>
                  <a:pt x="6449" y="14188"/>
                  <a:pt x="6449" y="14263"/>
                  <a:pt x="6449" y="14337"/>
                </a:cubicBezTo>
                <a:cubicBezTo>
                  <a:pt x="6456" y="14290"/>
                  <a:pt x="6456" y="14208"/>
                  <a:pt x="6474" y="14163"/>
                </a:cubicBezTo>
                <a:cubicBezTo>
                  <a:pt x="6485" y="14136"/>
                  <a:pt x="6555" y="14063"/>
                  <a:pt x="6573" y="14039"/>
                </a:cubicBezTo>
                <a:cubicBezTo>
                  <a:pt x="6619" y="13978"/>
                  <a:pt x="6644" y="13992"/>
                  <a:pt x="6697" y="14039"/>
                </a:cubicBezTo>
                <a:cubicBezTo>
                  <a:pt x="6745" y="14082"/>
                  <a:pt x="6783" y="14177"/>
                  <a:pt x="6796" y="14238"/>
                </a:cubicBezTo>
                <a:cubicBezTo>
                  <a:pt x="6809" y="14300"/>
                  <a:pt x="6811" y="14376"/>
                  <a:pt x="6821" y="14436"/>
                </a:cubicBezTo>
                <a:cubicBezTo>
                  <a:pt x="6821" y="14481"/>
                  <a:pt x="6818" y="14494"/>
                  <a:pt x="6846" y="145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Ink 18"/>
          <p:cNvSpPr/>
          <p:nvPr/>
        </p:nvSpPr>
        <p:spPr>
          <a:xfrm>
            <a:off x="2589120" y="4884840"/>
            <a:ext cx="223920" cy="384120"/>
          </a:xfrm>
          <a:custGeom>
            <a:avLst/>
            <a:gdLst/>
            <a:ahLst/>
            <a:rect l="l" t="t" r="r" b="b"/>
            <a:pathLst>
              <a:path w="621" h="1068">
                <a:moveTo>
                  <a:pt x="7516" y="13742"/>
                </a:moveTo>
                <a:cubicBezTo>
                  <a:pt x="7555" y="13678"/>
                  <a:pt x="7543" y="13639"/>
                  <a:pt x="7516" y="13568"/>
                </a:cubicBezTo>
                <a:cubicBezTo>
                  <a:pt x="7420" y="13608"/>
                  <a:pt x="7378" y="13637"/>
                  <a:pt x="7317" y="13717"/>
                </a:cubicBezTo>
                <a:cubicBezTo>
                  <a:pt x="7268" y="13782"/>
                  <a:pt x="7177" y="13898"/>
                  <a:pt x="7193" y="13990"/>
                </a:cubicBezTo>
                <a:cubicBezTo>
                  <a:pt x="7209" y="14079"/>
                  <a:pt x="7238" y="14218"/>
                  <a:pt x="7293" y="14288"/>
                </a:cubicBezTo>
                <a:cubicBezTo>
                  <a:pt x="7350" y="14360"/>
                  <a:pt x="7413" y="14419"/>
                  <a:pt x="7491" y="14486"/>
                </a:cubicBezTo>
                <a:cubicBezTo>
                  <a:pt x="7560" y="14545"/>
                  <a:pt x="7649" y="14609"/>
                  <a:pt x="7739" y="14635"/>
                </a:cubicBezTo>
                <a:cubicBezTo>
                  <a:pt x="7784" y="14635"/>
                  <a:pt x="7797" y="14639"/>
                  <a:pt x="7813" y="146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Ink 19"/>
          <p:cNvSpPr/>
          <p:nvPr/>
        </p:nvSpPr>
        <p:spPr>
          <a:xfrm>
            <a:off x="1527120" y="5402160"/>
            <a:ext cx="982800" cy="492120"/>
          </a:xfrm>
          <a:custGeom>
            <a:avLst/>
            <a:gdLst/>
            <a:ahLst/>
            <a:rect l="l" t="t" r="r" b="b"/>
            <a:pathLst>
              <a:path w="2729" h="1365">
                <a:moveTo>
                  <a:pt x="5606" y="15900"/>
                </a:moveTo>
                <a:cubicBezTo>
                  <a:pt x="5667" y="15851"/>
                  <a:pt x="5701" y="15850"/>
                  <a:pt x="5779" y="15850"/>
                </a:cubicBezTo>
                <a:cubicBezTo>
                  <a:pt x="5787" y="15850"/>
                  <a:pt x="5796" y="15850"/>
                  <a:pt x="5804" y="15850"/>
                </a:cubicBezTo>
              </a:path>
              <a:path w="2729" h="1365">
                <a:moveTo>
                  <a:pt x="5606" y="15949"/>
                </a:moveTo>
                <a:cubicBezTo>
                  <a:pt x="5698" y="16019"/>
                  <a:pt x="5735" y="15986"/>
                  <a:pt x="5854" y="15974"/>
                </a:cubicBezTo>
              </a:path>
              <a:path w="2729" h="1365">
                <a:moveTo>
                  <a:pt x="6747" y="15379"/>
                </a:moveTo>
                <a:cubicBezTo>
                  <a:pt x="6763" y="15404"/>
                  <a:pt x="6780" y="15428"/>
                  <a:pt x="6796" y="15453"/>
                </a:cubicBezTo>
                <a:cubicBezTo>
                  <a:pt x="6789" y="15399"/>
                  <a:pt x="6782" y="15346"/>
                  <a:pt x="6747" y="15304"/>
                </a:cubicBezTo>
                <a:cubicBezTo>
                  <a:pt x="6712" y="15261"/>
                  <a:pt x="6656" y="15233"/>
                  <a:pt x="6598" y="15255"/>
                </a:cubicBezTo>
                <a:cubicBezTo>
                  <a:pt x="6550" y="15274"/>
                  <a:pt x="6492" y="15288"/>
                  <a:pt x="6449" y="15329"/>
                </a:cubicBezTo>
                <a:cubicBezTo>
                  <a:pt x="6368" y="15407"/>
                  <a:pt x="6323" y="15455"/>
                  <a:pt x="6276" y="15553"/>
                </a:cubicBezTo>
                <a:cubicBezTo>
                  <a:pt x="6236" y="15636"/>
                  <a:pt x="6208" y="15704"/>
                  <a:pt x="6226" y="15801"/>
                </a:cubicBezTo>
                <a:cubicBezTo>
                  <a:pt x="6248" y="15919"/>
                  <a:pt x="6307" y="15962"/>
                  <a:pt x="6375" y="16049"/>
                </a:cubicBezTo>
                <a:cubicBezTo>
                  <a:pt x="6464" y="16163"/>
                  <a:pt x="6523" y="16174"/>
                  <a:pt x="6648" y="16247"/>
                </a:cubicBezTo>
                <a:cubicBezTo>
                  <a:pt x="6719" y="16288"/>
                  <a:pt x="6769" y="16317"/>
                  <a:pt x="6846" y="16321"/>
                </a:cubicBezTo>
                <a:cubicBezTo>
                  <a:pt x="6946" y="16327"/>
                  <a:pt x="6958" y="16320"/>
                  <a:pt x="6970" y="16222"/>
                </a:cubicBezTo>
              </a:path>
              <a:path w="2729" h="1365">
                <a:moveTo>
                  <a:pt x="4242" y="15180"/>
                </a:moveTo>
                <a:cubicBezTo>
                  <a:pt x="4276" y="15275"/>
                  <a:pt x="4287" y="15375"/>
                  <a:pt x="4291" y="15478"/>
                </a:cubicBezTo>
                <a:cubicBezTo>
                  <a:pt x="4298" y="15687"/>
                  <a:pt x="4290" y="15895"/>
                  <a:pt x="4266" y="16098"/>
                </a:cubicBezTo>
                <a:cubicBezTo>
                  <a:pt x="4256" y="16180"/>
                  <a:pt x="4248" y="16265"/>
                  <a:pt x="4242" y="16346"/>
                </a:cubicBezTo>
                <a:cubicBezTo>
                  <a:pt x="4242" y="16354"/>
                  <a:pt x="4242" y="16363"/>
                  <a:pt x="4242" y="16371"/>
                </a:cubicBezTo>
              </a:path>
              <a:path w="2729" h="1365">
                <a:moveTo>
                  <a:pt x="4688" y="15329"/>
                </a:moveTo>
                <a:cubicBezTo>
                  <a:pt x="4680" y="15448"/>
                  <a:pt x="4651" y="15562"/>
                  <a:pt x="4638" y="15677"/>
                </a:cubicBezTo>
                <a:cubicBezTo>
                  <a:pt x="4621" y="15824"/>
                  <a:pt x="4633" y="15980"/>
                  <a:pt x="4663" y="16123"/>
                </a:cubicBezTo>
                <a:cubicBezTo>
                  <a:pt x="4692" y="16263"/>
                  <a:pt x="4692" y="16311"/>
                  <a:pt x="4812" y="16371"/>
                </a:cubicBezTo>
                <a:cubicBezTo>
                  <a:pt x="4923" y="16355"/>
                  <a:pt x="4943" y="16253"/>
                  <a:pt x="4986" y="16148"/>
                </a:cubicBezTo>
                <a:cubicBezTo>
                  <a:pt x="5020" y="16066"/>
                  <a:pt x="5032" y="15962"/>
                  <a:pt x="5035" y="15875"/>
                </a:cubicBezTo>
                <a:cubicBezTo>
                  <a:pt x="5039" y="15759"/>
                  <a:pt x="5047" y="15636"/>
                  <a:pt x="5011" y="15528"/>
                </a:cubicBezTo>
                <a:cubicBezTo>
                  <a:pt x="4982" y="15439"/>
                  <a:pt x="4944" y="15356"/>
                  <a:pt x="4887" y="15280"/>
                </a:cubicBezTo>
                <a:cubicBezTo>
                  <a:pt x="4848" y="15227"/>
                  <a:pt x="4818" y="15174"/>
                  <a:pt x="4738" y="15205"/>
                </a:cubicBezTo>
                <a:cubicBezTo>
                  <a:pt x="4662" y="15234"/>
                  <a:pt x="4688" y="15372"/>
                  <a:pt x="4688" y="15429"/>
                </a:cubicBezTo>
              </a:path>
              <a:path w="2729" h="1365">
                <a:moveTo>
                  <a:pt x="5159" y="15106"/>
                </a:moveTo>
                <a:cubicBezTo>
                  <a:pt x="5166" y="15159"/>
                  <a:pt x="5174" y="15259"/>
                  <a:pt x="5259" y="15230"/>
                </a:cubicBezTo>
                <a:cubicBezTo>
                  <a:pt x="5319" y="15210"/>
                  <a:pt x="5301" y="15118"/>
                  <a:pt x="5283" y="15081"/>
                </a:cubicBezTo>
                <a:cubicBezTo>
                  <a:pt x="5265" y="15044"/>
                  <a:pt x="5215" y="15025"/>
                  <a:pt x="5184" y="150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Ink 20"/>
          <p:cNvSpPr/>
          <p:nvPr/>
        </p:nvSpPr>
        <p:spPr>
          <a:xfrm>
            <a:off x="608040" y="4473720"/>
            <a:ext cx="2293920" cy="428400"/>
          </a:xfrm>
          <a:custGeom>
            <a:avLst/>
            <a:gdLst/>
            <a:ahLst/>
            <a:rect l="l" t="t" r="r" b="b"/>
            <a:pathLst>
              <a:path w="6376" h="1192">
                <a:moveTo>
                  <a:pt x="5482" y="12526"/>
                </a:moveTo>
                <a:cubicBezTo>
                  <a:pt x="5571" y="12485"/>
                  <a:pt x="5623" y="12477"/>
                  <a:pt x="5730" y="12477"/>
                </a:cubicBezTo>
                <a:cubicBezTo>
                  <a:pt x="5857" y="12477"/>
                  <a:pt x="5979" y="12492"/>
                  <a:pt x="6102" y="12502"/>
                </a:cubicBezTo>
                <a:cubicBezTo>
                  <a:pt x="6274" y="12516"/>
                  <a:pt x="6453" y="12515"/>
                  <a:pt x="6623" y="12526"/>
                </a:cubicBezTo>
                <a:cubicBezTo>
                  <a:pt x="6877" y="12542"/>
                  <a:pt x="7138" y="12505"/>
                  <a:pt x="7392" y="12502"/>
                </a:cubicBezTo>
                <a:cubicBezTo>
                  <a:pt x="7529" y="12500"/>
                  <a:pt x="7630" y="12488"/>
                  <a:pt x="7764" y="12502"/>
                </a:cubicBezTo>
                <a:cubicBezTo>
                  <a:pt x="7836" y="12510"/>
                  <a:pt x="8144" y="12544"/>
                  <a:pt x="7987" y="12477"/>
                </a:cubicBezTo>
              </a:path>
              <a:path w="6376" h="1192">
                <a:moveTo>
                  <a:pt x="6325" y="12675"/>
                </a:moveTo>
                <a:cubicBezTo>
                  <a:pt x="6457" y="12675"/>
                  <a:pt x="6590" y="12675"/>
                  <a:pt x="6722" y="12675"/>
                </a:cubicBezTo>
                <a:cubicBezTo>
                  <a:pt x="6675" y="12769"/>
                  <a:pt x="6639" y="12840"/>
                  <a:pt x="6623" y="12948"/>
                </a:cubicBezTo>
                <a:cubicBezTo>
                  <a:pt x="6606" y="13062"/>
                  <a:pt x="6605" y="13241"/>
                  <a:pt x="6648" y="13345"/>
                </a:cubicBezTo>
                <a:cubicBezTo>
                  <a:pt x="6676" y="13414"/>
                  <a:pt x="6693" y="13485"/>
                  <a:pt x="6722" y="13543"/>
                </a:cubicBezTo>
                <a:cubicBezTo>
                  <a:pt x="6742" y="13584"/>
                  <a:pt x="6751" y="13590"/>
                  <a:pt x="6747" y="13618"/>
                </a:cubicBezTo>
              </a:path>
              <a:path w="6376" h="1192">
                <a:moveTo>
                  <a:pt x="1687" y="12477"/>
                </a:moveTo>
                <a:cubicBezTo>
                  <a:pt x="1872" y="12477"/>
                  <a:pt x="2052" y="12468"/>
                  <a:pt x="2232" y="12452"/>
                </a:cubicBezTo>
                <a:cubicBezTo>
                  <a:pt x="2412" y="12436"/>
                  <a:pt x="2598" y="12441"/>
                  <a:pt x="2778" y="12427"/>
                </a:cubicBezTo>
                <a:cubicBezTo>
                  <a:pt x="3025" y="12408"/>
                  <a:pt x="3277" y="12437"/>
                  <a:pt x="3522" y="12452"/>
                </a:cubicBezTo>
                <a:cubicBezTo>
                  <a:pt x="3671" y="12461"/>
                  <a:pt x="3822" y="12466"/>
                  <a:pt x="3969" y="12477"/>
                </a:cubicBezTo>
                <a:cubicBezTo>
                  <a:pt x="4114" y="12487"/>
                  <a:pt x="4248" y="12510"/>
                  <a:pt x="4390" y="12526"/>
                </a:cubicBezTo>
                <a:cubicBezTo>
                  <a:pt x="4500" y="12539"/>
                  <a:pt x="4604" y="12561"/>
                  <a:pt x="4713" y="12576"/>
                </a:cubicBezTo>
                <a:cubicBezTo>
                  <a:pt x="4729" y="12576"/>
                  <a:pt x="4746" y="12576"/>
                  <a:pt x="4762" y="12576"/>
                </a:cubicBezTo>
              </a:path>
              <a:path w="6376" h="1192">
                <a:moveTo>
                  <a:pt x="3026" y="12626"/>
                </a:moveTo>
                <a:cubicBezTo>
                  <a:pt x="3103" y="12626"/>
                  <a:pt x="3179" y="12629"/>
                  <a:pt x="3249" y="12650"/>
                </a:cubicBezTo>
                <a:cubicBezTo>
                  <a:pt x="3304" y="12667"/>
                  <a:pt x="3374" y="12690"/>
                  <a:pt x="3423" y="12700"/>
                </a:cubicBezTo>
                <a:cubicBezTo>
                  <a:pt x="3468" y="12709"/>
                  <a:pt x="3526" y="12700"/>
                  <a:pt x="3572" y="12700"/>
                </a:cubicBezTo>
                <a:cubicBezTo>
                  <a:pt x="3542" y="12779"/>
                  <a:pt x="3526" y="12862"/>
                  <a:pt x="3522" y="12948"/>
                </a:cubicBezTo>
                <a:cubicBezTo>
                  <a:pt x="3517" y="13058"/>
                  <a:pt x="3465" y="13388"/>
                  <a:pt x="3547" y="13469"/>
                </a:cubicBezTo>
                <a:cubicBezTo>
                  <a:pt x="3547" y="13461"/>
                  <a:pt x="3547" y="13452"/>
                  <a:pt x="3547" y="134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Ink 21"/>
          <p:cNvSpPr/>
          <p:nvPr/>
        </p:nvSpPr>
        <p:spPr>
          <a:xfrm>
            <a:off x="4295880" y="3483000"/>
            <a:ext cx="955440" cy="392040"/>
          </a:xfrm>
          <a:custGeom>
            <a:avLst/>
            <a:gdLst/>
            <a:ahLst/>
            <a:rect l="l" t="t" r="r" b="b"/>
            <a:pathLst>
              <a:path w="2655" h="1092">
                <a:moveTo>
                  <a:pt x="12303" y="10071"/>
                </a:moveTo>
                <a:cubicBezTo>
                  <a:pt x="12347" y="10135"/>
                  <a:pt x="12353" y="10130"/>
                  <a:pt x="12353" y="10220"/>
                </a:cubicBezTo>
                <a:cubicBezTo>
                  <a:pt x="12315" y="10173"/>
                  <a:pt x="12290" y="10119"/>
                  <a:pt x="12254" y="10071"/>
                </a:cubicBezTo>
                <a:cubicBezTo>
                  <a:pt x="12217" y="10021"/>
                  <a:pt x="12113" y="10046"/>
                  <a:pt x="12055" y="10046"/>
                </a:cubicBezTo>
                <a:cubicBezTo>
                  <a:pt x="11974" y="10046"/>
                  <a:pt x="11935" y="10029"/>
                  <a:pt x="11931" y="10120"/>
                </a:cubicBezTo>
                <a:cubicBezTo>
                  <a:pt x="11929" y="10162"/>
                  <a:pt x="11980" y="10244"/>
                  <a:pt x="12030" y="10269"/>
                </a:cubicBezTo>
                <a:cubicBezTo>
                  <a:pt x="12084" y="10296"/>
                  <a:pt x="12147" y="10323"/>
                  <a:pt x="12204" y="10344"/>
                </a:cubicBezTo>
                <a:cubicBezTo>
                  <a:pt x="12241" y="10358"/>
                  <a:pt x="12350" y="10415"/>
                  <a:pt x="12378" y="10443"/>
                </a:cubicBezTo>
                <a:cubicBezTo>
                  <a:pt x="12418" y="10483"/>
                  <a:pt x="12466" y="10539"/>
                  <a:pt x="12477" y="10592"/>
                </a:cubicBezTo>
                <a:cubicBezTo>
                  <a:pt x="12491" y="10662"/>
                  <a:pt x="12447" y="10747"/>
                  <a:pt x="12378" y="10765"/>
                </a:cubicBezTo>
                <a:cubicBezTo>
                  <a:pt x="12303" y="10785"/>
                  <a:pt x="12222" y="10751"/>
                  <a:pt x="12154" y="10740"/>
                </a:cubicBezTo>
                <a:cubicBezTo>
                  <a:pt x="12072" y="10727"/>
                  <a:pt x="12065" y="10669"/>
                  <a:pt x="12005" y="10641"/>
                </a:cubicBezTo>
                <a:cubicBezTo>
                  <a:pt x="11946" y="10641"/>
                  <a:pt x="11927" y="10632"/>
                  <a:pt x="11931" y="10567"/>
                </a:cubicBezTo>
              </a:path>
              <a:path w="2655" h="1092">
                <a:moveTo>
                  <a:pt x="12650" y="10195"/>
                </a:moveTo>
                <a:cubicBezTo>
                  <a:pt x="12670" y="10274"/>
                  <a:pt x="12675" y="10337"/>
                  <a:pt x="12675" y="10418"/>
                </a:cubicBezTo>
                <a:cubicBezTo>
                  <a:pt x="12675" y="10496"/>
                  <a:pt x="12724" y="10591"/>
                  <a:pt x="12650" y="10517"/>
                </a:cubicBezTo>
              </a:path>
              <a:path w="2655" h="1092">
                <a:moveTo>
                  <a:pt x="12675" y="9847"/>
                </a:moveTo>
                <a:cubicBezTo>
                  <a:pt x="12683" y="9839"/>
                  <a:pt x="12692" y="9831"/>
                  <a:pt x="12700" y="9823"/>
                </a:cubicBezTo>
              </a:path>
              <a:path w="2655" h="1092">
                <a:moveTo>
                  <a:pt x="12898" y="10269"/>
                </a:moveTo>
                <a:cubicBezTo>
                  <a:pt x="12898" y="10360"/>
                  <a:pt x="12898" y="10385"/>
                  <a:pt x="12898" y="10443"/>
                </a:cubicBezTo>
                <a:cubicBezTo>
                  <a:pt x="12898" y="10348"/>
                  <a:pt x="12931" y="10286"/>
                  <a:pt x="12948" y="10195"/>
                </a:cubicBezTo>
                <a:cubicBezTo>
                  <a:pt x="12956" y="10149"/>
                  <a:pt x="12971" y="10075"/>
                  <a:pt x="13022" y="10046"/>
                </a:cubicBezTo>
                <a:cubicBezTo>
                  <a:pt x="13093" y="10006"/>
                  <a:pt x="13157" y="10084"/>
                  <a:pt x="13196" y="10120"/>
                </a:cubicBezTo>
                <a:cubicBezTo>
                  <a:pt x="13224" y="10147"/>
                  <a:pt x="13262" y="10258"/>
                  <a:pt x="13271" y="10294"/>
                </a:cubicBezTo>
                <a:cubicBezTo>
                  <a:pt x="13284" y="10346"/>
                  <a:pt x="13272" y="10486"/>
                  <a:pt x="13271" y="10492"/>
                </a:cubicBezTo>
                <a:cubicBezTo>
                  <a:pt x="13271" y="10517"/>
                  <a:pt x="13271" y="10542"/>
                  <a:pt x="13271" y="10567"/>
                </a:cubicBezTo>
              </a:path>
              <a:path w="2655" h="1092">
                <a:moveTo>
                  <a:pt x="13419" y="9922"/>
                </a:moveTo>
                <a:cubicBezTo>
                  <a:pt x="13462" y="9906"/>
                  <a:pt x="13545" y="9873"/>
                  <a:pt x="13593" y="9897"/>
                </a:cubicBezTo>
                <a:cubicBezTo>
                  <a:pt x="13649" y="9925"/>
                  <a:pt x="13659" y="10068"/>
                  <a:pt x="13643" y="10120"/>
                </a:cubicBezTo>
                <a:cubicBezTo>
                  <a:pt x="13625" y="10177"/>
                  <a:pt x="13574" y="10241"/>
                  <a:pt x="13543" y="10294"/>
                </a:cubicBezTo>
                <a:cubicBezTo>
                  <a:pt x="13495" y="10375"/>
                  <a:pt x="13439" y="10403"/>
                  <a:pt x="13519" y="10492"/>
                </a:cubicBezTo>
                <a:cubicBezTo>
                  <a:pt x="13563" y="10541"/>
                  <a:pt x="13638" y="10500"/>
                  <a:pt x="13692" y="10492"/>
                </a:cubicBezTo>
                <a:cubicBezTo>
                  <a:pt x="13778" y="10492"/>
                  <a:pt x="13817" y="10464"/>
                  <a:pt x="13841" y="10368"/>
                </a:cubicBezTo>
              </a:path>
              <a:path w="2655" h="1092">
                <a:moveTo>
                  <a:pt x="13915" y="9897"/>
                </a:moveTo>
                <a:cubicBezTo>
                  <a:pt x="13908" y="9985"/>
                  <a:pt x="13894" y="10042"/>
                  <a:pt x="13915" y="10120"/>
                </a:cubicBezTo>
                <a:cubicBezTo>
                  <a:pt x="13936" y="10196"/>
                  <a:pt x="13964" y="10260"/>
                  <a:pt x="14039" y="10269"/>
                </a:cubicBezTo>
                <a:cubicBezTo>
                  <a:pt x="14081" y="10269"/>
                  <a:pt x="14089" y="10269"/>
                  <a:pt x="14114" y="10269"/>
                </a:cubicBezTo>
              </a:path>
              <a:path w="2655" h="1092">
                <a:moveTo>
                  <a:pt x="14188" y="9823"/>
                </a:moveTo>
                <a:cubicBezTo>
                  <a:pt x="14179" y="9907"/>
                  <a:pt x="14163" y="9943"/>
                  <a:pt x="14163" y="10046"/>
                </a:cubicBezTo>
                <a:cubicBezTo>
                  <a:pt x="14163" y="10176"/>
                  <a:pt x="14166" y="10292"/>
                  <a:pt x="14188" y="10418"/>
                </a:cubicBezTo>
                <a:cubicBezTo>
                  <a:pt x="14196" y="10465"/>
                  <a:pt x="14188" y="10519"/>
                  <a:pt x="14188" y="10567"/>
                </a:cubicBezTo>
              </a:path>
              <a:path w="2655" h="1092">
                <a:moveTo>
                  <a:pt x="14412" y="9823"/>
                </a:moveTo>
                <a:cubicBezTo>
                  <a:pt x="14426" y="9896"/>
                  <a:pt x="14437" y="9918"/>
                  <a:pt x="14511" y="9922"/>
                </a:cubicBezTo>
                <a:cubicBezTo>
                  <a:pt x="14527" y="9922"/>
                  <a:pt x="14544" y="9922"/>
                  <a:pt x="14560" y="9922"/>
                </a:cubicBezTo>
                <a:cubicBezTo>
                  <a:pt x="14572" y="9891"/>
                  <a:pt x="14626" y="9734"/>
                  <a:pt x="14560" y="9699"/>
                </a:cubicBezTo>
                <a:cubicBezTo>
                  <a:pt x="14501" y="9699"/>
                  <a:pt x="14475" y="9696"/>
                  <a:pt x="14436" y="96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Ink 22"/>
          <p:cNvSpPr/>
          <p:nvPr/>
        </p:nvSpPr>
        <p:spPr>
          <a:xfrm>
            <a:off x="4214880" y="3483000"/>
            <a:ext cx="2251080" cy="938160"/>
          </a:xfrm>
          <a:custGeom>
            <a:avLst/>
            <a:gdLst/>
            <a:ahLst/>
            <a:rect l="l" t="t" r="r" b="b"/>
            <a:pathLst>
              <a:path w="6252" h="2605">
                <a:moveTo>
                  <a:pt x="11708" y="10964"/>
                </a:moveTo>
                <a:cubicBezTo>
                  <a:pt x="11838" y="10964"/>
                  <a:pt x="11951" y="10943"/>
                  <a:pt x="12080" y="10939"/>
                </a:cubicBezTo>
                <a:cubicBezTo>
                  <a:pt x="12280" y="10933"/>
                  <a:pt x="12477" y="10925"/>
                  <a:pt x="12675" y="10914"/>
                </a:cubicBezTo>
                <a:cubicBezTo>
                  <a:pt x="12889" y="10902"/>
                  <a:pt x="13106" y="10900"/>
                  <a:pt x="13320" y="10889"/>
                </a:cubicBezTo>
                <a:cubicBezTo>
                  <a:pt x="13675" y="10870"/>
                  <a:pt x="14040" y="10899"/>
                  <a:pt x="14387" y="10864"/>
                </a:cubicBezTo>
                <a:cubicBezTo>
                  <a:pt x="14488" y="10864"/>
                  <a:pt x="14520" y="10863"/>
                  <a:pt x="14412" y="10790"/>
                </a:cubicBezTo>
              </a:path>
              <a:path w="6252" h="2605">
                <a:moveTo>
                  <a:pt x="12477" y="11336"/>
                </a:moveTo>
                <a:cubicBezTo>
                  <a:pt x="12576" y="11336"/>
                  <a:pt x="12658" y="11327"/>
                  <a:pt x="12750" y="11311"/>
                </a:cubicBezTo>
                <a:cubicBezTo>
                  <a:pt x="12810" y="11301"/>
                  <a:pt x="12867" y="11289"/>
                  <a:pt x="12923" y="11286"/>
                </a:cubicBezTo>
                <a:cubicBezTo>
                  <a:pt x="13006" y="11282"/>
                  <a:pt x="13057" y="11316"/>
                  <a:pt x="13022" y="11410"/>
                </a:cubicBezTo>
                <a:cubicBezTo>
                  <a:pt x="13003" y="11462"/>
                  <a:pt x="12959" y="11548"/>
                  <a:pt x="12948" y="11609"/>
                </a:cubicBezTo>
                <a:cubicBezTo>
                  <a:pt x="12928" y="11725"/>
                  <a:pt x="12890" y="11838"/>
                  <a:pt x="12874" y="11956"/>
                </a:cubicBezTo>
                <a:cubicBezTo>
                  <a:pt x="12864" y="12030"/>
                  <a:pt x="12852" y="12107"/>
                  <a:pt x="12849" y="12179"/>
                </a:cubicBezTo>
                <a:cubicBezTo>
                  <a:pt x="12849" y="12237"/>
                  <a:pt x="12849" y="12245"/>
                  <a:pt x="12849" y="12278"/>
                </a:cubicBezTo>
              </a:path>
              <a:path w="6252" h="2605">
                <a:moveTo>
                  <a:pt x="14436" y="10864"/>
                </a:moveTo>
                <a:cubicBezTo>
                  <a:pt x="14544" y="10864"/>
                  <a:pt x="14651" y="10864"/>
                  <a:pt x="14759" y="10864"/>
                </a:cubicBezTo>
              </a:path>
              <a:path w="6252" h="2605">
                <a:moveTo>
                  <a:pt x="14511" y="11013"/>
                </a:moveTo>
                <a:cubicBezTo>
                  <a:pt x="14585" y="11013"/>
                  <a:pt x="14660" y="11013"/>
                  <a:pt x="14734" y="11013"/>
                </a:cubicBezTo>
              </a:path>
              <a:path w="6252" h="2605">
                <a:moveTo>
                  <a:pt x="15677" y="10120"/>
                </a:moveTo>
                <a:cubicBezTo>
                  <a:pt x="15567" y="10096"/>
                  <a:pt x="15469" y="10079"/>
                  <a:pt x="15354" y="10120"/>
                </a:cubicBezTo>
                <a:cubicBezTo>
                  <a:pt x="15346" y="10128"/>
                  <a:pt x="15337" y="10137"/>
                  <a:pt x="15329" y="10145"/>
                </a:cubicBezTo>
                <a:cubicBezTo>
                  <a:pt x="15367" y="10212"/>
                  <a:pt x="15398" y="10245"/>
                  <a:pt x="15453" y="10294"/>
                </a:cubicBezTo>
                <a:cubicBezTo>
                  <a:pt x="15507" y="10342"/>
                  <a:pt x="15549" y="10458"/>
                  <a:pt x="15602" y="10492"/>
                </a:cubicBezTo>
                <a:cubicBezTo>
                  <a:pt x="15635" y="10513"/>
                  <a:pt x="15700" y="10579"/>
                  <a:pt x="15627" y="10641"/>
                </a:cubicBezTo>
                <a:cubicBezTo>
                  <a:pt x="15555" y="10703"/>
                  <a:pt x="15375" y="10626"/>
                  <a:pt x="15329" y="10592"/>
                </a:cubicBezTo>
                <a:cubicBezTo>
                  <a:pt x="15281" y="10568"/>
                  <a:pt x="15265" y="10561"/>
                  <a:pt x="15280" y="10517"/>
                </a:cubicBezTo>
              </a:path>
              <a:path w="6252" h="2605">
                <a:moveTo>
                  <a:pt x="15949" y="10145"/>
                </a:moveTo>
                <a:cubicBezTo>
                  <a:pt x="15968" y="10318"/>
                  <a:pt x="15956" y="10375"/>
                  <a:pt x="15949" y="10517"/>
                </a:cubicBezTo>
                <a:cubicBezTo>
                  <a:pt x="15949" y="10562"/>
                  <a:pt x="15953" y="10575"/>
                  <a:pt x="15925" y="10592"/>
                </a:cubicBezTo>
              </a:path>
              <a:path w="6252" h="2605">
                <a:moveTo>
                  <a:pt x="15974" y="9847"/>
                </a:moveTo>
                <a:cubicBezTo>
                  <a:pt x="15999" y="9839"/>
                  <a:pt x="16024" y="9831"/>
                  <a:pt x="16049" y="9823"/>
                </a:cubicBezTo>
              </a:path>
              <a:path w="6252" h="2605">
                <a:moveTo>
                  <a:pt x="16173" y="10344"/>
                </a:moveTo>
                <a:cubicBezTo>
                  <a:pt x="16173" y="10468"/>
                  <a:pt x="16173" y="10493"/>
                  <a:pt x="16173" y="10567"/>
                </a:cubicBezTo>
                <a:cubicBezTo>
                  <a:pt x="16173" y="10626"/>
                  <a:pt x="16189" y="10473"/>
                  <a:pt x="16197" y="10443"/>
                </a:cubicBezTo>
                <a:cubicBezTo>
                  <a:pt x="16215" y="10376"/>
                  <a:pt x="16232" y="10279"/>
                  <a:pt x="16272" y="10220"/>
                </a:cubicBezTo>
                <a:cubicBezTo>
                  <a:pt x="16302" y="10175"/>
                  <a:pt x="16320" y="10133"/>
                  <a:pt x="16371" y="10120"/>
                </a:cubicBezTo>
                <a:cubicBezTo>
                  <a:pt x="16440" y="10149"/>
                  <a:pt x="16457" y="10203"/>
                  <a:pt x="16470" y="10294"/>
                </a:cubicBezTo>
                <a:cubicBezTo>
                  <a:pt x="16480" y="10363"/>
                  <a:pt x="16492" y="10429"/>
                  <a:pt x="16495" y="10492"/>
                </a:cubicBezTo>
                <a:cubicBezTo>
                  <a:pt x="16498" y="10560"/>
                  <a:pt x="16486" y="10607"/>
                  <a:pt x="16520" y="10641"/>
                </a:cubicBezTo>
              </a:path>
              <a:path w="6252" h="2605">
                <a:moveTo>
                  <a:pt x="16768" y="9897"/>
                </a:moveTo>
                <a:cubicBezTo>
                  <a:pt x="16768" y="9997"/>
                  <a:pt x="16764" y="10099"/>
                  <a:pt x="16743" y="10195"/>
                </a:cubicBezTo>
                <a:cubicBezTo>
                  <a:pt x="16729" y="10256"/>
                  <a:pt x="16698" y="10366"/>
                  <a:pt x="16743" y="10418"/>
                </a:cubicBezTo>
                <a:cubicBezTo>
                  <a:pt x="16751" y="10418"/>
                  <a:pt x="16760" y="10418"/>
                  <a:pt x="16768" y="10418"/>
                </a:cubicBezTo>
              </a:path>
              <a:path w="6252" h="2605">
                <a:moveTo>
                  <a:pt x="16991" y="9823"/>
                </a:moveTo>
                <a:cubicBezTo>
                  <a:pt x="16991" y="9910"/>
                  <a:pt x="16983" y="9997"/>
                  <a:pt x="17016" y="10071"/>
                </a:cubicBezTo>
                <a:cubicBezTo>
                  <a:pt x="17054" y="10154"/>
                  <a:pt x="17099" y="10160"/>
                  <a:pt x="17165" y="10195"/>
                </a:cubicBezTo>
                <a:cubicBezTo>
                  <a:pt x="17209" y="10219"/>
                  <a:pt x="17211" y="10206"/>
                  <a:pt x="17264" y="10195"/>
                </a:cubicBezTo>
              </a:path>
              <a:path w="6252" h="2605">
                <a:moveTo>
                  <a:pt x="17239" y="9699"/>
                </a:moveTo>
                <a:cubicBezTo>
                  <a:pt x="17239" y="9797"/>
                  <a:pt x="17225" y="9877"/>
                  <a:pt x="17214" y="9971"/>
                </a:cubicBezTo>
                <a:cubicBezTo>
                  <a:pt x="17199" y="10099"/>
                  <a:pt x="17225" y="10222"/>
                  <a:pt x="17239" y="10344"/>
                </a:cubicBezTo>
                <a:cubicBezTo>
                  <a:pt x="17246" y="10409"/>
                  <a:pt x="17239" y="10509"/>
                  <a:pt x="17239" y="10443"/>
                </a:cubicBezTo>
              </a:path>
              <a:path w="6252" h="2605">
                <a:moveTo>
                  <a:pt x="17413" y="9748"/>
                </a:moveTo>
                <a:cubicBezTo>
                  <a:pt x="17405" y="9843"/>
                  <a:pt x="17406" y="9952"/>
                  <a:pt x="17388" y="10046"/>
                </a:cubicBezTo>
                <a:cubicBezTo>
                  <a:pt x="17374" y="10120"/>
                  <a:pt x="17338" y="10215"/>
                  <a:pt x="17363" y="10294"/>
                </a:cubicBezTo>
                <a:cubicBezTo>
                  <a:pt x="17377" y="10340"/>
                  <a:pt x="17385" y="10465"/>
                  <a:pt x="17438" y="10492"/>
                </a:cubicBezTo>
                <a:cubicBezTo>
                  <a:pt x="17507" y="10527"/>
                  <a:pt x="17509" y="10493"/>
                  <a:pt x="17562" y="10567"/>
                </a:cubicBezTo>
                <a:cubicBezTo>
                  <a:pt x="17608" y="10498"/>
                  <a:pt x="17662" y="10434"/>
                  <a:pt x="17711" y="10368"/>
                </a:cubicBezTo>
                <a:cubicBezTo>
                  <a:pt x="17759" y="10304"/>
                  <a:pt x="17737" y="10233"/>
                  <a:pt x="17686" y="10195"/>
                </a:cubicBezTo>
                <a:cubicBezTo>
                  <a:pt x="17616" y="10212"/>
                  <a:pt x="17593" y="10273"/>
                  <a:pt x="17587" y="10344"/>
                </a:cubicBezTo>
                <a:cubicBezTo>
                  <a:pt x="17587" y="10401"/>
                  <a:pt x="17570" y="10426"/>
                  <a:pt x="17611" y="10418"/>
                </a:cubicBezTo>
              </a:path>
              <a:path w="6252" h="2605">
                <a:moveTo>
                  <a:pt x="17760" y="9748"/>
                </a:moveTo>
                <a:cubicBezTo>
                  <a:pt x="17768" y="9825"/>
                  <a:pt x="17781" y="9885"/>
                  <a:pt x="17884" y="9847"/>
                </a:cubicBezTo>
                <a:cubicBezTo>
                  <a:pt x="17929" y="9830"/>
                  <a:pt x="17995" y="9754"/>
                  <a:pt x="17959" y="9699"/>
                </a:cubicBezTo>
                <a:cubicBezTo>
                  <a:pt x="17928" y="9652"/>
                  <a:pt x="17830" y="9674"/>
                  <a:pt x="17785" y="9674"/>
                </a:cubicBezTo>
              </a:path>
              <a:path w="6252" h="2605">
                <a:moveTo>
                  <a:pt x="15553" y="10840"/>
                </a:moveTo>
                <a:cubicBezTo>
                  <a:pt x="15649" y="10866"/>
                  <a:pt x="15725" y="10886"/>
                  <a:pt x="15825" y="10889"/>
                </a:cubicBezTo>
                <a:cubicBezTo>
                  <a:pt x="16108" y="10899"/>
                  <a:pt x="16389" y="10879"/>
                  <a:pt x="16669" y="10864"/>
                </a:cubicBezTo>
                <a:cubicBezTo>
                  <a:pt x="16892" y="10852"/>
                  <a:pt x="17115" y="10852"/>
                  <a:pt x="17338" y="10840"/>
                </a:cubicBezTo>
                <a:cubicBezTo>
                  <a:pt x="17401" y="10837"/>
                  <a:pt x="17569" y="10872"/>
                  <a:pt x="17611" y="10815"/>
                </a:cubicBezTo>
                <a:cubicBezTo>
                  <a:pt x="17611" y="10807"/>
                  <a:pt x="17611" y="10798"/>
                  <a:pt x="17611" y="10790"/>
                </a:cubicBezTo>
              </a:path>
              <a:path w="6252" h="2605">
                <a:moveTo>
                  <a:pt x="16818" y="11162"/>
                </a:moveTo>
                <a:cubicBezTo>
                  <a:pt x="16799" y="11291"/>
                  <a:pt x="16793" y="11404"/>
                  <a:pt x="16793" y="11534"/>
                </a:cubicBezTo>
                <a:cubicBezTo>
                  <a:pt x="16793" y="11651"/>
                  <a:pt x="16818" y="11763"/>
                  <a:pt x="16818" y="11881"/>
                </a:cubicBezTo>
                <a:cubicBezTo>
                  <a:pt x="16818" y="11942"/>
                  <a:pt x="16824" y="12113"/>
                  <a:pt x="16842" y="12055"/>
                </a:cubicBezTo>
                <a:cubicBezTo>
                  <a:pt x="16863" y="11990"/>
                  <a:pt x="16865" y="11894"/>
                  <a:pt x="16892" y="11832"/>
                </a:cubicBezTo>
                <a:cubicBezTo>
                  <a:pt x="16908" y="11795"/>
                  <a:pt x="16949" y="11742"/>
                  <a:pt x="16966" y="11708"/>
                </a:cubicBezTo>
                <a:cubicBezTo>
                  <a:pt x="17009" y="11622"/>
                  <a:pt x="17149" y="11654"/>
                  <a:pt x="17214" y="11683"/>
                </a:cubicBezTo>
                <a:cubicBezTo>
                  <a:pt x="17254" y="11701"/>
                  <a:pt x="17317" y="11796"/>
                  <a:pt x="17338" y="11832"/>
                </a:cubicBezTo>
                <a:cubicBezTo>
                  <a:pt x="17379" y="11902"/>
                  <a:pt x="17410" y="11955"/>
                  <a:pt x="17363" y="12030"/>
                </a:cubicBezTo>
                <a:cubicBezTo>
                  <a:pt x="17332" y="12080"/>
                  <a:pt x="17293" y="12103"/>
                  <a:pt x="17239" y="12105"/>
                </a:cubicBezTo>
                <a:cubicBezTo>
                  <a:pt x="17126" y="12109"/>
                  <a:pt x="17082" y="12079"/>
                  <a:pt x="16991" y="12030"/>
                </a:cubicBezTo>
                <a:cubicBezTo>
                  <a:pt x="16923" y="11994"/>
                  <a:pt x="16859" y="11969"/>
                  <a:pt x="16793" y="119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Ink 23"/>
          <p:cNvSpPr/>
          <p:nvPr/>
        </p:nvSpPr>
        <p:spPr>
          <a:xfrm>
            <a:off x="4224240" y="4456080"/>
            <a:ext cx="1722600" cy="384120"/>
          </a:xfrm>
          <a:custGeom>
            <a:avLst/>
            <a:gdLst/>
            <a:ahLst/>
            <a:rect l="l" t="t" r="r" b="b"/>
            <a:pathLst>
              <a:path w="4788" h="1067">
                <a:moveTo>
                  <a:pt x="11733" y="12378"/>
                </a:moveTo>
                <a:cubicBezTo>
                  <a:pt x="11758" y="12487"/>
                  <a:pt x="11792" y="12591"/>
                  <a:pt x="11807" y="12700"/>
                </a:cubicBezTo>
                <a:cubicBezTo>
                  <a:pt x="11826" y="12840"/>
                  <a:pt x="11799" y="12990"/>
                  <a:pt x="11782" y="13122"/>
                </a:cubicBezTo>
                <a:cubicBezTo>
                  <a:pt x="11773" y="13191"/>
                  <a:pt x="11769" y="13261"/>
                  <a:pt x="11757" y="13320"/>
                </a:cubicBezTo>
                <a:cubicBezTo>
                  <a:pt x="11757" y="13337"/>
                  <a:pt x="11757" y="13353"/>
                  <a:pt x="11757" y="13370"/>
                </a:cubicBezTo>
                <a:cubicBezTo>
                  <a:pt x="11767" y="13280"/>
                  <a:pt x="11814" y="13207"/>
                  <a:pt x="11832" y="13122"/>
                </a:cubicBezTo>
                <a:cubicBezTo>
                  <a:pt x="11847" y="13053"/>
                  <a:pt x="11852" y="12989"/>
                  <a:pt x="11881" y="12923"/>
                </a:cubicBezTo>
                <a:cubicBezTo>
                  <a:pt x="11913" y="12852"/>
                  <a:pt x="11957" y="12753"/>
                  <a:pt x="12055" y="12774"/>
                </a:cubicBezTo>
                <a:cubicBezTo>
                  <a:pt x="12103" y="12784"/>
                  <a:pt x="12137" y="12888"/>
                  <a:pt x="12154" y="12923"/>
                </a:cubicBezTo>
                <a:cubicBezTo>
                  <a:pt x="12196" y="13006"/>
                  <a:pt x="12245" y="13101"/>
                  <a:pt x="12229" y="13196"/>
                </a:cubicBezTo>
                <a:cubicBezTo>
                  <a:pt x="12222" y="13238"/>
                  <a:pt x="12145" y="13402"/>
                  <a:pt x="12105" y="13419"/>
                </a:cubicBezTo>
                <a:cubicBezTo>
                  <a:pt x="12049" y="13442"/>
                  <a:pt x="11922" y="13462"/>
                  <a:pt x="11857" y="13444"/>
                </a:cubicBezTo>
                <a:cubicBezTo>
                  <a:pt x="11770" y="13420"/>
                  <a:pt x="11757" y="13347"/>
                  <a:pt x="11757" y="13271"/>
                </a:cubicBezTo>
              </a:path>
              <a:path w="4788" h="1067">
                <a:moveTo>
                  <a:pt x="12576" y="12898"/>
                </a:moveTo>
                <a:cubicBezTo>
                  <a:pt x="12618" y="12940"/>
                  <a:pt x="12626" y="12947"/>
                  <a:pt x="12650" y="12973"/>
                </a:cubicBezTo>
                <a:cubicBezTo>
                  <a:pt x="12646" y="12921"/>
                  <a:pt x="12655" y="12797"/>
                  <a:pt x="12576" y="12774"/>
                </a:cubicBezTo>
                <a:cubicBezTo>
                  <a:pt x="12525" y="12759"/>
                  <a:pt x="12452" y="12771"/>
                  <a:pt x="12427" y="12824"/>
                </a:cubicBezTo>
                <a:cubicBezTo>
                  <a:pt x="12397" y="12886"/>
                  <a:pt x="12411" y="12947"/>
                  <a:pt x="12452" y="12998"/>
                </a:cubicBezTo>
                <a:cubicBezTo>
                  <a:pt x="12495" y="13050"/>
                  <a:pt x="12527" y="13097"/>
                  <a:pt x="12576" y="13146"/>
                </a:cubicBezTo>
                <a:cubicBezTo>
                  <a:pt x="12623" y="13193"/>
                  <a:pt x="12674" y="13257"/>
                  <a:pt x="12700" y="13320"/>
                </a:cubicBezTo>
                <a:cubicBezTo>
                  <a:pt x="12720" y="13381"/>
                  <a:pt x="12718" y="13396"/>
                  <a:pt x="12750" y="13419"/>
                </a:cubicBezTo>
                <a:cubicBezTo>
                  <a:pt x="12684" y="13458"/>
                  <a:pt x="12625" y="13450"/>
                  <a:pt x="12551" y="13419"/>
                </a:cubicBezTo>
                <a:cubicBezTo>
                  <a:pt x="12499" y="13397"/>
                  <a:pt x="12434" y="13370"/>
                  <a:pt x="12402" y="13320"/>
                </a:cubicBezTo>
                <a:cubicBezTo>
                  <a:pt x="12353" y="13244"/>
                  <a:pt x="12388" y="13233"/>
                  <a:pt x="12427" y="13146"/>
                </a:cubicBezTo>
              </a:path>
              <a:path w="4788" h="1067">
                <a:moveTo>
                  <a:pt x="12973" y="13072"/>
                </a:moveTo>
                <a:cubicBezTo>
                  <a:pt x="12973" y="13146"/>
                  <a:pt x="12979" y="13253"/>
                  <a:pt x="12948" y="13320"/>
                </a:cubicBezTo>
                <a:cubicBezTo>
                  <a:pt x="12925" y="13343"/>
                  <a:pt x="12917" y="13354"/>
                  <a:pt x="12923" y="13320"/>
                </a:cubicBezTo>
              </a:path>
              <a:path w="4788" h="1067">
                <a:moveTo>
                  <a:pt x="12923" y="12675"/>
                </a:moveTo>
                <a:cubicBezTo>
                  <a:pt x="12948" y="12659"/>
                  <a:pt x="12973" y="12642"/>
                  <a:pt x="12998" y="12626"/>
                </a:cubicBezTo>
              </a:path>
              <a:path w="4788" h="1067">
                <a:moveTo>
                  <a:pt x="13122" y="13146"/>
                </a:moveTo>
                <a:cubicBezTo>
                  <a:pt x="13114" y="13179"/>
                  <a:pt x="13105" y="13213"/>
                  <a:pt x="13097" y="13246"/>
                </a:cubicBezTo>
                <a:cubicBezTo>
                  <a:pt x="13105" y="13183"/>
                  <a:pt x="13112" y="13103"/>
                  <a:pt x="13146" y="13047"/>
                </a:cubicBezTo>
                <a:cubicBezTo>
                  <a:pt x="13194" y="12969"/>
                  <a:pt x="13221" y="12893"/>
                  <a:pt x="13320" y="12874"/>
                </a:cubicBezTo>
                <a:cubicBezTo>
                  <a:pt x="13377" y="12863"/>
                  <a:pt x="13438" y="12900"/>
                  <a:pt x="13469" y="12948"/>
                </a:cubicBezTo>
                <a:cubicBezTo>
                  <a:pt x="13524" y="13033"/>
                  <a:pt x="13539" y="13097"/>
                  <a:pt x="13543" y="13196"/>
                </a:cubicBezTo>
                <a:cubicBezTo>
                  <a:pt x="13545" y="13235"/>
                  <a:pt x="13521" y="13350"/>
                  <a:pt x="13494" y="13295"/>
                </a:cubicBezTo>
              </a:path>
              <a:path w="4788" h="1067">
                <a:moveTo>
                  <a:pt x="13618" y="12700"/>
                </a:moveTo>
                <a:cubicBezTo>
                  <a:pt x="13651" y="12641"/>
                  <a:pt x="13680" y="12614"/>
                  <a:pt x="13742" y="12601"/>
                </a:cubicBezTo>
                <a:cubicBezTo>
                  <a:pt x="13816" y="12586"/>
                  <a:pt x="13868" y="12628"/>
                  <a:pt x="13915" y="12675"/>
                </a:cubicBezTo>
                <a:cubicBezTo>
                  <a:pt x="13960" y="12721"/>
                  <a:pt x="13947" y="12796"/>
                  <a:pt x="13915" y="12849"/>
                </a:cubicBezTo>
                <a:cubicBezTo>
                  <a:pt x="13878" y="12910"/>
                  <a:pt x="13819" y="12956"/>
                  <a:pt x="13791" y="13022"/>
                </a:cubicBezTo>
                <a:cubicBezTo>
                  <a:pt x="13768" y="13076"/>
                  <a:pt x="13718" y="13158"/>
                  <a:pt x="13742" y="13221"/>
                </a:cubicBezTo>
                <a:cubicBezTo>
                  <a:pt x="13768" y="13288"/>
                  <a:pt x="13839" y="13336"/>
                  <a:pt x="13915" y="13320"/>
                </a:cubicBezTo>
                <a:cubicBezTo>
                  <a:pt x="13932" y="13312"/>
                  <a:pt x="13948" y="13303"/>
                  <a:pt x="13965" y="13295"/>
                </a:cubicBezTo>
              </a:path>
              <a:path w="4788" h="1067">
                <a:moveTo>
                  <a:pt x="14163" y="12675"/>
                </a:moveTo>
                <a:cubicBezTo>
                  <a:pt x="14163" y="12757"/>
                  <a:pt x="14155" y="12823"/>
                  <a:pt x="14188" y="12898"/>
                </a:cubicBezTo>
                <a:cubicBezTo>
                  <a:pt x="14218" y="12965"/>
                  <a:pt x="14231" y="12982"/>
                  <a:pt x="14288" y="13022"/>
                </a:cubicBezTo>
              </a:path>
              <a:path w="4788" h="1067">
                <a:moveTo>
                  <a:pt x="14412" y="12650"/>
                </a:moveTo>
                <a:cubicBezTo>
                  <a:pt x="14412" y="12737"/>
                  <a:pt x="14390" y="12811"/>
                  <a:pt x="14387" y="12898"/>
                </a:cubicBezTo>
                <a:cubicBezTo>
                  <a:pt x="14383" y="13015"/>
                  <a:pt x="14369" y="13426"/>
                  <a:pt x="14412" y="13370"/>
                </a:cubicBezTo>
              </a:path>
              <a:path w="4788" h="1067">
                <a:moveTo>
                  <a:pt x="14635" y="12601"/>
                </a:moveTo>
                <a:cubicBezTo>
                  <a:pt x="14610" y="12626"/>
                  <a:pt x="14602" y="12634"/>
                  <a:pt x="14585" y="12650"/>
                </a:cubicBezTo>
                <a:cubicBezTo>
                  <a:pt x="14631" y="12696"/>
                  <a:pt x="14652" y="12721"/>
                  <a:pt x="14709" y="12675"/>
                </a:cubicBezTo>
                <a:cubicBezTo>
                  <a:pt x="14762" y="12633"/>
                  <a:pt x="14732" y="12570"/>
                  <a:pt x="14709" y="12526"/>
                </a:cubicBezTo>
                <a:cubicBezTo>
                  <a:pt x="14671" y="12449"/>
                  <a:pt x="14672" y="12434"/>
                  <a:pt x="14635" y="12402"/>
                </a:cubicBezTo>
              </a:path>
              <a:path w="4788" h="1067">
                <a:moveTo>
                  <a:pt x="14908" y="13047"/>
                </a:moveTo>
                <a:cubicBezTo>
                  <a:pt x="15040" y="13070"/>
                  <a:pt x="15082" y="13058"/>
                  <a:pt x="15205" y="13047"/>
                </a:cubicBezTo>
              </a:path>
              <a:path w="4788" h="1067">
                <a:moveTo>
                  <a:pt x="14957" y="13196"/>
                </a:moveTo>
                <a:cubicBezTo>
                  <a:pt x="15028" y="13251"/>
                  <a:pt x="15088" y="13290"/>
                  <a:pt x="15180" y="13295"/>
                </a:cubicBezTo>
                <a:cubicBezTo>
                  <a:pt x="15197" y="13295"/>
                  <a:pt x="15213" y="13295"/>
                  <a:pt x="15230" y="13295"/>
                </a:cubicBezTo>
              </a:path>
              <a:path w="4788" h="1067">
                <a:moveTo>
                  <a:pt x="15503" y="12551"/>
                </a:moveTo>
                <a:cubicBezTo>
                  <a:pt x="15559" y="12523"/>
                  <a:pt x="15633" y="12506"/>
                  <a:pt x="15701" y="12502"/>
                </a:cubicBezTo>
                <a:cubicBezTo>
                  <a:pt x="15756" y="12499"/>
                  <a:pt x="15973" y="12468"/>
                  <a:pt x="15999" y="12526"/>
                </a:cubicBezTo>
                <a:cubicBezTo>
                  <a:pt x="16029" y="12593"/>
                  <a:pt x="15957" y="12687"/>
                  <a:pt x="15949" y="12750"/>
                </a:cubicBezTo>
                <a:cubicBezTo>
                  <a:pt x="15937" y="12843"/>
                  <a:pt x="15913" y="12929"/>
                  <a:pt x="15900" y="13022"/>
                </a:cubicBezTo>
                <a:cubicBezTo>
                  <a:pt x="15889" y="13106"/>
                  <a:pt x="15888" y="13191"/>
                  <a:pt x="15875" y="13271"/>
                </a:cubicBezTo>
                <a:cubicBezTo>
                  <a:pt x="15863" y="13346"/>
                  <a:pt x="15859" y="13370"/>
                  <a:pt x="15900" y="13370"/>
                </a:cubicBezTo>
              </a:path>
              <a:path w="4788" h="1067">
                <a:moveTo>
                  <a:pt x="16470" y="12750"/>
                </a:moveTo>
                <a:cubicBezTo>
                  <a:pt x="16401" y="12731"/>
                  <a:pt x="16367" y="12725"/>
                  <a:pt x="16297" y="12725"/>
                </a:cubicBezTo>
                <a:cubicBezTo>
                  <a:pt x="16274" y="12792"/>
                  <a:pt x="16246" y="12864"/>
                  <a:pt x="16297" y="12923"/>
                </a:cubicBezTo>
                <a:cubicBezTo>
                  <a:pt x="16356" y="12992"/>
                  <a:pt x="16434" y="13063"/>
                  <a:pt x="16470" y="13146"/>
                </a:cubicBezTo>
                <a:cubicBezTo>
                  <a:pt x="16490" y="13193"/>
                  <a:pt x="16551" y="13314"/>
                  <a:pt x="16520" y="13370"/>
                </a:cubicBezTo>
                <a:cubicBezTo>
                  <a:pt x="16457" y="13481"/>
                  <a:pt x="16381" y="13390"/>
                  <a:pt x="16321" y="13345"/>
                </a:cubicBezTo>
                <a:cubicBezTo>
                  <a:pt x="16234" y="13281"/>
                  <a:pt x="16222" y="13244"/>
                  <a:pt x="16247" y="131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Ink 24"/>
          <p:cNvSpPr/>
          <p:nvPr/>
        </p:nvSpPr>
        <p:spPr>
          <a:xfrm>
            <a:off x="6054840" y="4464000"/>
            <a:ext cx="768240" cy="366840"/>
          </a:xfrm>
          <a:custGeom>
            <a:avLst/>
            <a:gdLst/>
            <a:ahLst/>
            <a:rect l="l" t="t" r="r" b="b"/>
            <a:pathLst>
              <a:path w="2134" h="1018">
                <a:moveTo>
                  <a:pt x="16818" y="13047"/>
                </a:moveTo>
                <a:cubicBezTo>
                  <a:pt x="16818" y="13084"/>
                  <a:pt x="16818" y="13415"/>
                  <a:pt x="16818" y="13295"/>
                </a:cubicBezTo>
              </a:path>
              <a:path w="2134" h="1018">
                <a:moveTo>
                  <a:pt x="16818" y="12650"/>
                </a:moveTo>
                <a:cubicBezTo>
                  <a:pt x="16834" y="12634"/>
                  <a:pt x="16851" y="12617"/>
                  <a:pt x="16867" y="12601"/>
                </a:cubicBezTo>
              </a:path>
              <a:path w="2134" h="1018">
                <a:moveTo>
                  <a:pt x="16991" y="13146"/>
                </a:moveTo>
                <a:cubicBezTo>
                  <a:pt x="16991" y="13241"/>
                  <a:pt x="17013" y="13262"/>
                  <a:pt x="16966" y="13295"/>
                </a:cubicBezTo>
                <a:cubicBezTo>
                  <a:pt x="16966" y="13234"/>
                  <a:pt x="16966" y="13150"/>
                  <a:pt x="16991" y="13097"/>
                </a:cubicBezTo>
                <a:cubicBezTo>
                  <a:pt x="17018" y="13041"/>
                  <a:pt x="17048" y="12941"/>
                  <a:pt x="17115" y="12923"/>
                </a:cubicBezTo>
                <a:cubicBezTo>
                  <a:pt x="17226" y="12893"/>
                  <a:pt x="17316" y="12988"/>
                  <a:pt x="17363" y="13072"/>
                </a:cubicBezTo>
                <a:cubicBezTo>
                  <a:pt x="17398" y="13135"/>
                  <a:pt x="17409" y="13223"/>
                  <a:pt x="17413" y="13295"/>
                </a:cubicBezTo>
                <a:cubicBezTo>
                  <a:pt x="17415" y="13330"/>
                  <a:pt x="17412" y="13393"/>
                  <a:pt x="17388" y="13345"/>
                </a:cubicBezTo>
              </a:path>
              <a:path w="2134" h="1018">
                <a:moveTo>
                  <a:pt x="17636" y="12626"/>
                </a:moveTo>
                <a:cubicBezTo>
                  <a:pt x="17636" y="12779"/>
                  <a:pt x="17631" y="12923"/>
                  <a:pt x="17611" y="13072"/>
                </a:cubicBezTo>
                <a:cubicBezTo>
                  <a:pt x="17603" y="13128"/>
                  <a:pt x="17611" y="13189"/>
                  <a:pt x="17611" y="13246"/>
                </a:cubicBezTo>
              </a:path>
              <a:path w="2134" h="1018">
                <a:moveTo>
                  <a:pt x="17859" y="12725"/>
                </a:moveTo>
                <a:cubicBezTo>
                  <a:pt x="17829" y="12825"/>
                  <a:pt x="17795" y="12877"/>
                  <a:pt x="17859" y="12973"/>
                </a:cubicBezTo>
                <a:cubicBezTo>
                  <a:pt x="17899" y="13033"/>
                  <a:pt x="17945" y="13063"/>
                  <a:pt x="18008" y="13072"/>
                </a:cubicBezTo>
              </a:path>
              <a:path w="2134" h="1018">
                <a:moveTo>
                  <a:pt x="18157" y="12650"/>
                </a:moveTo>
                <a:cubicBezTo>
                  <a:pt x="18157" y="12513"/>
                  <a:pt x="18137" y="12778"/>
                  <a:pt x="18132" y="12799"/>
                </a:cubicBezTo>
                <a:cubicBezTo>
                  <a:pt x="18107" y="12908"/>
                  <a:pt x="18070" y="13011"/>
                  <a:pt x="18058" y="13122"/>
                </a:cubicBezTo>
                <a:cubicBezTo>
                  <a:pt x="18054" y="13156"/>
                  <a:pt x="18016" y="13402"/>
                  <a:pt x="18033" y="13419"/>
                </a:cubicBezTo>
                <a:cubicBezTo>
                  <a:pt x="18041" y="13403"/>
                  <a:pt x="18050" y="13386"/>
                  <a:pt x="18058" y="13370"/>
                </a:cubicBezTo>
              </a:path>
              <a:path w="2134" h="1018">
                <a:moveTo>
                  <a:pt x="18355" y="12576"/>
                </a:moveTo>
                <a:cubicBezTo>
                  <a:pt x="18345" y="12656"/>
                  <a:pt x="18308" y="12721"/>
                  <a:pt x="18281" y="12799"/>
                </a:cubicBezTo>
                <a:cubicBezTo>
                  <a:pt x="18257" y="12869"/>
                  <a:pt x="18211" y="12999"/>
                  <a:pt x="18231" y="13072"/>
                </a:cubicBezTo>
                <a:cubicBezTo>
                  <a:pt x="18247" y="13131"/>
                  <a:pt x="18296" y="13257"/>
                  <a:pt x="18355" y="13295"/>
                </a:cubicBezTo>
                <a:cubicBezTo>
                  <a:pt x="18434" y="13345"/>
                  <a:pt x="18515" y="13330"/>
                  <a:pt x="18554" y="13246"/>
                </a:cubicBezTo>
                <a:cubicBezTo>
                  <a:pt x="18588" y="13172"/>
                  <a:pt x="18579" y="13100"/>
                  <a:pt x="18579" y="13022"/>
                </a:cubicBezTo>
                <a:cubicBezTo>
                  <a:pt x="18533" y="13055"/>
                  <a:pt x="18463" y="13102"/>
                  <a:pt x="18479" y="13171"/>
                </a:cubicBezTo>
                <a:cubicBezTo>
                  <a:pt x="18499" y="13212"/>
                  <a:pt x="18497" y="13228"/>
                  <a:pt x="18529" y="13221"/>
                </a:cubicBezTo>
              </a:path>
              <a:path w="2134" h="1018">
                <a:moveTo>
                  <a:pt x="18802" y="12452"/>
                </a:moveTo>
                <a:cubicBezTo>
                  <a:pt x="18716" y="12501"/>
                  <a:pt x="18718" y="12493"/>
                  <a:pt x="18728" y="12576"/>
                </a:cubicBezTo>
                <a:cubicBezTo>
                  <a:pt x="18735" y="12632"/>
                  <a:pt x="18810" y="12691"/>
                  <a:pt x="18876" y="12675"/>
                </a:cubicBezTo>
                <a:cubicBezTo>
                  <a:pt x="18947" y="12658"/>
                  <a:pt x="18985" y="12585"/>
                  <a:pt x="18926" y="12526"/>
                </a:cubicBezTo>
                <a:cubicBezTo>
                  <a:pt x="18858" y="12458"/>
                  <a:pt x="18786" y="12439"/>
                  <a:pt x="18703" y="124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Ink 25"/>
          <p:cNvSpPr/>
          <p:nvPr/>
        </p:nvSpPr>
        <p:spPr>
          <a:xfrm>
            <a:off x="4473720" y="4554360"/>
            <a:ext cx="795240" cy="562320"/>
          </a:xfrm>
          <a:custGeom>
            <a:avLst/>
            <a:gdLst/>
            <a:ahLst/>
            <a:rect l="l" t="t" r="r" b="b"/>
            <a:pathLst>
              <a:path w="2209" h="1564">
                <a:moveTo>
                  <a:pt x="12551" y="13072"/>
                </a:moveTo>
                <a:cubicBezTo>
                  <a:pt x="12652" y="13061"/>
                  <a:pt x="12750" y="13046"/>
                  <a:pt x="12849" y="13022"/>
                </a:cubicBezTo>
                <a:cubicBezTo>
                  <a:pt x="12995" y="12987"/>
                  <a:pt x="13125" y="12915"/>
                  <a:pt x="13271" y="12874"/>
                </a:cubicBezTo>
                <a:cubicBezTo>
                  <a:pt x="13509" y="12808"/>
                  <a:pt x="13724" y="12745"/>
                  <a:pt x="13965" y="12700"/>
                </a:cubicBezTo>
                <a:cubicBezTo>
                  <a:pt x="14119" y="12671"/>
                  <a:pt x="14279" y="12654"/>
                  <a:pt x="14436" y="12650"/>
                </a:cubicBezTo>
                <a:cubicBezTo>
                  <a:pt x="14525" y="12648"/>
                  <a:pt x="14559" y="12646"/>
                  <a:pt x="14635" y="12675"/>
                </a:cubicBezTo>
              </a:path>
              <a:path w="2209" h="1564">
                <a:moveTo>
                  <a:pt x="12452" y="14188"/>
                </a:moveTo>
                <a:cubicBezTo>
                  <a:pt x="12436" y="14235"/>
                  <a:pt x="12555" y="14203"/>
                  <a:pt x="12626" y="14188"/>
                </a:cubicBezTo>
                <a:cubicBezTo>
                  <a:pt x="12768" y="14158"/>
                  <a:pt x="12903" y="14137"/>
                  <a:pt x="13047" y="14114"/>
                </a:cubicBezTo>
                <a:cubicBezTo>
                  <a:pt x="13230" y="14085"/>
                  <a:pt x="13412" y="14071"/>
                  <a:pt x="13593" y="14039"/>
                </a:cubicBezTo>
                <a:cubicBezTo>
                  <a:pt x="13763" y="14009"/>
                  <a:pt x="13950" y="14000"/>
                  <a:pt x="14114" y="13940"/>
                </a:cubicBezTo>
                <a:cubicBezTo>
                  <a:pt x="14144" y="13929"/>
                  <a:pt x="14228" y="13876"/>
                  <a:pt x="14238" y="13841"/>
                </a:cubicBezTo>
                <a:cubicBezTo>
                  <a:pt x="14238" y="13799"/>
                  <a:pt x="14246" y="13783"/>
                  <a:pt x="14213" y="137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Ink 26"/>
          <p:cNvSpPr/>
          <p:nvPr/>
        </p:nvSpPr>
        <p:spPr>
          <a:xfrm>
            <a:off x="4089240" y="4840200"/>
            <a:ext cx="2724480" cy="384120"/>
          </a:xfrm>
          <a:custGeom>
            <a:avLst/>
            <a:gdLst/>
            <a:ahLst/>
            <a:rect l="l" t="t" r="r" b="b"/>
            <a:pathLst>
              <a:path w="7566" h="1068">
                <a:moveTo>
                  <a:pt x="11361" y="13494"/>
                </a:moveTo>
                <a:cubicBezTo>
                  <a:pt x="11530" y="13494"/>
                  <a:pt x="11689" y="13480"/>
                  <a:pt x="11857" y="13469"/>
                </a:cubicBezTo>
                <a:cubicBezTo>
                  <a:pt x="12025" y="13458"/>
                  <a:pt x="12186" y="13490"/>
                  <a:pt x="12353" y="13494"/>
                </a:cubicBezTo>
                <a:cubicBezTo>
                  <a:pt x="12568" y="13499"/>
                  <a:pt x="12785" y="13516"/>
                  <a:pt x="12998" y="13543"/>
                </a:cubicBezTo>
                <a:cubicBezTo>
                  <a:pt x="13204" y="13569"/>
                  <a:pt x="13411" y="13591"/>
                  <a:pt x="13618" y="13593"/>
                </a:cubicBezTo>
                <a:cubicBezTo>
                  <a:pt x="13846" y="13596"/>
                  <a:pt x="14067" y="13598"/>
                  <a:pt x="14288" y="13568"/>
                </a:cubicBezTo>
                <a:cubicBezTo>
                  <a:pt x="14330" y="13562"/>
                  <a:pt x="14501" y="13498"/>
                  <a:pt x="14337" y="13568"/>
                </a:cubicBezTo>
              </a:path>
              <a:path w="7566" h="1068">
                <a:moveTo>
                  <a:pt x="12750" y="13841"/>
                </a:moveTo>
                <a:cubicBezTo>
                  <a:pt x="12655" y="13824"/>
                  <a:pt x="12540" y="13770"/>
                  <a:pt x="12526" y="13891"/>
                </a:cubicBezTo>
                <a:cubicBezTo>
                  <a:pt x="12517" y="13963"/>
                  <a:pt x="12570" y="14005"/>
                  <a:pt x="12601" y="14064"/>
                </a:cubicBezTo>
                <a:cubicBezTo>
                  <a:pt x="12637" y="14131"/>
                  <a:pt x="12684" y="14215"/>
                  <a:pt x="12700" y="14288"/>
                </a:cubicBezTo>
                <a:cubicBezTo>
                  <a:pt x="12714" y="14353"/>
                  <a:pt x="12745" y="14451"/>
                  <a:pt x="12650" y="14486"/>
                </a:cubicBezTo>
                <a:cubicBezTo>
                  <a:pt x="12592" y="14507"/>
                  <a:pt x="12489" y="14488"/>
                  <a:pt x="12452" y="14436"/>
                </a:cubicBezTo>
                <a:cubicBezTo>
                  <a:pt x="12409" y="14376"/>
                  <a:pt x="12429" y="14348"/>
                  <a:pt x="12452" y="14288"/>
                </a:cubicBezTo>
              </a:path>
              <a:path w="7566" h="1068">
                <a:moveTo>
                  <a:pt x="13022" y="14089"/>
                </a:moveTo>
                <a:cubicBezTo>
                  <a:pt x="13005" y="14173"/>
                  <a:pt x="12967" y="14241"/>
                  <a:pt x="12948" y="14312"/>
                </a:cubicBezTo>
                <a:cubicBezTo>
                  <a:pt x="12948" y="14354"/>
                  <a:pt x="12956" y="14370"/>
                  <a:pt x="12923" y="14362"/>
                </a:cubicBezTo>
              </a:path>
              <a:path w="7566" h="1068">
                <a:moveTo>
                  <a:pt x="13072" y="13667"/>
                </a:moveTo>
                <a:cubicBezTo>
                  <a:pt x="13089" y="13667"/>
                  <a:pt x="13105" y="13667"/>
                  <a:pt x="13122" y="13667"/>
                </a:cubicBezTo>
              </a:path>
              <a:path w="7566" h="1068">
                <a:moveTo>
                  <a:pt x="13146" y="14238"/>
                </a:moveTo>
                <a:cubicBezTo>
                  <a:pt x="13138" y="14255"/>
                  <a:pt x="13130" y="14271"/>
                  <a:pt x="13122" y="14288"/>
                </a:cubicBezTo>
                <a:cubicBezTo>
                  <a:pt x="13143" y="14230"/>
                  <a:pt x="13182" y="14172"/>
                  <a:pt x="13196" y="14114"/>
                </a:cubicBezTo>
                <a:cubicBezTo>
                  <a:pt x="13207" y="14068"/>
                  <a:pt x="13217" y="13994"/>
                  <a:pt x="13271" y="13965"/>
                </a:cubicBezTo>
                <a:cubicBezTo>
                  <a:pt x="13393" y="13900"/>
                  <a:pt x="13414" y="13991"/>
                  <a:pt x="13419" y="14089"/>
                </a:cubicBezTo>
                <a:cubicBezTo>
                  <a:pt x="13423" y="14180"/>
                  <a:pt x="13419" y="14271"/>
                  <a:pt x="13419" y="14362"/>
                </a:cubicBezTo>
              </a:path>
              <a:path w="7566" h="1068">
                <a:moveTo>
                  <a:pt x="13643" y="13841"/>
                </a:moveTo>
                <a:cubicBezTo>
                  <a:pt x="13739" y="13841"/>
                  <a:pt x="13789" y="13831"/>
                  <a:pt x="13816" y="13940"/>
                </a:cubicBezTo>
                <a:cubicBezTo>
                  <a:pt x="13831" y="14001"/>
                  <a:pt x="13770" y="14043"/>
                  <a:pt x="13742" y="14089"/>
                </a:cubicBezTo>
                <a:cubicBezTo>
                  <a:pt x="13701" y="14158"/>
                  <a:pt x="13643" y="14226"/>
                  <a:pt x="13667" y="14312"/>
                </a:cubicBezTo>
                <a:cubicBezTo>
                  <a:pt x="13692" y="14402"/>
                  <a:pt x="13745" y="14405"/>
                  <a:pt x="13816" y="14387"/>
                </a:cubicBezTo>
              </a:path>
              <a:path w="7566" h="1068">
                <a:moveTo>
                  <a:pt x="13915" y="13866"/>
                </a:moveTo>
                <a:cubicBezTo>
                  <a:pt x="13885" y="13980"/>
                  <a:pt x="13879" y="13992"/>
                  <a:pt x="13965" y="14064"/>
                </a:cubicBezTo>
                <a:cubicBezTo>
                  <a:pt x="13990" y="14089"/>
                  <a:pt x="13998" y="14097"/>
                  <a:pt x="14015" y="14114"/>
                </a:cubicBezTo>
              </a:path>
              <a:path w="7566" h="1068">
                <a:moveTo>
                  <a:pt x="14163" y="13965"/>
                </a:moveTo>
                <a:cubicBezTo>
                  <a:pt x="14163" y="13899"/>
                  <a:pt x="14163" y="13882"/>
                  <a:pt x="14163" y="13841"/>
                </a:cubicBezTo>
                <a:cubicBezTo>
                  <a:pt x="14155" y="13929"/>
                  <a:pt x="14124" y="14002"/>
                  <a:pt x="14114" y="14089"/>
                </a:cubicBezTo>
                <a:cubicBezTo>
                  <a:pt x="14104" y="14175"/>
                  <a:pt x="14089" y="14248"/>
                  <a:pt x="14089" y="14337"/>
                </a:cubicBezTo>
                <a:cubicBezTo>
                  <a:pt x="14089" y="14394"/>
                  <a:pt x="14078" y="14413"/>
                  <a:pt x="14114" y="14436"/>
                </a:cubicBezTo>
              </a:path>
              <a:path w="7566" h="1068">
                <a:moveTo>
                  <a:pt x="14288" y="13915"/>
                </a:moveTo>
                <a:cubicBezTo>
                  <a:pt x="14315" y="13938"/>
                  <a:pt x="14471" y="14068"/>
                  <a:pt x="14436" y="13915"/>
                </a:cubicBezTo>
                <a:cubicBezTo>
                  <a:pt x="14428" y="13899"/>
                  <a:pt x="14420" y="13882"/>
                  <a:pt x="14412" y="13866"/>
                </a:cubicBezTo>
              </a:path>
              <a:path w="7566" h="1068">
                <a:moveTo>
                  <a:pt x="15627" y="13444"/>
                </a:moveTo>
                <a:cubicBezTo>
                  <a:pt x="15812" y="13444"/>
                  <a:pt x="15991" y="13457"/>
                  <a:pt x="16173" y="13469"/>
                </a:cubicBezTo>
                <a:cubicBezTo>
                  <a:pt x="16405" y="13485"/>
                  <a:pt x="16637" y="13512"/>
                  <a:pt x="16867" y="13543"/>
                </a:cubicBezTo>
                <a:cubicBezTo>
                  <a:pt x="17076" y="13572"/>
                  <a:pt x="17278" y="13603"/>
                  <a:pt x="17487" y="13618"/>
                </a:cubicBezTo>
                <a:cubicBezTo>
                  <a:pt x="17726" y="13635"/>
                  <a:pt x="17902" y="13638"/>
                  <a:pt x="18132" y="13618"/>
                </a:cubicBezTo>
                <a:cubicBezTo>
                  <a:pt x="18239" y="13609"/>
                  <a:pt x="18357" y="13586"/>
                  <a:pt x="18455" y="13543"/>
                </a:cubicBezTo>
                <a:cubicBezTo>
                  <a:pt x="18498" y="13522"/>
                  <a:pt x="18510" y="13518"/>
                  <a:pt x="18529" y="13494"/>
                </a:cubicBezTo>
              </a:path>
              <a:path w="7566" h="1068">
                <a:moveTo>
                  <a:pt x="17016" y="14114"/>
                </a:moveTo>
                <a:cubicBezTo>
                  <a:pt x="16970" y="14056"/>
                  <a:pt x="16958" y="14041"/>
                  <a:pt x="16892" y="14015"/>
                </a:cubicBezTo>
                <a:cubicBezTo>
                  <a:pt x="16842" y="13990"/>
                  <a:pt x="16826" y="13982"/>
                  <a:pt x="16793" y="13965"/>
                </a:cubicBezTo>
                <a:cubicBezTo>
                  <a:pt x="16770" y="14021"/>
                  <a:pt x="16813" y="14094"/>
                  <a:pt x="16842" y="14163"/>
                </a:cubicBezTo>
                <a:cubicBezTo>
                  <a:pt x="16881" y="14255"/>
                  <a:pt x="16967" y="14285"/>
                  <a:pt x="16991" y="14387"/>
                </a:cubicBezTo>
                <a:cubicBezTo>
                  <a:pt x="17020" y="14508"/>
                  <a:pt x="16938" y="14520"/>
                  <a:pt x="16842" y="14486"/>
                </a:cubicBezTo>
                <a:cubicBezTo>
                  <a:pt x="16782" y="14465"/>
                  <a:pt x="16737" y="14431"/>
                  <a:pt x="16694" y="14387"/>
                </a:cubicBezTo>
                <a:cubicBezTo>
                  <a:pt x="16645" y="14337"/>
                  <a:pt x="16677" y="14300"/>
                  <a:pt x="16694" y="14238"/>
                </a:cubicBezTo>
              </a:path>
              <a:path w="7566" h="1068">
                <a:moveTo>
                  <a:pt x="17190" y="14163"/>
                </a:moveTo>
                <a:cubicBezTo>
                  <a:pt x="17199" y="14264"/>
                  <a:pt x="17227" y="14399"/>
                  <a:pt x="17165" y="14461"/>
                </a:cubicBezTo>
              </a:path>
              <a:path w="7566" h="1068">
                <a:moveTo>
                  <a:pt x="17388" y="14362"/>
                </a:moveTo>
                <a:cubicBezTo>
                  <a:pt x="17363" y="14424"/>
                  <a:pt x="17345" y="14454"/>
                  <a:pt x="17314" y="14511"/>
                </a:cubicBezTo>
                <a:cubicBezTo>
                  <a:pt x="17314" y="14392"/>
                  <a:pt x="17336" y="14350"/>
                  <a:pt x="17363" y="14238"/>
                </a:cubicBezTo>
                <a:cubicBezTo>
                  <a:pt x="17379" y="14172"/>
                  <a:pt x="17388" y="14165"/>
                  <a:pt x="17438" y="14114"/>
                </a:cubicBezTo>
                <a:cubicBezTo>
                  <a:pt x="17504" y="14046"/>
                  <a:pt x="17546" y="14113"/>
                  <a:pt x="17587" y="14163"/>
                </a:cubicBezTo>
                <a:cubicBezTo>
                  <a:pt x="17646" y="14235"/>
                  <a:pt x="17615" y="14281"/>
                  <a:pt x="17636" y="14362"/>
                </a:cubicBezTo>
                <a:cubicBezTo>
                  <a:pt x="17650" y="14414"/>
                  <a:pt x="17671" y="14492"/>
                  <a:pt x="17686" y="14511"/>
                </a:cubicBezTo>
              </a:path>
              <a:path w="7566" h="1068">
                <a:moveTo>
                  <a:pt x="17810" y="13940"/>
                </a:moveTo>
                <a:cubicBezTo>
                  <a:pt x="17885" y="13906"/>
                  <a:pt x="17944" y="13875"/>
                  <a:pt x="18008" y="13965"/>
                </a:cubicBezTo>
                <a:cubicBezTo>
                  <a:pt x="18049" y="14023"/>
                  <a:pt x="18065" y="14072"/>
                  <a:pt x="18033" y="14139"/>
                </a:cubicBezTo>
                <a:cubicBezTo>
                  <a:pt x="17993" y="14224"/>
                  <a:pt x="17937" y="14274"/>
                  <a:pt x="17983" y="14387"/>
                </a:cubicBezTo>
                <a:cubicBezTo>
                  <a:pt x="18007" y="14445"/>
                  <a:pt x="18082" y="14455"/>
                  <a:pt x="18132" y="14461"/>
                </a:cubicBezTo>
              </a:path>
              <a:path w="7566" h="1068">
                <a:moveTo>
                  <a:pt x="18256" y="13990"/>
                </a:moveTo>
                <a:cubicBezTo>
                  <a:pt x="18267" y="14089"/>
                  <a:pt x="18285" y="14187"/>
                  <a:pt x="18380" y="14238"/>
                </a:cubicBezTo>
                <a:cubicBezTo>
                  <a:pt x="18388" y="14238"/>
                  <a:pt x="18397" y="14238"/>
                  <a:pt x="18405" y="14238"/>
                </a:cubicBezTo>
              </a:path>
              <a:path w="7566" h="1068">
                <a:moveTo>
                  <a:pt x="18529" y="13841"/>
                </a:moveTo>
                <a:cubicBezTo>
                  <a:pt x="18490" y="13919"/>
                  <a:pt x="18481" y="13984"/>
                  <a:pt x="18455" y="14064"/>
                </a:cubicBezTo>
                <a:cubicBezTo>
                  <a:pt x="18424" y="14159"/>
                  <a:pt x="18410" y="14263"/>
                  <a:pt x="18405" y="14362"/>
                </a:cubicBezTo>
                <a:cubicBezTo>
                  <a:pt x="18402" y="14418"/>
                  <a:pt x="18396" y="14439"/>
                  <a:pt x="18430" y="14461"/>
                </a:cubicBezTo>
              </a:path>
              <a:path w="7566" h="1068">
                <a:moveTo>
                  <a:pt x="18728" y="13940"/>
                </a:moveTo>
                <a:cubicBezTo>
                  <a:pt x="18739" y="14021"/>
                  <a:pt x="18780" y="14057"/>
                  <a:pt x="18876" y="14039"/>
                </a:cubicBezTo>
                <a:cubicBezTo>
                  <a:pt x="18964" y="14023"/>
                  <a:pt x="18926" y="13937"/>
                  <a:pt x="18901" y="13891"/>
                </a:cubicBezTo>
                <a:cubicBezTo>
                  <a:pt x="18844" y="13784"/>
                  <a:pt x="18700" y="13728"/>
                  <a:pt x="18604" y="1366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Ink 27"/>
          <p:cNvSpPr/>
          <p:nvPr/>
        </p:nvSpPr>
        <p:spPr>
          <a:xfrm>
            <a:off x="4840200" y="5384880"/>
            <a:ext cx="608040" cy="401400"/>
          </a:xfrm>
          <a:custGeom>
            <a:avLst/>
            <a:gdLst/>
            <a:ahLst/>
            <a:rect l="l" t="t" r="r" b="b"/>
            <a:pathLst>
              <a:path w="1688" h="1117">
                <a:moveTo>
                  <a:pt x="13469" y="15404"/>
                </a:moveTo>
                <a:cubicBezTo>
                  <a:pt x="13458" y="15586"/>
                  <a:pt x="13432" y="15732"/>
                  <a:pt x="13519" y="15900"/>
                </a:cubicBezTo>
                <a:cubicBezTo>
                  <a:pt x="13543" y="15925"/>
                  <a:pt x="13551" y="15933"/>
                  <a:pt x="13568" y="15949"/>
                </a:cubicBezTo>
                <a:cubicBezTo>
                  <a:pt x="13645" y="15874"/>
                  <a:pt x="13597" y="15828"/>
                  <a:pt x="13618" y="15726"/>
                </a:cubicBezTo>
                <a:cubicBezTo>
                  <a:pt x="13630" y="15666"/>
                  <a:pt x="13702" y="15616"/>
                  <a:pt x="13742" y="15577"/>
                </a:cubicBezTo>
                <a:cubicBezTo>
                  <a:pt x="13750" y="15569"/>
                  <a:pt x="13759" y="15561"/>
                  <a:pt x="13767" y="15553"/>
                </a:cubicBezTo>
                <a:cubicBezTo>
                  <a:pt x="13859" y="15645"/>
                  <a:pt x="13919" y="15687"/>
                  <a:pt x="13940" y="15825"/>
                </a:cubicBezTo>
                <a:cubicBezTo>
                  <a:pt x="13948" y="15877"/>
                  <a:pt x="13955" y="15984"/>
                  <a:pt x="13915" y="16024"/>
                </a:cubicBezTo>
                <a:cubicBezTo>
                  <a:pt x="13860" y="16080"/>
                  <a:pt x="13737" y="16088"/>
                  <a:pt x="13667" y="16073"/>
                </a:cubicBezTo>
                <a:cubicBezTo>
                  <a:pt x="13605" y="16059"/>
                  <a:pt x="13570" y="16000"/>
                  <a:pt x="13543" y="15949"/>
                </a:cubicBezTo>
                <a:cubicBezTo>
                  <a:pt x="13523" y="15909"/>
                  <a:pt x="13515" y="15902"/>
                  <a:pt x="13519" y="15875"/>
                </a:cubicBezTo>
              </a:path>
              <a:path w="1688" h="1117">
                <a:moveTo>
                  <a:pt x="13568" y="14982"/>
                </a:moveTo>
                <a:cubicBezTo>
                  <a:pt x="13568" y="15072"/>
                  <a:pt x="13546" y="15143"/>
                  <a:pt x="13543" y="15230"/>
                </a:cubicBezTo>
                <a:cubicBezTo>
                  <a:pt x="13539" y="15332"/>
                  <a:pt x="13519" y="15424"/>
                  <a:pt x="13519" y="15528"/>
                </a:cubicBezTo>
                <a:cubicBezTo>
                  <a:pt x="13519" y="15544"/>
                  <a:pt x="13519" y="15561"/>
                  <a:pt x="13519" y="15577"/>
                </a:cubicBezTo>
              </a:path>
              <a:path w="1688" h="1117">
                <a:moveTo>
                  <a:pt x="14114" y="15528"/>
                </a:moveTo>
                <a:cubicBezTo>
                  <a:pt x="14230" y="15528"/>
                  <a:pt x="14345" y="15528"/>
                  <a:pt x="14461" y="15528"/>
                </a:cubicBezTo>
              </a:path>
              <a:path w="1688" h="1117">
                <a:moveTo>
                  <a:pt x="14213" y="15701"/>
                </a:moveTo>
                <a:cubicBezTo>
                  <a:pt x="14333" y="15805"/>
                  <a:pt x="14286" y="15801"/>
                  <a:pt x="14412" y="15801"/>
                </a:cubicBezTo>
              </a:path>
              <a:path w="1688" h="1117">
                <a:moveTo>
                  <a:pt x="15032" y="15180"/>
                </a:moveTo>
                <a:cubicBezTo>
                  <a:pt x="15065" y="15114"/>
                  <a:pt x="15130" y="14996"/>
                  <a:pt x="15007" y="14957"/>
                </a:cubicBezTo>
                <a:cubicBezTo>
                  <a:pt x="14935" y="14934"/>
                  <a:pt x="14793" y="15020"/>
                  <a:pt x="14759" y="15081"/>
                </a:cubicBezTo>
                <a:cubicBezTo>
                  <a:pt x="14729" y="15136"/>
                  <a:pt x="14734" y="15241"/>
                  <a:pt x="14734" y="15304"/>
                </a:cubicBezTo>
                <a:cubicBezTo>
                  <a:pt x="14734" y="15380"/>
                  <a:pt x="14732" y="15419"/>
                  <a:pt x="14784" y="15478"/>
                </a:cubicBezTo>
                <a:cubicBezTo>
                  <a:pt x="14830" y="15531"/>
                  <a:pt x="14883" y="15535"/>
                  <a:pt x="14932" y="15478"/>
                </a:cubicBezTo>
                <a:cubicBezTo>
                  <a:pt x="14976" y="15427"/>
                  <a:pt x="14956" y="15356"/>
                  <a:pt x="14982" y="15304"/>
                </a:cubicBezTo>
                <a:cubicBezTo>
                  <a:pt x="15012" y="15275"/>
                  <a:pt x="15024" y="15261"/>
                  <a:pt x="15032" y="15230"/>
                </a:cubicBezTo>
                <a:cubicBezTo>
                  <a:pt x="15023" y="15294"/>
                  <a:pt x="15005" y="15339"/>
                  <a:pt x="14982" y="15404"/>
                </a:cubicBezTo>
                <a:cubicBezTo>
                  <a:pt x="14944" y="15513"/>
                  <a:pt x="14920" y="15638"/>
                  <a:pt x="14908" y="15751"/>
                </a:cubicBezTo>
                <a:cubicBezTo>
                  <a:pt x="14900" y="15823"/>
                  <a:pt x="14908" y="15901"/>
                  <a:pt x="14908" y="15974"/>
                </a:cubicBezTo>
              </a:path>
              <a:path w="1688" h="1117">
                <a:moveTo>
                  <a:pt x="15106" y="15949"/>
                </a:moveTo>
                <a:cubicBezTo>
                  <a:pt x="15114" y="15941"/>
                  <a:pt x="15123" y="15933"/>
                  <a:pt x="15131" y="159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Ink 28"/>
          <p:cNvSpPr/>
          <p:nvPr/>
        </p:nvSpPr>
        <p:spPr>
          <a:xfrm>
            <a:off x="5554800" y="5429160"/>
            <a:ext cx="115920" cy="339840"/>
          </a:xfrm>
          <a:custGeom>
            <a:avLst/>
            <a:gdLst/>
            <a:ahLst/>
            <a:rect l="l" t="t" r="r" b="b"/>
            <a:pathLst>
              <a:path w="323" h="944">
                <a:moveTo>
                  <a:pt x="15652" y="15081"/>
                </a:moveTo>
                <a:cubicBezTo>
                  <a:pt x="15631" y="15163"/>
                  <a:pt x="15571" y="15222"/>
                  <a:pt x="15528" y="15304"/>
                </a:cubicBezTo>
                <a:cubicBezTo>
                  <a:pt x="15484" y="15387"/>
                  <a:pt x="15481" y="15469"/>
                  <a:pt x="15453" y="15553"/>
                </a:cubicBezTo>
                <a:cubicBezTo>
                  <a:pt x="15424" y="15641"/>
                  <a:pt x="15426" y="15738"/>
                  <a:pt x="15453" y="15825"/>
                </a:cubicBezTo>
                <a:cubicBezTo>
                  <a:pt x="15480" y="15913"/>
                  <a:pt x="15521" y="16040"/>
                  <a:pt x="15627" y="16024"/>
                </a:cubicBezTo>
                <a:cubicBezTo>
                  <a:pt x="15711" y="16011"/>
                  <a:pt x="15760" y="15864"/>
                  <a:pt x="15751" y="15801"/>
                </a:cubicBezTo>
                <a:cubicBezTo>
                  <a:pt x="15721" y="15771"/>
                  <a:pt x="15710" y="15757"/>
                  <a:pt x="15701" y="15726"/>
                </a:cubicBezTo>
                <a:cubicBezTo>
                  <a:pt x="15598" y="15778"/>
                  <a:pt x="15598" y="15795"/>
                  <a:pt x="15553" y="15900"/>
                </a:cubicBezTo>
                <a:cubicBezTo>
                  <a:pt x="15529" y="15948"/>
                  <a:pt x="15520" y="15962"/>
                  <a:pt x="15528" y="159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20:19:25Z</dcterms:created>
  <dc:creator>jnewman</dc:creator>
  <dc:description/>
  <dc:language>en-US</dc:language>
  <cp:lastModifiedBy>abeason</cp:lastModifiedBy>
  <dcterms:modified xsi:type="dcterms:W3CDTF">2010-01-04T15:37:41Z</dcterms:modified>
  <cp:revision>20</cp:revision>
  <dc:subject/>
  <dc:title>Monday, December 17th</dc:title>
</cp:coreProperties>
</file>